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84B-D4B2-440D-95B7-60FE484B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BD5-42BC-4385-B173-A143F198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150-CCC7-45C6-80BF-969613C9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368-9F04-408F-AD0F-089BC0B5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5057-B711-4952-AB50-58EF673C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6FB8-9C61-4B65-A311-165461A8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660C-46D6-45B3-AFD7-A43044EF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7F3A-D6E1-4AC7-8915-9F39BEB3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4CA5-0EBB-4153-9208-664DA0AD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322C-5ABD-475B-9729-7177B62D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ACD3-69BA-47D1-A9AA-65DEB27B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1AF-D300-42CB-A181-80F1D3D6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6A88-34D5-4688-A239-C582BC54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CA4E-15B8-471B-B985-19F9C276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3DA6-2489-4387-9490-ACA70DAB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40C0-70C3-499B-97DA-38FFD7B2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E497-77E1-46AB-B75D-E13A3408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506-148B-49F2-9396-58E0313B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7B3-013F-46FD-9193-C02A0BB3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A32-56D2-4BE1-A144-2F5BA685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FFD-02A4-4169-9BBC-31545F7A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ADA-56BC-4036-B131-6C0214E7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029-DD33-41BC-9179-0446A05F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551-3B19-45F1-B5CC-D46563DE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C827-0BA5-491A-9AE5-120FE2111D4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35DE-7DD3-4FF0-B3DA-1DD190A9CCF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hyperlink" Target="http://commons.wikimedia.org/wiki/File:Statue-Augustus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6f60"/>
                </a:solidFill>
                <a:latin typeface="comic"/>
              </a:rPr>
              <a:t>CULTURA ROMA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· Escultura ro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· Arquitectura ro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ÍNDICE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cultura ro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ipos de escultur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trat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· Sarcófag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rquitectura roman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ipologías arquitectónic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SCULTURA ROMA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ugusto de Prima Porta, Museos Vaticano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1557360"/>
            <a:ext cx="35290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ipos de esculturas (Retratos, bustos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Detalle de un busto, Marcus Porcius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Matrona de la dinastía Flavia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067280" y="1557360"/>
            <a:ext cx="2016000" cy="2160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5364000" y="3789360"/>
            <a:ext cx="20242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ipos de esculturas (Sarcófagos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Sarcófago dio Portonaccio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995640" y="2060640"/>
            <a:ext cx="3672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QUITECTURA ROMAN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rco de Septimio Sever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3456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ipologías arquitectónica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Puente del Aqueducto de Segob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Teatro romano de Mérida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211640" y="162864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643280" y="4005360"/>
            <a:ext cx="2481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9:05:51Z</dcterms:created>
  <dc:creator>Antonio Muñoz Cifuentes</dc:creator>
  <dc:description/>
  <dc:language>en-US</dc:language>
  <cp:lastModifiedBy>Antonio Muñoz Cifuentes</cp:lastModifiedBy>
  <dcterms:modified xsi:type="dcterms:W3CDTF">2013-11-05T18:14:55Z</dcterms:modified>
  <cp:revision>3</cp:revision>
  <dc:subject/>
  <dc:title>CULTURA ROMANA</dc:title>
</cp:coreProperties>
</file>