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C2B4-2BA8-459D-B6FD-8E22A59D3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7408-35EF-4E1C-8DD6-4B562809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588F-F150-4D5A-A064-1E0E71BFF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18CA-5F40-447B-996F-CC49CBA12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E68D-BEB7-4944-92CF-C2A3B296E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FD52-C8D9-470F-9453-40BA3519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4A9B-6DA3-41BA-95C2-398000D2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AC0D-74D5-4F48-961C-78C6ADC7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D36D-9BA6-4C6F-9FEE-3F17932F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9091-075B-4AC1-8F82-7596EC58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428C-1BA4-40E1-83BF-43D97851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F3C5-D102-47AF-AA58-8C0C9EB8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CEEB-ECFB-4323-A711-D81A8758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F1AF-072C-4209-ADB7-65F916FE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EA9E-2A7D-4995-AF72-54CEC88C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8552-2BCB-4B12-980F-52708C87E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CFC5-96C8-4B6A-BD32-A076EDBCB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A8F5-A80C-4CDE-9CD1-56615326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2B5D-7110-4E74-B2F1-D7ECA615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D69C-2A09-4A7F-A08D-8EE661B5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C4C5-065F-4203-BCD6-DC10FA13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3AE8-3827-46A7-8C1E-05301DC1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F89C-B46D-4A73-9BC6-61FC17B2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08BC-B86C-49A3-A420-276E6F8F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41CD-5CB6-4D29-ADFC-3C8CE1FEED94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C3EF-F741-4C8A-9D35-F08BD2E9589C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hyperlink" Target="http://commons.wikimedia.org/wiki/File:Statue-Augustus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6f60"/>
                </a:solidFill>
                <a:latin typeface="comic"/>
              </a:rPr>
              <a:t>CULTURA ROMAN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· Escultura roman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· Arquitectura roman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   </a:t>
            </a:r>
            <a:r>
              <a:rPr b="0" lang="en-US" sz="4800" spc="-1" strike="noStrike">
                <a:solidFill>
                  <a:srgbClr val="f7d47d"/>
                </a:solidFill>
                <a:latin typeface="Arial"/>
              </a:rPr>
              <a:t>ÍNDICE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scultura roman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ipos de escultura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·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Retrato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· Sarcófago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rquitectura romana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ipologías arquitectónica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SCULTURA ROMAN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ugusto de Prima Porta, Museos Vaticano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4032000" y="1598760"/>
            <a:ext cx="3617640" cy="44971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067280" y="1557360"/>
            <a:ext cx="35290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Tipos de esculturas (Retratos, bustos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Detalle de un busto, Marcus Porcius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Matrona de la dinastía Flavia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4032000" y="1598760"/>
            <a:ext cx="3617640" cy="44971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4067280" y="1557360"/>
            <a:ext cx="2016000" cy="21607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5364000" y="3789360"/>
            <a:ext cx="202428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Tipos de esculturas (Sarcófagos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Sarcófago dio Portonaccio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032000" y="1598760"/>
            <a:ext cx="3617640" cy="44971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3995640" y="2060640"/>
            <a:ext cx="36720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RQUITECTURA ROMANA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rco de Septimio Sever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140360" y="2637000"/>
            <a:ext cx="345600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ipologías arquitectónica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Puente del Aqueducto de Segobi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Teatro romano de Mérida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4032000" y="1598760"/>
            <a:ext cx="3617640" cy="4497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4211640" y="1628640"/>
            <a:ext cx="2305080" cy="1871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4643280" y="4005360"/>
            <a:ext cx="24814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19:05:51Z</dcterms:created>
  <dc:creator>Antonio Muñoz Cifuentes</dc:creator>
  <dc:description/>
  <dc:language>en-US</dc:language>
  <cp:lastModifiedBy>Antonio Muñoz Cifuentes</cp:lastModifiedBy>
  <dcterms:modified xsi:type="dcterms:W3CDTF">2013-11-05T18:14:55Z</dcterms:modified>
  <cp:revision>3</cp:revision>
  <dc:subject/>
  <dc:title>CULTURA ROMANA</dc:title>
</cp:coreProperties>
</file>