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203-0371-49EE-A0DA-644C6483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AAF-27A9-46B1-B855-D5B9005A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966-81AD-47B6-98FF-F5E0E225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653-7C87-446D-BB0C-80F04434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D444-03ED-4D50-8ABA-C2C96DF7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67ED-B83E-4DA6-8D83-E45C1B60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24FB-580D-4381-B991-2AB1C407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80DB-71C8-45DC-9E9A-0396EAE5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6666-EB21-4AAB-B020-F0C6C874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468D-1E16-4B9D-9BD5-E1BDF552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6025-78D8-4B95-9004-38BE91B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73A-BF0C-43C3-899F-B5B1AE7F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39A1-42EE-4FE9-9F1A-774CBCC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726B-6743-4593-B256-548B2F9B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CBE4-0E4E-446C-B965-43963F1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73F2-7A83-4750-B4D4-688E2CB9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51C8-34FC-4FE4-8625-4765D0BD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A94-BF01-4416-A5F5-30ECFBC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671-BA54-4758-B4C4-BBDAAF84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47F-EB0E-4CAD-ABBF-9C6E48B0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0C6-8D49-4970-850F-4E903FDA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C95-097F-49A0-A085-7729E80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579-6B66-4ABF-83E5-0D08A8E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AEE-E388-48A8-93AE-CDCC3C8E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B166-3041-4189-A385-ACBF58A8D88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6ABE-8C7F-4D19-ABB8-EA3B274398D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hyperlink" Target="http://commons.wikimedia.org/wiki/File:Statue-Augustus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f60"/>
                </a:solidFill>
                <a:latin typeface="comic"/>
              </a:rPr>
              <a:t>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Arquitec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ÍNDIC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s de escultur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trat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· Sarcófag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quitectura roman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logías arquitectónic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gusto de Prima Porta, Museos Vatican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1557360"/>
            <a:ext cx="3529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Retratos, bust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etalle de un busto, Marcus Porciu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Matrona de la dinastía Flavi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1557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364000" y="3789360"/>
            <a:ext cx="2024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Sarcófag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Sarcófago dio Portonaccio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367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QUITECTURA ROMA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co de Septimio Seve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345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ipologías arquitectónic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Puente del Aqueducto de Segob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Teatro romano de Mérid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11640" y="162864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2481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05:51Z</dcterms:created>
  <dc:creator>Antonio Muñoz Cifuentes</dc:creator>
  <dc:description/>
  <dc:language>en-US</dc:language>
  <cp:lastModifiedBy>Antonio Muñoz Cifuentes</cp:lastModifiedBy>
  <dcterms:modified xsi:type="dcterms:W3CDTF">2013-11-05T18:14:55Z</dcterms:modified>
  <cp:revision>3</cp:revision>
  <dc:subject/>
  <dc:title>CULTURA ROMANA</dc:title>
</cp:coreProperties>
</file>