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2C7-2BBB-4802-BB3C-DF5682F5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3F5-884A-4EE9-87AF-9AA687EF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113-DFE1-402B-ADD8-251A062F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022-E4DE-4235-9C17-888AE54A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EB24-6B75-413A-AD2D-3ADC6EE0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A59A-5293-466C-B3A5-7F82A42E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DA7A-39AC-4153-9331-02FD2650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3F17-0E57-4F88-9C12-7B919EFC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B1C9-35EB-4502-B1DD-59F8E768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C08E-369E-44C0-9147-32BC9237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7B16-B4F3-43EB-87BB-047C4305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2B5-922F-4066-83E2-3EF07847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7172-C2EC-4DDE-8B5D-0C0A77B6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FFDE-D848-4271-B6E0-6B104AB4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258F-768D-4CAA-861B-DA53E163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C0E4-D6E6-4921-8819-9E8ED7B4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5F0C-4A31-4C62-9B19-9B0BA895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847-03D7-4B91-B075-CDD84DE3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C107-5689-47B5-92B9-9440B66E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48D-2D33-4D33-B713-D6BFA7E5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405-CA17-423B-B001-F11CEF6F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73D-A748-47AD-900E-1AA22E61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603-0605-429D-9552-53B309D7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3FAE-4511-44B3-A4F2-5E79D29A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89DF-A0C7-46F6-8218-FFBD7AEEE21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19CC-2B64-4987-A9AC-9936C716870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hyperlink" Target="http://commons.wikimedia.org/wiki/File:Statue-Augustus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6f60"/>
                </a:solidFill>
                <a:latin typeface="comic"/>
              </a:rPr>
              <a:t>CULTURA ROMA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· Escultura roma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· Arquitectura roma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ÍNDICE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cultura roma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ipos de escultur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trat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· Sarcófag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rquitectura roman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ipologías arquitectónic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SCULTURA ROMA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ugusto de Prima Porta, Museos Vaticano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1557360"/>
            <a:ext cx="35290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ipos de esculturas (Retratos, bustos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Detalle de un busto, Marcus Porcius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Matrona de la dinastía Flavia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067280" y="1557360"/>
            <a:ext cx="2016000" cy="2160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5364000" y="3789360"/>
            <a:ext cx="20242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ipos de esculturas (Sarcófagos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Sarcófago dio Portonaccio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995640" y="2060640"/>
            <a:ext cx="3672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QUITECTURA ROMAN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rco de Septimio Sever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3456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ipologías arquitectónica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Puente del Aqueducto de Segob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Teatro romano de Mérida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211640" y="162864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643280" y="4005360"/>
            <a:ext cx="2481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9:05:51Z</dcterms:created>
  <dc:creator>Antonio Muñoz Cifuentes</dc:creator>
  <dc:description/>
  <dc:language>en-US</dc:language>
  <cp:lastModifiedBy>Antonio Muñoz Cifuentes</cp:lastModifiedBy>
  <dcterms:modified xsi:type="dcterms:W3CDTF">2013-11-05T18:14:55Z</dcterms:modified>
  <cp:revision>3</cp:revision>
  <dc:subject/>
  <dc:title>CULTURA ROMANA</dc:title>
</cp:coreProperties>
</file>