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A33-3F0B-46A1-A81C-83A14941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87E-69EB-454D-90D3-4820159E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EBC-3AFF-485D-B06B-67C2502D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30F-5BD4-4AE9-9DF9-089A81AD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21A4-3FA8-46FC-BCD8-8DDE565B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6C8A-49D5-449F-9953-E941C30C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4C66-1409-4DAA-9291-78096439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EDA6-8E65-4038-8D21-EE044D6D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D0B0-C341-419A-B3B2-47F2084E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D832-3DBE-42C8-AA73-2A42D803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3FAA-1F3F-471F-A8F3-53FFDB1A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B52-8491-4ED7-B70D-DE7B5E52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05AD-F9B4-4DCD-A87B-4F4A9B2F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A166-4931-4F03-83A1-379AE51E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CF1E-5F9B-405D-9B50-A27B0E28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9242-AFCE-407F-A5C4-CB9A84C0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2145-7292-4FF0-B428-29A340BA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77D-7C6B-4C38-93C5-F8CB12FB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164-65F8-45AC-A156-CC291BE4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C0E-812B-4DDA-B720-EB66149C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E4CD-D165-4413-A5FE-E8FFA302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C43-41AC-4B99-A3E1-43E65282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49B-0B82-4D47-B9BE-BD622418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D3C-999B-4DDC-B9D1-B30471D3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9C5B-3F5F-41E1-A308-9FA84466655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20B8-0E83-4117-BA7A-6BE8802A13B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hyperlink" Target="http://commons.wikimedia.org/wiki/File:Statue-Augustus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6f60"/>
                </a:solidFill>
                <a:latin typeface="comic"/>
              </a:rPr>
              <a:t>CULTURA ROMA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· Escul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· Arquitec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ÍNDICE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cultura ro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ipos de escultur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·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trat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· Sarcófag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rquitectura roman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ipologías arquitectónic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CULTURA ROMA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gusto de Prima Porta, Museos Vaticano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1557360"/>
            <a:ext cx="3529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ipos de esculturas (Retratos, bustos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Detalle de un busto, Marcus Porcius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Matrona de la dinastía Flavia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067280" y="1557360"/>
            <a:ext cx="2016000" cy="2160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5364000" y="3789360"/>
            <a:ext cx="20242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ipos de esculturas (Sarcófagos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Sarcófago dio Portonaccio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3672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QUITECTURA ROMAN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rco de Septimio Sever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3456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ipologías arquitectónica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Puente del Aqueducto de Segob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Teatro romano de Mérida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211640" y="162864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643280" y="4005360"/>
            <a:ext cx="2481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9:05:51Z</dcterms:created>
  <dc:creator>Antonio Muñoz Cifuentes</dc:creator>
  <dc:description/>
  <dc:language>en-US</dc:language>
  <cp:lastModifiedBy>Antonio Muñoz Cifuentes</cp:lastModifiedBy>
  <dcterms:modified xsi:type="dcterms:W3CDTF">2013-11-05T18:14:55Z</dcterms:modified>
  <cp:revision>3</cp:revision>
  <dc:subject/>
  <dc:title>CULTURA ROMANA</dc:title>
</cp:coreProperties>
</file>