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7.wmf" ContentType="image/x-wmf"/>
  <Override PartName="/ppt/media/image4.png" ContentType="image/png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287-3DD6-4140-B102-8F10455C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C6F-BEE8-4BB6-9D93-8554F9CD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0A6-6C0D-411E-BF92-EC16BD75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296-9B89-4494-A9EC-F83E4796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1D90-1447-4726-BF37-3DF3884B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31B3-8C8F-45EA-8E89-F2EA5C9A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9C09-1468-4EC6-A5D7-6BAB0A87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AE6A-590B-4268-90A8-EB867187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2AAF-9C7D-4D70-9F34-AEA94D04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754C-38AE-4C44-80B6-557C7234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BEAE-0499-4736-B004-2E881F69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E78-A0C3-4C14-AB68-54539DEA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0AB4-E907-4417-A616-5D4EB820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D52E-617F-4DB2-8B17-2CBD9BE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1E77-48B7-449F-A643-D6050E6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2E81-5CB9-4BE6-B18A-07F19792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CB02-A1E6-44B8-BFA3-25AEBBF0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BA8-50D3-4B4A-BB07-7BE85740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AF0-D5DC-49E0-A00A-0E591D8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58A-E22F-4354-A7A6-F255EA5D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40C-1191-4AC9-BA43-45CA2A51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83F-9E41-4F33-9232-4D5768F8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13E-115F-487F-AA63-DB52024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C26-CE7D-4B25-96FF-8AE019D9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BCE3-B472-4AFE-880E-912786D5DCC4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46B3-9A05-4B51-8B0F-24478BC4EE57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dd39f"/>
                </a:solidFill>
                <a:latin typeface="Comic Sans MS"/>
              </a:rPr>
              <a:t>MORFOLOGÍA NOMINAL</a:t>
            </a:r>
            <a:endParaRPr b="0" lang="en-US" sz="4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90720" y="330984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¿</a:t>
            </a:r>
            <a:r>
              <a:rPr b="1" lang="es-ES_tradnl" sz="3600" spc="-1" strike="noStrike" u="sng">
                <a:solidFill>
                  <a:srgbClr val="eaeaea"/>
                </a:solidFill>
                <a:uFillTx/>
                <a:latin typeface="Comic Sans MS"/>
              </a:rPr>
              <a:t>Cómo se declina un sustantivo</a:t>
            </a: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8229600" y="60958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4385"/>
                </a:moveTo>
                <a:lnTo>
                  <a:pt x="17806" y="11392"/>
                </a:lnTo>
                <a:lnTo>
                  <a:pt x="3794" y="1839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295280" y="1066680"/>
            <a:ext cx="6324840" cy="190512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df1545"/>
                </a:solidFill>
                <a:latin typeface="Comic Sans MS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. Para ello basta con mirar la terminación del </a:t>
            </a:r>
            <a:r>
              <a:rPr b="1" lang="es-ES_tradnl" sz="2400" spc="-1" strike="noStrike">
                <a:solidFill>
                  <a:srgbClr val="a50021"/>
                </a:solidFill>
                <a:latin typeface="Comic Sans MS"/>
              </a:rPr>
              <a:t>genitivo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 –segunda forma del enunciado-: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96080" y="5943600"/>
            <a:ext cx="1043280" cy="457200"/>
            <a:chOff x="7696080" y="5943600"/>
            <a:chExt cx="1043280" cy="457200"/>
          </a:xfrm>
        </p:grpSpPr>
        <p:sp>
          <p:nvSpPr>
            <p:cNvPr id="289" name="AutoShape 9">
              <a:hlinkClick r:id="" action="ppaction://hlinkshowjump?jump=nextslide"/>
            </p:cNvPr>
            <p:cNvSpPr/>
            <p:nvPr/>
          </p:nvSpPr>
          <p:spPr>
            <a:xfrm>
              <a:off x="8305920" y="5943600"/>
              <a:ext cx="433440" cy="457200"/>
            </a:xfrm>
            <a:custGeom>
              <a:avLst/>
              <a:gdLst>
                <a:gd name="textAreaLeft" fmla="*/ 28080 w 433440"/>
                <a:gd name="textAreaRight" fmla="*/ 405360 w 433440"/>
                <a:gd name="textAreaTop" fmla="*/ 28080 h 457200"/>
                <a:gd name="textAreaBottom" fmla="*/ 429120 h 457200"/>
              </a:gdLst>
              <a:ahLst/>
              <a:rect l="textAreaLeft" t="textAreaTop" r="textAreaRight" b="textAreaBottom"/>
              <a:pathLst>
                <a:path w="21600" h="22783">
                  <a:moveTo>
                    <a:pt x="0" y="0"/>
                  </a:moveTo>
                  <a:lnTo>
                    <a:pt x="21600" y="0"/>
                  </a:lnTo>
                  <a:lnTo>
                    <a:pt x="21600" y="22783"/>
                  </a:lnTo>
                  <a:lnTo>
                    <a:pt x="0" y="22783"/>
                  </a:lnTo>
                  <a:close/>
                </a:path>
                <a:path fill="lightenLess" w="21600" h="2278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783">
                  <a:moveTo>
                    <a:pt x="21600" y="0"/>
                  </a:moveTo>
                  <a:lnTo>
                    <a:pt x="21600" y="22783"/>
                  </a:lnTo>
                  <a:lnTo>
                    <a:pt x="20200" y="21383"/>
                  </a:lnTo>
                  <a:lnTo>
                    <a:pt x="20200" y="1400"/>
                  </a:lnTo>
                  <a:close/>
                </a:path>
                <a:path fill="darkenLess" w="21600" h="22783">
                  <a:moveTo>
                    <a:pt x="21600" y="22783"/>
                  </a:moveTo>
                  <a:lnTo>
                    <a:pt x="0" y="22783"/>
                  </a:lnTo>
                  <a:lnTo>
                    <a:pt x="1400" y="21383"/>
                  </a:lnTo>
                  <a:lnTo>
                    <a:pt x="20200" y="21383"/>
                  </a:lnTo>
                  <a:close/>
                </a:path>
                <a:path fill="lighten" w="21600" h="22783">
                  <a:moveTo>
                    <a:pt x="0" y="2278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383"/>
                  </a:lnTo>
                  <a:close/>
                </a:path>
                <a:path fill="darken" w="21600" h="22783">
                  <a:moveTo>
                    <a:pt x="3794" y="4385"/>
                  </a:moveTo>
                  <a:lnTo>
                    <a:pt x="17806" y="11392"/>
                  </a:lnTo>
                  <a:lnTo>
                    <a:pt x="3794" y="1839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  <p:sp>
          <p:nvSpPr>
            <p:cNvPr id="290" name="AutoShape 10">
              <a:hlinkClick r:id="" action="ppaction://hlinkshowjump?jump=previousslide"/>
            </p:cNvPr>
            <p:cNvSpPr/>
            <p:nvPr/>
          </p:nvSpPr>
          <p:spPr>
            <a:xfrm>
              <a:off x="7696080" y="5943600"/>
              <a:ext cx="457200" cy="457200"/>
            </a:xfrm>
            <a:custGeom>
              <a:avLst/>
              <a:gdLst>
                <a:gd name="textAreaLeft" fmla="*/ 29520 w 457200"/>
                <a:gd name="textAreaRight" fmla="*/ 427680 w 4572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291" name="Rectangle 12"/>
          <p:cNvSpPr/>
          <p:nvPr/>
        </p:nvSpPr>
        <p:spPr>
          <a:xfrm>
            <a:off x="1676520" y="3429000"/>
            <a:ext cx="5943600" cy="243828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Prim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ae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Segund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Terc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Cuar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u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Quin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-e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3" name="Picture 2" descr="C:\Users\AUDIOLEASK\Pictures\Imagen1.emf"/>
          <p:cNvPicPr/>
          <p:nvPr/>
        </p:nvPicPr>
        <p:blipFill>
          <a:blip r:embed="rId1"/>
          <a:stretch/>
        </p:blipFill>
        <p:spPr>
          <a:xfrm>
            <a:off x="785880" y="785880"/>
            <a:ext cx="75722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Hagamos el esquema de la declinación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Pondremos el nominativo y el genitivo del enuncia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Pondremos la raíz en el resto de casos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5373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3:30:19Z</dcterms:created>
  <dc:creator>Carlos Viloria (Modificación)</dc:creator>
  <dc:description/>
  <dc:language>en-US</dc:language>
  <cp:lastModifiedBy>AUDIOLEASK</cp:lastModifiedBy>
  <dcterms:modified xsi:type="dcterms:W3CDTF">2012-12-21T19:22:05Z</dcterms:modified>
  <cp:revision>11</cp:revision>
  <dc:subject/>
  <dc:title>Cómo se declina un sustantivo</dc:title>
</cp:coreProperties>
</file>