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7.wmf" ContentType="image/x-wmf"/>
  <Override PartName="/ppt/media/image4.png" ContentType="image/png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5DE-E057-4BAF-A2FA-B6C73414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455-426B-48F5-9AA3-F11B788D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C30-FEB3-450D-BAC1-852AC3B9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C5D-B332-4A11-941E-7051E545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C183-A724-45D1-AE0A-042C8445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C5B3-2819-4535-80FF-1E55E658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A408-763F-4974-B5F7-B0FB9356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3C1E-94CA-41BA-9B8E-0796F24B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2BD5-67F9-47D7-ABE4-D01BF6E4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5216-95A2-43FE-BFE0-622DA7AA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7AB9-9B88-4D8B-82BC-EAC5D66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FEA-9D12-48BD-B392-4E3E852F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C33E-BD47-494A-9018-0F187C4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EED7-3BB1-4A49-A67C-C1006C57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82AF-2943-4125-B160-450BBEA8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C229-D0A7-4873-A76C-9B03354A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9E48-C516-4D56-82B5-424BF630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08D-BD79-4BA2-8FA4-45FC026D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B20-B3B2-4185-B98F-2DA397D6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57E-4376-4C76-B443-465CD763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56C-BD79-488C-ABDA-E9D1E9A0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93C-1E0B-4E88-96B9-4D1810C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6AE-A3DA-40CE-92A2-7D02C3F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F73-09F9-4524-97E2-012E0351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E6C8-00AB-47E6-BD5D-128C8EFD5749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14AD-DD58-45B9-8298-F0A321CD7374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dd39f"/>
                </a:solidFill>
                <a:latin typeface="Comic Sans MS"/>
              </a:rPr>
              <a:t>MORFOLOGÍA NOMINAL</a:t>
            </a:r>
            <a:endParaRPr b="0" lang="en-US" sz="4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90720" y="330984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¿</a:t>
            </a:r>
            <a:r>
              <a:rPr b="1" lang="es-ES_tradnl" sz="3600" spc="-1" strike="noStrike" u="sng">
                <a:solidFill>
                  <a:srgbClr val="eaeaea"/>
                </a:solidFill>
                <a:uFillTx/>
                <a:latin typeface="Comic Sans MS"/>
              </a:rPr>
              <a:t>Cómo se declina un sustantivo</a:t>
            </a: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8229600" y="60958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4385"/>
                </a:moveTo>
                <a:lnTo>
                  <a:pt x="17806" y="11392"/>
                </a:lnTo>
                <a:lnTo>
                  <a:pt x="3794" y="1839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295280" y="1066680"/>
            <a:ext cx="6324840" cy="190512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df1545"/>
                </a:solidFill>
                <a:latin typeface="Comic Sans MS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. Para ello basta con mirar la terminación del </a:t>
            </a:r>
            <a:r>
              <a:rPr b="1" lang="es-ES_tradnl" sz="2400" spc="-1" strike="noStrike">
                <a:solidFill>
                  <a:srgbClr val="a50021"/>
                </a:solidFill>
                <a:latin typeface="Comic Sans MS"/>
              </a:rPr>
              <a:t>genitivo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 –segunda forma del enunciado-: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96080" y="5943600"/>
            <a:ext cx="1043280" cy="457200"/>
            <a:chOff x="7696080" y="5943600"/>
            <a:chExt cx="1043280" cy="457200"/>
          </a:xfrm>
        </p:grpSpPr>
        <p:sp>
          <p:nvSpPr>
            <p:cNvPr id="289" name="AutoShape 9">
              <a:hlinkClick r:id="" action="ppaction://hlinkshowjump?jump=nextslide"/>
            </p:cNvPr>
            <p:cNvSpPr/>
            <p:nvPr/>
          </p:nvSpPr>
          <p:spPr>
            <a:xfrm>
              <a:off x="8305920" y="5943600"/>
              <a:ext cx="433440" cy="457200"/>
            </a:xfrm>
            <a:custGeom>
              <a:avLst/>
              <a:gdLst>
                <a:gd name="textAreaLeft" fmla="*/ 28080 w 433440"/>
                <a:gd name="textAreaRight" fmla="*/ 405360 w 433440"/>
                <a:gd name="textAreaTop" fmla="*/ 28080 h 457200"/>
                <a:gd name="textAreaBottom" fmla="*/ 429120 h 457200"/>
              </a:gdLst>
              <a:ahLst/>
              <a:rect l="textAreaLeft" t="textAreaTop" r="textAreaRight" b="textAreaBottom"/>
              <a:pathLst>
                <a:path w="21600" h="22783">
                  <a:moveTo>
                    <a:pt x="0" y="0"/>
                  </a:moveTo>
                  <a:lnTo>
                    <a:pt x="21600" y="0"/>
                  </a:lnTo>
                  <a:lnTo>
                    <a:pt x="21600" y="22783"/>
                  </a:lnTo>
                  <a:lnTo>
                    <a:pt x="0" y="22783"/>
                  </a:lnTo>
                  <a:close/>
                </a:path>
                <a:path fill="lightenLess" w="21600" h="2278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783">
                  <a:moveTo>
                    <a:pt x="21600" y="0"/>
                  </a:moveTo>
                  <a:lnTo>
                    <a:pt x="21600" y="22783"/>
                  </a:lnTo>
                  <a:lnTo>
                    <a:pt x="20200" y="21383"/>
                  </a:lnTo>
                  <a:lnTo>
                    <a:pt x="20200" y="1400"/>
                  </a:lnTo>
                  <a:close/>
                </a:path>
                <a:path fill="darkenLess" w="21600" h="22783">
                  <a:moveTo>
                    <a:pt x="21600" y="22783"/>
                  </a:moveTo>
                  <a:lnTo>
                    <a:pt x="0" y="22783"/>
                  </a:lnTo>
                  <a:lnTo>
                    <a:pt x="1400" y="21383"/>
                  </a:lnTo>
                  <a:lnTo>
                    <a:pt x="20200" y="21383"/>
                  </a:lnTo>
                  <a:close/>
                </a:path>
                <a:path fill="lighten" w="21600" h="22783">
                  <a:moveTo>
                    <a:pt x="0" y="2278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383"/>
                  </a:lnTo>
                  <a:close/>
                </a:path>
                <a:path fill="darken" w="21600" h="22783">
                  <a:moveTo>
                    <a:pt x="3794" y="4385"/>
                  </a:moveTo>
                  <a:lnTo>
                    <a:pt x="17806" y="11392"/>
                  </a:lnTo>
                  <a:lnTo>
                    <a:pt x="3794" y="1839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  <p:sp>
          <p:nvSpPr>
            <p:cNvPr id="290" name="AutoShape 10">
              <a:hlinkClick r:id="" action="ppaction://hlinkshowjump?jump=previousslide"/>
            </p:cNvPr>
            <p:cNvSpPr/>
            <p:nvPr/>
          </p:nvSpPr>
          <p:spPr>
            <a:xfrm>
              <a:off x="7696080" y="5943600"/>
              <a:ext cx="457200" cy="457200"/>
            </a:xfrm>
            <a:custGeom>
              <a:avLst/>
              <a:gdLst>
                <a:gd name="textAreaLeft" fmla="*/ 29520 w 457200"/>
                <a:gd name="textAreaRight" fmla="*/ 427680 w 4572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291" name="Rectangle 12"/>
          <p:cNvSpPr/>
          <p:nvPr/>
        </p:nvSpPr>
        <p:spPr>
          <a:xfrm>
            <a:off x="1676520" y="3429000"/>
            <a:ext cx="5943600" cy="243828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Prim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ae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Segund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Terc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Cuar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u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Quin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-e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3" name="Picture 2" descr="C:\Users\AUDIOLEASK\Pictures\Imagen1.emf"/>
          <p:cNvPicPr/>
          <p:nvPr/>
        </p:nvPicPr>
        <p:blipFill>
          <a:blip r:embed="rId1"/>
          <a:stretch/>
        </p:blipFill>
        <p:spPr>
          <a:xfrm>
            <a:off x="785880" y="785880"/>
            <a:ext cx="75722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Hagamos el esquema de la declinación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Pondremos el nominativo y el genitivo del enuncia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Pondremos la raíz en el resto de casos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5373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3:30:19Z</dcterms:created>
  <dc:creator>Carlos Viloria (Modificación)</dc:creator>
  <dc:description/>
  <dc:language>en-US</dc:language>
  <cp:lastModifiedBy>AUDIOLEASK</cp:lastModifiedBy>
  <dcterms:modified xsi:type="dcterms:W3CDTF">2012-12-21T19:22:05Z</dcterms:modified>
  <cp:revision>11</cp:revision>
  <dc:subject/>
  <dc:title>Cómo se declina un sustantivo</dc:title>
</cp:coreProperties>
</file>