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A25-C54B-470E-9327-4A9AD90F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B6C-677B-4633-BA78-0FB9235E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C6D-AA1C-45F5-A359-1B41C241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411-7D50-48CE-B291-0726CD6D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B629-BEB0-4203-8C86-0A24AC0C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A2CC-66F9-4DB1-8716-F16CF413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416C-CD59-44C3-8F2B-28514F13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2B35-3247-4687-8B65-A4A752ED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A626-496D-4C50-B5D7-633E6663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7233-EF7B-46D1-A1E3-5E681CC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ABB5-305A-4EC9-B197-7D095E8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F64-8C77-45DE-9C82-21D21C3E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34A2-F679-4934-91CF-2D66058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815-6C91-419C-94D5-EEAB9C6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147-FE28-4CCC-8B1A-A4557363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1787-3663-4F16-A9AD-C8630856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BE9A-E871-4196-B5BE-9F7255DB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5D1-7A8B-404D-ADB5-96E49BD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C27-1E21-4779-A5ED-D3CA2853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0AE-EE7A-47EB-B807-425EE303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C39-51E2-49E2-B115-5E5C09DE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5C4-86FD-4E94-9EA6-36321B1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8AE-EFF1-4276-B0F6-E29EA72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4CE-C492-43C5-95BE-3F9EB2D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73BB-EBD4-4F2D-AB49-8CAC05F3E5E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A2C-1E23-4714-9D8F-62A1A3BA512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PRONOMBRES PERSON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LOS ÚNICOS QUE APARECEN SIEMPRE EN SUSTITUCIÓN DEL NOMBRE Y NO ACOMPAÑÁNDOLO EN FUNCIÓN DE AD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LA PERSONA GRAMATICAL A LA QUE SE REFIERAN PODEMOS ENCONTRAR EN LATÍN LOS SIGUIENTES PRONOMBRES PERSONALES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LATÍN, NO EXISTE EL PRONOMBRE PERSONAL DE TERCERA PERSONA, PARA REALIZAR ESTA FUNCIÓN SE UTILIZA ILLE ILLA ILLUD PUESTO QUE LAS FORMAS DEL PRONOMBRE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QUE CORRESPONDERÍAN A ESTA PERSONA, EN LATÍN, FUNCIONAN COMO REFLEXIV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STO QUE LA LLAMADA DE ATENCIÓN SÓLO SE PUEDE REALIZAR A UNA SEGUNDA PERSONA, SÓLO EL PRONOMBRE PERSONAL DE SEGUNDA PERSONA TIENE VOCATIV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557360"/>
          <a:ext cx="8229600" cy="4568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65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R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UND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MIN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US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I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B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L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 REFLEXIVO: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NE LAS MISMAS FORMAS PARA EL SINGULAR Y PARA EL PLURAL Y CARECE DE NOMINATIVO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5708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CUS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/sese (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ENI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I (de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BI (par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BL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(consigo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s-adjetivos posesivos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rmados sobre el acusativo singular y plural de los pronombres personales, se declinan en singular y plural como si fueran adjetivo del tipo bonus, -a, -um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xisten tantos pronombres - adjetivos posesivos como poseedores y objetos poseídos puede ha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oseedor es un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us, mea, me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uus, tua, t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poseedores son vari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ster, nostra, no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ster, vestra, ve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08:25Z</dcterms:created>
  <dc:creator>Usuario</dc:creator>
  <dc:description/>
  <dc:language>en-US</dc:language>
  <cp:lastModifiedBy>AUDIOLEASK</cp:lastModifiedBy>
  <dcterms:modified xsi:type="dcterms:W3CDTF">2013-01-21T22:46:43Z</dcterms:modified>
  <cp:revision>5</cp:revision>
  <dc:subject/>
  <dc:title>PRONOMBRES PERSONALES</dc:title>
</cp:coreProperties>
</file>