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ED4D-FC71-456F-9937-80078E57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5C60-A047-4D31-B042-2D5B55C1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C07B-4B2A-4345-B883-9C996ABB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791B-519A-4167-B8BE-95B6EAE6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4537-1F1B-40CD-A3DB-EE700601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ABBC-B1AC-4247-B445-90965402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AD71-CD35-445A-8E4F-0214094F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AD7B-1BE8-42A3-85F6-EF87ECEF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1A6B-D6CB-453D-A26D-B93298FC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DBF2-92EC-4320-A587-3612C6F4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9F1A-9B7B-42E1-A121-2AEE0EDF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C59C-47E9-4314-8716-FEA8B18F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ADBF-E46F-431E-B7D5-035A3E42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99F3-62A4-4186-969F-EDFECFA5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13C9-811A-4AD0-8808-E63D9774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C256-6DCE-473D-8534-5B522BFE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610A-FA13-4C1C-A271-01C95A7D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62F6-A583-47DF-B941-CE9AD469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473A-C8C2-48AB-A0BC-7AD8D47C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7F2F-3800-403C-BF53-289E4848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5DF7-324A-4A52-B7FE-47F22C7D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2066-FDE9-4A4B-B643-55C8997E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4FBF-817C-4907-A977-467E5528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C96F-000D-409F-86D5-BF8B1D66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897C-2915-499F-961F-D529611480A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5419-BD28-4644-BAC4-53095BCA6E9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Tahoma"/>
              </a:rPr>
              <a:t>PRONOMBRES PERSON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N LOS ÚNICOS QUE APARECEN SIEMPRE EN SUSTITUCIÓN DEL NOMBRE Y NO ACOMPAÑÁNDOLO EN FUNCIÓN DE ADJE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SEGÚN LA PERSONA GRAMATICAL A LA QUE SE REFIERAN PODEMOS ENCONTRAR EN LATÍN LOS SIGUIENTES PRONOMBRES PERSONALES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0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PRONOMBRE PERSONAL DE PRIMERA PERSONA EN SINGULA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PRONOMBRE PERSONAL DE PRIMERA PERSONA EN PLUR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PRONOMBRE PERSONAL DE SEGUNDA PERSONA EN SINGULA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PRONOMBRE PERSONAL DE SEGUNDA PERSONA EN PLUR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LATÍN, NO EXISTE EL PRONOMBRE PERSONAL DE TERCERA PERSONA, PARA REALIZAR ESTA FUNCIÓN SE UTILIZA ILLE ILLA ILLUD PUESTO QUE LAS FORMAS DEL PRONOMBRE </a:t>
            </a: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SE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QUE CORRESPONDERÍAN A ESTA PERSONA, EN LATÍN, FUNCIONAN COMO REFLEXIV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ESTO QUE LA LLAMADA DE ATENCIÓN SÓLO SE PUEDE REALIZAR A UNA SEGUNDA PERSONA, SÓLO EL PRONOMBRE PERSONAL DE SEGUNDA PERSONA TIENE VOCATIV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2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557360"/>
          <a:ext cx="8229600" cy="45687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9652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IMERA PERSO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GUNDA PERSO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NG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NG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MINA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CA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------------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------------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USA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ENI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STR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STR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H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B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B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B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LA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B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B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PRONOMBRE REFLEXIVO:</a:t>
            </a:r>
            <a:br>
              <a:rPr sz="3200"/>
            </a:br>
            <a:br>
              <a:rPr sz="3200"/>
            </a:b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TIENE LAS MISMAS FORMAS PARA EL SINGULAR Y PARA EL PLURAL Y CARECE DE NOMINATIVO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557080"/>
            <a:ext cx="82296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CUSATIVO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/sese (a sí mism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GENITIVO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I (de sí mism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ATIVO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IBI (para sí mism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BLATIVO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(consigo mism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91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Pronombres-adjetivos posesivos: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ormados sobre el acusativo singular y plural de los pronombres personales, se declinan en singular y plural como si fueran adjetivo del tipo bonus, -a, -um.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xisten tantos pronombres - adjetivos posesivos como poseedores y objetos poseídos puede hab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poseedor es un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us, mea, me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uus, tua, tu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uus, sua, su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os poseedores son vari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Noster, nostra, nost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ester, vestra, vest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uus, sua, su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" dur="20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6:08:25Z</dcterms:created>
  <dc:creator>Usuario</dc:creator>
  <dc:description/>
  <dc:language>en-US</dc:language>
  <cp:lastModifiedBy>AUDIOLEASK</cp:lastModifiedBy>
  <dcterms:modified xsi:type="dcterms:W3CDTF">2013-01-21T22:46:43Z</dcterms:modified>
  <cp:revision>5</cp:revision>
  <dc:subject/>
  <dc:title>PRONOMBRES PERSONALES</dc:title>
</cp:coreProperties>
</file>