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4F9-F890-4DD3-B394-549B9ABF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518-1C01-48E7-9D08-5435C0CB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899-8AC5-4F09-8386-1CC86DDE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D5C-B306-4D17-A397-E7F6536F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4BA7-51D5-4D31-BB26-1CC69D59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527B-0975-4A0E-855B-7E503540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65E-4AED-4650-B95D-A8455A10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3675-D9E2-4125-8146-13FA8569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745B-FCA0-46D8-AFAC-1C98238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23C6-E7DA-491E-93FA-6412547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D7CF-BC09-4C6E-B852-76E494E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4E3-71C2-473A-B139-FD5E4116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54AC-7292-49D9-95E0-C57EAC9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8671-6866-4F09-BA42-3195812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01FF-F432-4B58-8B7E-4B4887C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B7D6-BDF2-404E-8631-DB12BCD7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B15-DDE2-41CD-A8F4-39EE1BB4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E56-8250-40B2-B8EA-399F73A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71C-5D23-462D-BB07-2400BDDA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3B9-EEB0-4C3A-AF18-24C294C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A9B-6B6C-4A37-8335-2225E38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77A-B353-4B49-9532-83700AF5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D95-BCE5-499F-A8DA-52CA9C0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762-B788-4BF5-989C-858DD96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7B35-666C-4F9A-BD83-5364DDE50B1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F20A-540B-4A2B-9F1A-3DAD5F0ECC1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PRONOMBRES PERSON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LOS ÚNICOS QUE APARECEN SIEMPRE EN SUSTITUCIÓN DEL NOMBRE Y NO ACOMPAÑÁNDOLO EN FUNCIÓN DE AD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LA PERSONA GRAMATICAL A LA QUE SE REFIERAN PODEMOS ENCONTRAR EN LATÍN LOS SIGUIENTES PRONOMBRES PERSONALES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LATÍN, NO EXISTE EL PRONOMBRE PERSONAL DE TERCERA PERSONA, PARA REALIZAR ESTA FUNCIÓN SE UTILIZA ILLE ILLA ILLUD PUESTO QUE LAS FORMAS DEL PRONOMBRE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QUE CORRESPONDERÍAN A ESTA PERSONA, EN LATÍN, FUNCIONAN COMO REFLEXIV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STO QUE LA LLAMADA DE ATENCIÓN SÓLO SE PUEDE REALIZAR A UNA SEGUNDA PERSONA, SÓLO EL PRONOMBRE PERSONAL DE SEGUNDA PERSONA TIENE VOCATIV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557360"/>
          <a:ext cx="8229600" cy="4568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65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R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UND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MIN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US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I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B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L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 REFLEXIVO: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NE LAS MISMAS FORMAS PARA EL SINGULAR Y PARA EL PLURAL Y CARECE DE NOMINATIVO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5708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CUS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/sese (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ENI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I (de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BI (par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L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(consigo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s-adjetivos posesivos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dos sobre el acusativo singular y plural de los pronombres personales, se declinan en singular y plural como si fueran adjetivo del tipo bonus, -a, -um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xisten tantos pronombres - adjetivos posesivos como poseedores y objetos poseídos puede ha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oseedor es un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us, mea, m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uus, tua, t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poseedores son vari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ster, nostra, no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ster, vestra, ve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08:25Z</dcterms:created>
  <dc:creator>Usuario</dc:creator>
  <dc:description/>
  <dc:language>en-US</dc:language>
  <cp:lastModifiedBy>AUDIOLEASK</cp:lastModifiedBy>
  <dcterms:modified xsi:type="dcterms:W3CDTF">2013-01-21T22:46:43Z</dcterms:modified>
  <cp:revision>5</cp:revision>
  <dc:subject/>
  <dc:title>PRONOMBRES PERSONALES</dc:title>
</cp:coreProperties>
</file>