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C3C-5E5C-4AA3-85C7-1FCCBC0C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747-5117-47DD-A4C5-F34A381D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132-B8BE-4BB1-9D41-5241B136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76D-A9B2-42C4-9B97-C55D625A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27EB-2708-46F5-966B-3A57ABD0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7605-CDFF-4DB2-88C7-C9C47FE2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E231-FD4C-4A17-A34C-C47FC555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466C-D693-4738-9CE0-AB3AF8AC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F6A8-5B97-4A3B-B484-A611F230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FDE6-1ED2-427F-BF29-748346D9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AE90-4587-4ACD-AEE5-6CCBCC4A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218-A014-414A-B13C-C63109BA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E05D-8089-4A75-8D3B-E2481FF8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FD22-CA92-4DB9-B29E-921F721B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77C1-DC43-410E-99FA-0DE88D28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9FAA-589E-4BAC-9206-46421540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DC23-E62F-4062-9EEC-CA27A6DB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896-D97D-4F2E-A738-F469923A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737-D611-4EA8-8EE7-B2DA1EB1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626-3522-4E60-B1E3-7F68ECF2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8D5-9891-4227-A1CC-A250202B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A71-D829-4E8A-AF77-396AC1C1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68A-54B8-4987-A00D-E34D259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2E8-07D1-44B5-B16A-0518E6DE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C82B-0918-46E5-84AD-B4C3A7684A2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B690-7F6A-490D-BB94-00C556E234F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PRONOMBRES PERSON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N LOS ÚNICOS QUE APARECEN SIEMPRE EN SUSTITUCIÓN DEL NOMBRE Y NO ACOMPAÑÁNDOLO EN FUNCIÓN DE AD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EGÚN LA PERSONA GRAMATICAL A LA QUE SE REFIERAN PODEMOS ENCONTRAR EN LATÍN LOS SIGUIENTES PRONOMBRES PERSONALES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PRIMERA PERSONA EN SINGU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PRIMERA PERSONA EN PLUR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SEGUNDA PERSONA EN SINGU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SEGUNDA PERSONA EN PLUR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LATÍN, NO EXISTE EL PRONOMBRE PERSONAL DE TERCERA PERSONA, PARA REALIZAR ESTA FUNCIÓN SE UTILIZA ILLE ILLA ILLUD PUESTO QUE LAS FORMAS DEL PRONOMBRE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QUE CORRESPONDERÍAN A ESTA PERSONA, EN LATÍN, FUNCIONAN COMO REFLEXIV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ESTO QUE LA LLAMADA DE ATENCIÓN SÓLO SE PUEDE REALIZAR A UNA SEGUNDA PERSONA, SÓLO EL PRONOMBRE PERSONAL DE SEGUNDA PERSONA TIENE VOCATIV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557360"/>
          <a:ext cx="8229600" cy="45687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65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ERA PERSO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UNDA PERSO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MIN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C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US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I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TR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STR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B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L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PRONOMBRE REFLEXIVO: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IENE LAS MISMAS FORMAS PARA EL SINGULAR Y PARA EL PLURAL Y CARECE DE NOMINATIVO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5708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CUS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/sese (a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ENI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I (de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BI (para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BL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(consigo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Pronombres-adjetivos posesivos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ormados sobre el acusativo singular y plural de los pronombres personales, se declinan en singular y plural como si fueran adjetivo del tipo bonus, -a, -um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xisten tantos pronombres - adjetivos posesivos como poseedores y objetos poseídos puede ha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oseedor es un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us, mea, me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uus, tua, t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us, sua, s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poseedores son vari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ster, nostra, nost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ster, vestra, vest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us, sua, s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08:25Z</dcterms:created>
  <dc:creator>Usuario</dc:creator>
  <dc:description/>
  <dc:language>en-US</dc:language>
  <cp:lastModifiedBy>AUDIOLEASK</cp:lastModifiedBy>
  <dcterms:modified xsi:type="dcterms:W3CDTF">2013-01-21T22:46:43Z</dcterms:modified>
  <cp:revision>5</cp:revision>
  <dc:subject/>
  <dc:title>PRONOMBRES PERSONALES</dc:title>
</cp:coreProperties>
</file>