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drumroll.wav" ContentType="audio/x-wav"/>
  <Override PartName="/ppt/media/suction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142-2713-4D6D-AEE4-13B420E1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EF0-E3A2-4AD8-B5A1-771B717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A8-8786-4B90-BB66-C8218271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E1F-5823-41DD-B00B-4FCF1675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2E9-A5D5-4928-9EBD-4B1E442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E23-208C-424F-800B-E8E20A7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A83-19C3-42C6-9965-3D1B9C5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BAFA-A301-4D6A-8067-B67DA47D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466-F9AC-4243-BAB2-D3E4A8D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38B9-6506-4BE3-9C24-063089D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4BE0-C993-4E96-8340-0E6DA98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A0F-4CA2-4E0B-899C-0FA78A10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1D44-E2E7-44CE-B365-E5E74BE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BC15-5089-4122-A63F-0289701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E98C-027D-42EA-9829-62A4987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20BE-CD7E-4F1A-80C9-348E1D08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D4F-CD39-45E4-A575-8EE18B0D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995-ABEA-4F06-9AFA-864495D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969-E185-4FF0-AC3C-650AD42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8D2-20C5-4514-A157-1AFDBEFB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630-0F09-402E-BF1A-A4FBDED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59A-9BA9-4787-85B6-55C0FF3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922-6AB7-40EA-9D11-AC7A71C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743-871D-4E6F-BA78-1091FDDA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36D-4FA5-4C20-93EF-090C4466BA3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2AD-91FE-4BC6-B8E1-E9ED7A2836C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drumroll.wav"/><Relationship Id="rId11" Type="http://schemas.openxmlformats.org/officeDocument/2006/relationships/audio" Target="../media/push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LEMENTOS DEL VER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76428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ANÁLISIS MORFOLÓGICO DEL “VERBO”</a:t>
            </a: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348000" y="2852640"/>
            <a:ext cx="5184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356000" y="2924280"/>
            <a:ext cx="4248360" cy="863640"/>
          </a:xfrm>
          <a:prstGeom prst="upArrowCallout">
            <a:avLst>
              <a:gd name="adj1" fmla="val 83405"/>
              <a:gd name="adj2" fmla="val 95718"/>
              <a:gd name="adj3" fmla="val 19116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      E      N      E      B      A     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ff66ff"/>
                </a:solidFill>
                <a:latin typeface="Arial"/>
              </a:rPr>
              <a:t>MORF.T/M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-  </a:t>
            </a:r>
            <a:r>
              <a:rPr b="1" lang="es-ES" sz="2400" spc="-1" strike="noStrike">
                <a:solidFill>
                  <a:srgbClr val="339966"/>
                </a:solidFill>
                <a:latin typeface="Arial"/>
              </a:rPr>
              <a:t>DESIN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979640" y="494172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84720" y="4941720"/>
            <a:ext cx="79200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694836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2123640" y="4941720"/>
            <a:ext cx="86364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4284360" y="4941720"/>
            <a:ext cx="43164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7237440" y="4941720"/>
            <a:ext cx="430200" cy="35892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>
            <a:off x="1258920" y="5877000"/>
            <a:ext cx="2736720" cy="647640"/>
          </a:xfrm>
          <a:prstGeom prst="upArrowCallout">
            <a:avLst>
              <a:gd name="adj1" fmla="val 19761"/>
              <a:gd name="adj2" fmla="val 74575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EN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4211640" y="5877000"/>
            <a:ext cx="4249800" cy="647640"/>
          </a:xfrm>
          <a:prstGeom prst="upArrowCallout">
            <a:avLst>
              <a:gd name="adj1" fmla="val 22908"/>
              <a:gd name="adj2" fmla="val 107543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-EB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25892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132000" y="5805360"/>
            <a:ext cx="51850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435640" y="4941720"/>
            <a:ext cx="108108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867280" y="4941720"/>
            <a:ext cx="71640" cy="43200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IEMPOS DE “INFECTUM” (presente)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EL TEMA DE PRESENTE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JUG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906560" y="43149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905120" y="472608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E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05120" y="515772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  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05120" y="5591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05120" y="6023160"/>
            <a:ext cx="50328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Ĭ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409840" y="451008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408400" y="4941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2408400" y="5373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2408400" y="580716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2408400" y="6165720"/>
            <a:ext cx="396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851400" y="6491160"/>
            <a:ext cx="82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conjug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CUARTA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Ĭ)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también recibe el nombr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“TERCERA MIXTA”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80"/>
                            </p:stCondLst>
                            <p:childTnLst>
                              <p:par>
                                <p:cTn id="28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as cuatro CONJUGACION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49360"/>
          <a:ext cx="7837560" cy="42116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2111400"/>
                <a:gridCol w="1295280"/>
              </a:tblGrid>
              <a:tr h="105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63"/>
          <p:cNvSpPr/>
          <p:nvPr/>
        </p:nvSpPr>
        <p:spPr>
          <a:xfrm>
            <a:off x="847800" y="4221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237168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3895560" y="422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581800" y="429264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7667640" y="4232160"/>
            <a:ext cx="100800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9"/>
          <p:cNvSpPr/>
          <p:nvPr/>
        </p:nvSpPr>
        <p:spPr>
          <a:xfrm>
            <a:off x="23511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0"/>
          <p:cNvSpPr/>
          <p:nvPr/>
        </p:nvSpPr>
        <p:spPr>
          <a:xfrm>
            <a:off x="387504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21"/>
          <p:cNvSpPr/>
          <p:nvPr/>
        </p:nvSpPr>
        <p:spPr>
          <a:xfrm>
            <a:off x="5580000" y="4724280"/>
            <a:ext cx="117324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2"/>
          <p:cNvSpPr/>
          <p:nvPr/>
        </p:nvSpPr>
        <p:spPr>
          <a:xfrm>
            <a:off x="7667640" y="472428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2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24"/>
          <p:cNvSpPr/>
          <p:nvPr/>
        </p:nvSpPr>
        <p:spPr>
          <a:xfrm>
            <a:off x="2351160" y="5203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25"/>
          <p:cNvSpPr/>
          <p:nvPr/>
        </p:nvSpPr>
        <p:spPr>
          <a:xfrm>
            <a:off x="3875040" y="52038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26"/>
          <p:cNvSpPr/>
          <p:nvPr/>
        </p:nvSpPr>
        <p:spPr>
          <a:xfrm>
            <a:off x="5581800" y="5203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127"/>
          <p:cNvSpPr/>
          <p:nvPr/>
        </p:nvSpPr>
        <p:spPr>
          <a:xfrm>
            <a:off x="7667640" y="5203800"/>
            <a:ext cx="985680" cy="42084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29"/>
          <p:cNvSpPr/>
          <p:nvPr/>
        </p:nvSpPr>
        <p:spPr>
          <a:xfrm>
            <a:off x="2351160" y="563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30"/>
          <p:cNvSpPr/>
          <p:nvPr/>
        </p:nvSpPr>
        <p:spPr>
          <a:xfrm>
            <a:off x="387504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131"/>
          <p:cNvSpPr/>
          <p:nvPr/>
        </p:nvSpPr>
        <p:spPr>
          <a:xfrm>
            <a:off x="5581800" y="56358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7667640" y="56358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34"/>
          <p:cNvSpPr/>
          <p:nvPr/>
        </p:nvSpPr>
        <p:spPr>
          <a:xfrm>
            <a:off x="2351160" y="609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35"/>
          <p:cNvSpPr/>
          <p:nvPr/>
        </p:nvSpPr>
        <p:spPr>
          <a:xfrm>
            <a:off x="387504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36"/>
          <p:cNvSpPr/>
          <p:nvPr/>
        </p:nvSpPr>
        <p:spPr>
          <a:xfrm>
            <a:off x="5581800" y="6093000"/>
            <a:ext cx="1172880" cy="387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37"/>
          <p:cNvSpPr/>
          <p:nvPr/>
        </p:nvSpPr>
        <p:spPr>
          <a:xfrm>
            <a:off x="7667640" y="6093000"/>
            <a:ext cx="985680" cy="420480"/>
          </a:xfrm>
          <a:prstGeom prst="rect">
            <a:avLst/>
          </a:prstGeom>
          <a:solidFill>
            <a:srgbClr val="ccecff"/>
          </a:solidFill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ª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8"/>
          <p:cNvSpPr/>
          <p:nvPr/>
        </p:nvSpPr>
        <p:spPr>
          <a:xfrm>
            <a:off x="82692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39"/>
          <p:cNvSpPr/>
          <p:nvPr/>
        </p:nvSpPr>
        <p:spPr>
          <a:xfrm>
            <a:off x="82692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140"/>
          <p:cNvSpPr/>
          <p:nvPr/>
        </p:nvSpPr>
        <p:spPr>
          <a:xfrm>
            <a:off x="826920" y="563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141"/>
          <p:cNvSpPr/>
          <p:nvPr/>
        </p:nvSpPr>
        <p:spPr>
          <a:xfrm>
            <a:off x="826920" y="609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4"/>
          <p:cNvSpPr/>
          <p:nvPr/>
        </p:nvSpPr>
        <p:spPr>
          <a:xfrm>
            <a:off x="6804000" y="4437000"/>
            <a:ext cx="827280" cy="1116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6804000" y="494172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77"/>
          <p:cNvSpPr/>
          <p:nvPr/>
        </p:nvSpPr>
        <p:spPr>
          <a:xfrm>
            <a:off x="6804000" y="544500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8"/>
          <p:cNvSpPr/>
          <p:nvPr/>
        </p:nvSpPr>
        <p:spPr>
          <a:xfrm>
            <a:off x="6804000" y="5877000"/>
            <a:ext cx="827280" cy="144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79"/>
          <p:cNvSpPr/>
          <p:nvPr/>
        </p:nvSpPr>
        <p:spPr>
          <a:xfrm>
            <a:off x="6804000" y="6308640"/>
            <a:ext cx="827280" cy="180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82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1042920" y="2751120"/>
            <a:ext cx="7705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on las tres primeras formas se puede deducir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jugación a la que pertenece dicho verbo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88"/>
          <p:cNvSpPr/>
          <p:nvPr/>
        </p:nvSpPr>
        <p:spPr>
          <a:xfrm>
            <a:off x="1042920" y="2349360"/>
            <a:ext cx="7489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Un verbo se ENUNCIA con CINCO FOR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189"/>
          <p:cNvSpPr/>
          <p:nvPr/>
        </p:nvSpPr>
        <p:spPr>
          <a:xfrm>
            <a:off x="1116000" y="3429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FORMAS 1ª, 2ª y 3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900000" y="393372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191"/>
          <p:cNvSpPr/>
          <p:nvPr/>
        </p:nvSpPr>
        <p:spPr>
          <a:xfrm>
            <a:off x="2411280" y="393372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92"/>
          <p:cNvSpPr/>
          <p:nvPr/>
        </p:nvSpPr>
        <p:spPr>
          <a:xfrm>
            <a:off x="3924360" y="393372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193"/>
          <p:cNvSpPr/>
          <p:nvPr/>
        </p:nvSpPr>
        <p:spPr>
          <a:xfrm>
            <a:off x="5221440" y="3454560"/>
            <a:ext cx="208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 (pre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194"/>
          <p:cNvSpPr/>
          <p:nvPr/>
        </p:nvSpPr>
        <p:spPr>
          <a:xfrm>
            <a:off x="7467480" y="3454560"/>
            <a:ext cx="1150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NJ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95"/>
          <p:cNvSpPr/>
          <p:nvPr/>
        </p:nvSpPr>
        <p:spPr>
          <a:xfrm>
            <a:off x="5365800" y="3925800"/>
            <a:ext cx="208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LEX.+V.Tem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2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NUNCIADO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L VERBO (los tres TE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837560" cy="392904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1368360"/>
                <a:gridCol w="1693800"/>
                <a:gridCol w="1712880"/>
              </a:tblGrid>
              <a:tr h="7009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be5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gradFill rotWithShape="0">
                      <a:gsLst>
                        <a:gs pos="0">
                          <a:srgbClr val="1d043f"/>
                        </a:gs>
                        <a:gs pos="100000">
                          <a:srgbClr val="3f088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3"/>
          <p:cNvSpPr/>
          <p:nvPr/>
        </p:nvSpPr>
        <p:spPr>
          <a:xfrm>
            <a:off x="847800" y="39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A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23716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89556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534348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7020000" y="3933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MA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23511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387504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5322960" y="4437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U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999120" y="443700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62"/>
          <p:cNvSpPr/>
          <p:nvPr/>
        </p:nvSpPr>
        <p:spPr>
          <a:xfrm>
            <a:off x="23511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3875040" y="491652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n-US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5322960" y="491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X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999120" y="49165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23511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387504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532296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EP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999120" y="53481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23511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387504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5322960" y="58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V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6999120" y="580536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IT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826920" y="44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NE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826920" y="491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UC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826920" y="5348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826920" y="58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U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Ī</a:t>
            </a:r>
            <a:r>
              <a:rPr b="1" lang="es-ES_tradnl" sz="2400" spc="-1" strike="noStrike">
                <a:solidFill>
                  <a:srgbClr val="00264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7956720" y="620640"/>
            <a:ext cx="24444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4356000" y="549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istintos temas del ver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971640" y="242100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Del enunciado completo (cinco formas) se pueden deducir también lo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ES TEMAS VERBALES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86"/>
          <p:cNvSpPr/>
          <p:nvPr/>
        </p:nvSpPr>
        <p:spPr>
          <a:xfrm>
            <a:off x="1547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ema de pres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7"/>
          <p:cNvSpPr/>
          <p:nvPr/>
        </p:nvSpPr>
        <p:spPr>
          <a:xfrm>
            <a:off x="521964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Perf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89"/>
          <p:cNvSpPr/>
          <p:nvPr/>
        </p:nvSpPr>
        <p:spPr>
          <a:xfrm>
            <a:off x="6877080" y="30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ff921"/>
                </a:solidFill>
                <a:latin typeface="Arial"/>
              </a:rPr>
              <a:t>T.Sup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900000" y="3645000"/>
            <a:ext cx="136836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91"/>
          <p:cNvSpPr/>
          <p:nvPr/>
        </p:nvSpPr>
        <p:spPr>
          <a:xfrm>
            <a:off x="241128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2ª Pres. I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92"/>
          <p:cNvSpPr/>
          <p:nvPr/>
        </p:nvSpPr>
        <p:spPr>
          <a:xfrm>
            <a:off x="3924360" y="3645000"/>
            <a:ext cx="129528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Inf. P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5364000" y="3645000"/>
            <a:ext cx="144000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64c"/>
                </a:solidFill>
                <a:latin typeface="Arial"/>
              </a:rPr>
              <a:t>1ª Pret. Per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7093080" y="3645000"/>
            <a:ext cx="1439640" cy="29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c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7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OS “TEMAS” VERBALES</a:t>
            </a:r>
            <a:br>
              <a:rPr sz="32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RMAS ASOCIADA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203640" y="2349360"/>
            <a:ext cx="3581280" cy="5094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e3300"/>
                </a:solidFill>
                <a:latin typeface="Times New Roman"/>
              </a:rPr>
              <a:t>TRES “TEMAS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2410920" y="2852640"/>
            <a:ext cx="792360" cy="217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919080" y="3141720"/>
            <a:ext cx="3076560" cy="44856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219640" y="2852640"/>
            <a:ext cx="0" cy="322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218120" y="3141720"/>
            <a:ext cx="2514600" cy="448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fe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6780240" y="2852640"/>
            <a:ext cx="103176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6823080" y="3141720"/>
            <a:ext cx="2070000" cy="4485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up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00000" y="4270320"/>
            <a:ext cx="3311640" cy="194220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SENTE (ind., subj., imp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MPERFECTO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(ind. e imper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res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resente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ERUNDIO (ac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PA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87708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169236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529272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8028000" y="3608280"/>
            <a:ext cx="792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427640" y="3824280"/>
            <a:ext cx="21603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926640" y="3824280"/>
            <a:ext cx="140076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484360" y="3824280"/>
            <a:ext cx="1727280" cy="38772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Voz pas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4427640" y="4270320"/>
            <a:ext cx="4176720" cy="1393560"/>
          </a:xfrm>
          <a:prstGeom prst="rect">
            <a:avLst/>
          </a:prstGeom>
          <a:solidFill>
            <a:srgbClr val="bcf3fe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ERFECTO (indicat. y subjun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ET. PLUSCUAMPERF. (ind. Y subj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TURO PERFECTO (indic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INITIVO de PERF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PERFECTO.(PAS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427640" y="5805360"/>
            <a:ext cx="3313080" cy="57060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IO de futur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INO (ACT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8820000" y="3645000"/>
            <a:ext cx="0" cy="2448000"/>
          </a:xfrm>
          <a:prstGeom prst="line">
            <a:avLst/>
          </a:prstGeom>
          <a:ln w="63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24"/>
          <p:cNvSpPr/>
          <p:nvPr/>
        </p:nvSpPr>
        <p:spPr>
          <a:xfrm flipH="1">
            <a:off x="7848720" y="6093000"/>
            <a:ext cx="971280" cy="0"/>
          </a:xfrm>
          <a:prstGeom prst="line">
            <a:avLst/>
          </a:prstGeom>
          <a:ln w="63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3203640" y="3608280"/>
            <a:ext cx="0" cy="252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14:17Z</dcterms:created>
  <dc:creator>Jaime Morente Heredia</dc:creator>
  <dc:description/>
  <dc:language>en-US</dc:language>
  <cp:lastModifiedBy>AUDIOLEASK</cp:lastModifiedBy>
  <dcterms:modified xsi:type="dcterms:W3CDTF">2012-12-03T14:30:16Z</dcterms:modified>
  <cp:revision>59</cp:revision>
  <dc:subject/>
  <dc:title>MORFOLOGÍA</dc:title>
</cp:coreProperties>
</file>