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push.wav" ContentType="audio/x-wav"/>
  <Override PartName="/ppt/media/drumroll.wav" ContentType="audio/x-wav"/>
  <Override PartName="/ppt/media/suction.wav" ContentType="audio/x-wav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ED4-8A6E-40AD-8A8D-C472CD50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511-4945-46D4-8197-4E871251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E33-D925-47F8-BFD8-090F922D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BEE-D6EF-431E-8285-0661461F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C8C9-8799-4109-9908-1B537C3A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2158-0C41-4C23-8162-02F593C8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08EA-1463-42BB-9D1F-AB3E3E8E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5282-4990-4C6E-A3AB-6C35343B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C917-D059-4F2F-865C-C6FFE9EA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C287-C588-4C0B-B371-19F41104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FE2F-ADC5-4D5D-9AD6-7454DBD2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BF9-99A4-4761-8A13-2E08670D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AC93-BBD5-4D3E-92D5-1E676625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D82D-BF7E-47B6-8CF2-4EF50135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0422-7940-4F09-BE45-3BFADDD9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4A3D-DABA-4342-9CB3-57B74176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0CBC-8745-45BB-8FE9-4D941FD7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EE1-903C-428E-BAB6-F5D26A62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195-DCF1-4B6B-95AE-B5607BD9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43B-4E09-4FC0-897D-D46480DC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D73-B3DA-4D68-B6D7-DC48AAFC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A1B-5EFA-4F4A-A85F-B4B1FC68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6A1-9483-46B7-B344-AF0A6F96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281-EF31-4EAF-89A1-5D617BDA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38C7-BD91-4EA3-975E-C1B828EAADFE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B1B9-60AA-4699-8AE2-828C835572DC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drumroll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audio" Target="../media/suction.wav"/><Relationship Id="rId10" Type="http://schemas.openxmlformats.org/officeDocument/2006/relationships/audio" Target="../media/drumroll.wav"/><Relationship Id="rId11" Type="http://schemas.openxmlformats.org/officeDocument/2006/relationships/audio" Target="../media/push.wav"/><Relationship Id="rId12" Type="http://schemas.openxmlformats.org/officeDocument/2006/relationships/audio" Target="../media/push.wav"/><Relationship Id="rId13" Type="http://schemas.openxmlformats.org/officeDocument/2006/relationships/audio" Target="../media/push.wav"/><Relationship Id="rId14" Type="http://schemas.openxmlformats.org/officeDocument/2006/relationships/audio" Target="../media/push.wav"/><Relationship Id="rId15" Type="http://schemas.openxmlformats.org/officeDocument/2006/relationships/audio" Target="../media/push.wav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Arial"/>
              </a:rPr>
              <a:t>MORFOLOGÍA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ELEMENTOS DEL VERB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219640" y="623736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or: Jaime Morente Hered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76428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Arial"/>
              </a:rPr>
              <a:t>ANÁLISIS MORFOLÓGICO DEL “VERBO”</a:t>
            </a: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 POSIBLES (part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ff66ff"/>
                </a:solidFill>
                <a:latin typeface="Arial"/>
              </a:rPr>
              <a:t>MORF.T/M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.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1547640" y="2708280"/>
            <a:ext cx="396108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3348000" y="2852640"/>
            <a:ext cx="518472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1547640" y="2924280"/>
            <a:ext cx="2664000" cy="863640"/>
          </a:xfrm>
          <a:prstGeom prst="upArrowCallout">
            <a:avLst>
              <a:gd name="adj1" fmla="val 77122"/>
              <a:gd name="adj2" fmla="val 77115"/>
              <a:gd name="adj3" fmla="val 16667"/>
              <a:gd name="adj4" fmla="val 66660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4356000" y="2924280"/>
            <a:ext cx="4248360" cy="863640"/>
          </a:xfrm>
          <a:prstGeom prst="upArrowCallout">
            <a:avLst>
              <a:gd name="adj1" fmla="val 83405"/>
              <a:gd name="adj2" fmla="val 95718"/>
              <a:gd name="adj3" fmla="val 19116"/>
              <a:gd name="adj4" fmla="val 6666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RMIN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006560" y="3860640"/>
            <a:ext cx="7886520" cy="273708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N EJEMPL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[    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      E      N      E      B      A      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 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ff66ff"/>
                </a:solidFill>
                <a:latin typeface="Arial"/>
              </a:rPr>
              <a:t>MORF.T/M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- 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.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1979640" y="494172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4284720" y="4941720"/>
            <a:ext cx="79200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6948360" y="4941720"/>
            <a:ext cx="7207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 flipH="1">
            <a:off x="2123640" y="4941720"/>
            <a:ext cx="863640" cy="3589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 flipH="1">
            <a:off x="4284360" y="4941720"/>
            <a:ext cx="431640" cy="432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7237440" y="4941720"/>
            <a:ext cx="430200" cy="35892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AutoShape 25"/>
          <p:cNvSpPr/>
          <p:nvPr/>
        </p:nvSpPr>
        <p:spPr>
          <a:xfrm>
            <a:off x="1258920" y="5877000"/>
            <a:ext cx="2736720" cy="647640"/>
          </a:xfrm>
          <a:prstGeom prst="upArrowCallout">
            <a:avLst>
              <a:gd name="adj1" fmla="val 19761"/>
              <a:gd name="adj2" fmla="val 74575"/>
              <a:gd name="adj3" fmla="val 29657"/>
              <a:gd name="adj4" fmla="val 103436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MA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TENE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AutoShape 26"/>
          <p:cNvSpPr/>
          <p:nvPr/>
        </p:nvSpPr>
        <p:spPr>
          <a:xfrm>
            <a:off x="4211640" y="5877000"/>
            <a:ext cx="4249800" cy="647640"/>
          </a:xfrm>
          <a:prstGeom prst="upArrowCallout">
            <a:avLst>
              <a:gd name="adj1" fmla="val 22908"/>
              <a:gd name="adj2" fmla="val 107543"/>
              <a:gd name="adj3" fmla="val 35051"/>
              <a:gd name="adj4" fmla="val 103436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RMINACIÓN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-EB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1258920" y="5734080"/>
            <a:ext cx="396072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3132000" y="5805360"/>
            <a:ext cx="518508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29"/>
          <p:cNvSpPr/>
          <p:nvPr/>
        </p:nvSpPr>
        <p:spPr>
          <a:xfrm>
            <a:off x="5435640" y="4941720"/>
            <a:ext cx="1081080" cy="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30"/>
          <p:cNvSpPr/>
          <p:nvPr/>
        </p:nvSpPr>
        <p:spPr>
          <a:xfrm>
            <a:off x="5867280" y="4941720"/>
            <a:ext cx="71640" cy="432000"/>
          </a:xfrm>
          <a:prstGeom prst="line">
            <a:avLst/>
          </a:prstGeom>
          <a:ln w="7632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TIEMPOS DE “INFECTUM” (presente)</a:t>
            </a:r>
            <a:br>
              <a:rPr sz="32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EL TEMA DE PRESENTE”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1º.- </a:t>
            </a: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LEX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2º.- </a:t>
            </a: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VOCAL TEMÁ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3635280" y="3068640"/>
            <a:ext cx="23050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5219640" y="3645000"/>
            <a:ext cx="72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084720" y="2852640"/>
            <a:ext cx="2592720" cy="368280"/>
          </a:xfrm>
          <a:prstGeom prst="rect">
            <a:avLst/>
          </a:prstGeom>
          <a:noFill/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IGNIFICADO léx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084720" y="3500280"/>
            <a:ext cx="2592720" cy="3682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JUG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7308720" y="3933720"/>
            <a:ext cx="0" cy="35892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906560" y="431496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A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905120" y="472608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E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905120" y="515772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  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905120" y="559116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Ĭ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905120" y="602316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Ī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6443640" y="43052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IM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6442200" y="471636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SEGUN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6442200" y="514800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TERC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6442200" y="5581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UARTA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Ĭ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6442200" y="6013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UARTA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Ī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20"/>
          <p:cNvSpPr/>
          <p:nvPr/>
        </p:nvSpPr>
        <p:spPr>
          <a:xfrm>
            <a:off x="2409840" y="451008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>
            <a:off x="2408400" y="494172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2408400" y="537372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>
            <a:off x="2408400" y="580716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24"/>
          <p:cNvSpPr/>
          <p:nvPr/>
        </p:nvSpPr>
        <p:spPr>
          <a:xfrm>
            <a:off x="2408400" y="616572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25"/>
          <p:cNvSpPr/>
          <p:nvPr/>
        </p:nvSpPr>
        <p:spPr>
          <a:xfrm>
            <a:off x="1908000" y="3860640"/>
            <a:ext cx="33847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27"/>
          <p:cNvSpPr/>
          <p:nvPr/>
        </p:nvSpPr>
        <p:spPr>
          <a:xfrm>
            <a:off x="2195640" y="3860640"/>
            <a:ext cx="0" cy="43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851400" y="6491160"/>
            <a:ext cx="828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* La conjugación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“CUARTA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Ĭ)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también recibe el nombre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“TERCERA MIXTA”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80"/>
                            </p:stCondLst>
                            <p:childTnLst>
                              <p:par>
                                <p:cTn id="28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NUNCIADO</a:t>
            </a:r>
            <a:br>
              <a:rPr sz="3200"/>
            </a:b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L VERBO (las cuatro CONJUGACION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2349360"/>
          <a:ext cx="7837560" cy="4211640"/>
        </p:xfrm>
        <a:graphic>
          <a:graphicData uri="http://schemas.openxmlformats.org/drawingml/2006/table">
            <a:tbl>
              <a:tblPr/>
              <a:tblGrid>
                <a:gridCol w="1536840"/>
                <a:gridCol w="1525680"/>
                <a:gridCol w="1368360"/>
                <a:gridCol w="2111400"/>
                <a:gridCol w="1295280"/>
              </a:tblGrid>
              <a:tr h="10573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be5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63"/>
          <p:cNvSpPr/>
          <p:nvPr/>
        </p:nvSpPr>
        <p:spPr>
          <a:xfrm>
            <a:off x="847800" y="4221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A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4"/>
          <p:cNvSpPr/>
          <p:nvPr/>
        </p:nvSpPr>
        <p:spPr>
          <a:xfrm>
            <a:off x="2371680" y="4221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65"/>
          <p:cNvSpPr/>
          <p:nvPr/>
        </p:nvSpPr>
        <p:spPr>
          <a:xfrm>
            <a:off x="3895560" y="4221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66"/>
          <p:cNvSpPr/>
          <p:nvPr/>
        </p:nvSpPr>
        <p:spPr>
          <a:xfrm>
            <a:off x="5581800" y="429264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67"/>
          <p:cNvSpPr/>
          <p:nvPr/>
        </p:nvSpPr>
        <p:spPr>
          <a:xfrm>
            <a:off x="7667640" y="4232160"/>
            <a:ext cx="1008000" cy="42084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1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19"/>
          <p:cNvSpPr/>
          <p:nvPr/>
        </p:nvSpPr>
        <p:spPr>
          <a:xfrm>
            <a:off x="235116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120"/>
          <p:cNvSpPr/>
          <p:nvPr/>
        </p:nvSpPr>
        <p:spPr>
          <a:xfrm>
            <a:off x="3875040" y="4724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21"/>
          <p:cNvSpPr/>
          <p:nvPr/>
        </p:nvSpPr>
        <p:spPr>
          <a:xfrm>
            <a:off x="5580000" y="4724280"/>
            <a:ext cx="117324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22"/>
          <p:cNvSpPr/>
          <p:nvPr/>
        </p:nvSpPr>
        <p:spPr>
          <a:xfrm>
            <a:off x="7667640" y="4724280"/>
            <a:ext cx="985680" cy="42084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2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124"/>
          <p:cNvSpPr/>
          <p:nvPr/>
        </p:nvSpPr>
        <p:spPr>
          <a:xfrm>
            <a:off x="2351160" y="5203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125"/>
          <p:cNvSpPr/>
          <p:nvPr/>
        </p:nvSpPr>
        <p:spPr>
          <a:xfrm>
            <a:off x="3875040" y="52038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 Box 126"/>
          <p:cNvSpPr/>
          <p:nvPr/>
        </p:nvSpPr>
        <p:spPr>
          <a:xfrm>
            <a:off x="5581800" y="520380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 Box 127"/>
          <p:cNvSpPr/>
          <p:nvPr/>
        </p:nvSpPr>
        <p:spPr>
          <a:xfrm>
            <a:off x="7667640" y="5203800"/>
            <a:ext cx="985680" cy="42084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3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129"/>
          <p:cNvSpPr/>
          <p:nvPr/>
        </p:nvSpPr>
        <p:spPr>
          <a:xfrm>
            <a:off x="2351160" y="5635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130"/>
          <p:cNvSpPr/>
          <p:nvPr/>
        </p:nvSpPr>
        <p:spPr>
          <a:xfrm>
            <a:off x="3875040" y="5635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131"/>
          <p:cNvSpPr/>
          <p:nvPr/>
        </p:nvSpPr>
        <p:spPr>
          <a:xfrm>
            <a:off x="5581800" y="563580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132"/>
          <p:cNvSpPr/>
          <p:nvPr/>
        </p:nvSpPr>
        <p:spPr>
          <a:xfrm>
            <a:off x="7667640" y="5635800"/>
            <a:ext cx="985680" cy="42048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4ª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Ĭ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134"/>
          <p:cNvSpPr/>
          <p:nvPr/>
        </p:nvSpPr>
        <p:spPr>
          <a:xfrm>
            <a:off x="2351160" y="6093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135"/>
          <p:cNvSpPr/>
          <p:nvPr/>
        </p:nvSpPr>
        <p:spPr>
          <a:xfrm>
            <a:off x="3875040" y="609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136"/>
          <p:cNvSpPr/>
          <p:nvPr/>
        </p:nvSpPr>
        <p:spPr>
          <a:xfrm>
            <a:off x="5581800" y="609300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137"/>
          <p:cNvSpPr/>
          <p:nvPr/>
        </p:nvSpPr>
        <p:spPr>
          <a:xfrm>
            <a:off x="7667640" y="6093000"/>
            <a:ext cx="985680" cy="42048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4ª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Ī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138"/>
          <p:cNvSpPr/>
          <p:nvPr/>
        </p:nvSpPr>
        <p:spPr>
          <a:xfrm>
            <a:off x="826920" y="4724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139"/>
          <p:cNvSpPr/>
          <p:nvPr/>
        </p:nvSpPr>
        <p:spPr>
          <a:xfrm>
            <a:off x="826920" y="5203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 Box 140"/>
          <p:cNvSpPr/>
          <p:nvPr/>
        </p:nvSpPr>
        <p:spPr>
          <a:xfrm>
            <a:off x="826920" y="5635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Text Box 141"/>
          <p:cNvSpPr/>
          <p:nvPr/>
        </p:nvSpPr>
        <p:spPr>
          <a:xfrm>
            <a:off x="826920" y="609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Line 174"/>
          <p:cNvSpPr/>
          <p:nvPr/>
        </p:nvSpPr>
        <p:spPr>
          <a:xfrm>
            <a:off x="6804000" y="4437000"/>
            <a:ext cx="827280" cy="1116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Line 176"/>
          <p:cNvSpPr/>
          <p:nvPr/>
        </p:nvSpPr>
        <p:spPr>
          <a:xfrm>
            <a:off x="6804000" y="4941720"/>
            <a:ext cx="827280" cy="180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Line 177"/>
          <p:cNvSpPr/>
          <p:nvPr/>
        </p:nvSpPr>
        <p:spPr>
          <a:xfrm>
            <a:off x="6804000" y="5445000"/>
            <a:ext cx="827280" cy="180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Line 178"/>
          <p:cNvSpPr/>
          <p:nvPr/>
        </p:nvSpPr>
        <p:spPr>
          <a:xfrm>
            <a:off x="6804000" y="5877000"/>
            <a:ext cx="827280" cy="144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Line 179"/>
          <p:cNvSpPr/>
          <p:nvPr/>
        </p:nvSpPr>
        <p:spPr>
          <a:xfrm>
            <a:off x="6804000" y="6308640"/>
            <a:ext cx="827280" cy="180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Line 182"/>
          <p:cNvSpPr/>
          <p:nvPr/>
        </p:nvSpPr>
        <p:spPr>
          <a:xfrm>
            <a:off x="8101080" y="3860640"/>
            <a:ext cx="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Text Box 187"/>
          <p:cNvSpPr/>
          <p:nvPr/>
        </p:nvSpPr>
        <p:spPr>
          <a:xfrm>
            <a:off x="1042920" y="2751120"/>
            <a:ext cx="77058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Con las tres primeras formas se puede deducir la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njugación a la que pertenece dicho verbo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Text Box 188"/>
          <p:cNvSpPr/>
          <p:nvPr/>
        </p:nvSpPr>
        <p:spPr>
          <a:xfrm>
            <a:off x="1042920" y="2349360"/>
            <a:ext cx="7489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Un verbo se ENUNCIA con CINCO FORM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Text Box 189"/>
          <p:cNvSpPr/>
          <p:nvPr/>
        </p:nvSpPr>
        <p:spPr>
          <a:xfrm>
            <a:off x="1116000" y="3429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FORMAS 1ª, 2ª y 3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Text Box 190"/>
          <p:cNvSpPr/>
          <p:nvPr/>
        </p:nvSpPr>
        <p:spPr>
          <a:xfrm>
            <a:off x="900000" y="3933720"/>
            <a:ext cx="136836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1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Text Box 191"/>
          <p:cNvSpPr/>
          <p:nvPr/>
        </p:nvSpPr>
        <p:spPr>
          <a:xfrm>
            <a:off x="2411280" y="3933720"/>
            <a:ext cx="144000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2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Text Box 192"/>
          <p:cNvSpPr/>
          <p:nvPr/>
        </p:nvSpPr>
        <p:spPr>
          <a:xfrm>
            <a:off x="3924360" y="3933720"/>
            <a:ext cx="129528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Inf. Pr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ext Box 193"/>
          <p:cNvSpPr/>
          <p:nvPr/>
        </p:nvSpPr>
        <p:spPr>
          <a:xfrm>
            <a:off x="5221440" y="3454560"/>
            <a:ext cx="2089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EMA</a:t>
            </a: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 (pres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Text Box 194"/>
          <p:cNvSpPr/>
          <p:nvPr/>
        </p:nvSpPr>
        <p:spPr>
          <a:xfrm>
            <a:off x="7467480" y="3454560"/>
            <a:ext cx="1150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ONJ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Text Box 195"/>
          <p:cNvSpPr/>
          <p:nvPr/>
        </p:nvSpPr>
        <p:spPr>
          <a:xfrm>
            <a:off x="5365800" y="3925800"/>
            <a:ext cx="2087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“</a:t>
            </a: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LEX.+V.Tem.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720"/>
                            </p:stCondLst>
                            <p:childTnLst>
                              <p:par>
                                <p:cTn id="29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500"/>
                            </p:stCondLst>
                            <p:childTnLst>
                              <p:par>
                                <p:cTn id="5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500"/>
                            </p:stCondLst>
                            <p:childTnLst>
                              <p:par>
                                <p:cTn id="5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5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NUNCIADO</a:t>
            </a:r>
            <a:br>
              <a:rPr sz="3200"/>
            </a:b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L VERBO (los tres TEMA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38080" y="2362320"/>
          <a:ext cx="7837560" cy="3929040"/>
        </p:xfrm>
        <a:graphic>
          <a:graphicData uri="http://schemas.openxmlformats.org/drawingml/2006/table">
            <a:tbl>
              <a:tblPr/>
              <a:tblGrid>
                <a:gridCol w="1536840"/>
                <a:gridCol w="1525680"/>
                <a:gridCol w="1368360"/>
                <a:gridCol w="1693800"/>
                <a:gridCol w="1712880"/>
              </a:tblGrid>
              <a:tr h="7009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be5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1d043f"/>
                        </a:gs>
                        <a:gs pos="100000">
                          <a:srgbClr val="3f088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1d043f"/>
                        </a:gs>
                        <a:gs pos="100000">
                          <a:srgbClr val="3f088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1d043f"/>
                        </a:gs>
                        <a:gs pos="100000">
                          <a:srgbClr val="3f088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53"/>
          <p:cNvSpPr/>
          <p:nvPr/>
        </p:nvSpPr>
        <p:spPr>
          <a:xfrm>
            <a:off x="847800" y="3933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A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Text Box 54"/>
          <p:cNvSpPr/>
          <p:nvPr/>
        </p:nvSpPr>
        <p:spPr>
          <a:xfrm>
            <a:off x="237168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55"/>
          <p:cNvSpPr/>
          <p:nvPr/>
        </p:nvSpPr>
        <p:spPr>
          <a:xfrm>
            <a:off x="389556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56"/>
          <p:cNvSpPr/>
          <p:nvPr/>
        </p:nvSpPr>
        <p:spPr>
          <a:xfrm>
            <a:off x="534348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V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57"/>
          <p:cNvSpPr/>
          <p:nvPr/>
        </p:nvSpPr>
        <p:spPr>
          <a:xfrm>
            <a:off x="7020000" y="393372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Text Box 58"/>
          <p:cNvSpPr/>
          <p:nvPr/>
        </p:nvSpPr>
        <p:spPr>
          <a:xfrm>
            <a:off x="2351160" y="4437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Text Box 59"/>
          <p:cNvSpPr/>
          <p:nvPr/>
        </p:nvSpPr>
        <p:spPr>
          <a:xfrm>
            <a:off x="387504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60"/>
          <p:cNvSpPr/>
          <p:nvPr/>
        </p:nvSpPr>
        <p:spPr>
          <a:xfrm>
            <a:off x="5322960" y="4437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U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Text Box 61"/>
          <p:cNvSpPr/>
          <p:nvPr/>
        </p:nvSpPr>
        <p:spPr>
          <a:xfrm>
            <a:off x="6999120" y="443700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Text Box 62"/>
          <p:cNvSpPr/>
          <p:nvPr/>
        </p:nvSpPr>
        <p:spPr>
          <a:xfrm>
            <a:off x="2351160" y="491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Text Box 63"/>
          <p:cNvSpPr/>
          <p:nvPr/>
        </p:nvSpPr>
        <p:spPr>
          <a:xfrm>
            <a:off x="3875040" y="491652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Text Box 64"/>
          <p:cNvSpPr/>
          <p:nvPr/>
        </p:nvSpPr>
        <p:spPr>
          <a:xfrm>
            <a:off x="5322960" y="491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X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Text Box 65"/>
          <p:cNvSpPr/>
          <p:nvPr/>
        </p:nvSpPr>
        <p:spPr>
          <a:xfrm>
            <a:off x="6999120" y="491652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Text Box 66"/>
          <p:cNvSpPr/>
          <p:nvPr/>
        </p:nvSpPr>
        <p:spPr>
          <a:xfrm>
            <a:off x="2351160" y="53481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Text Box 67"/>
          <p:cNvSpPr/>
          <p:nvPr/>
        </p:nvSpPr>
        <p:spPr>
          <a:xfrm>
            <a:off x="3875040" y="53481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Text Box 68"/>
          <p:cNvSpPr/>
          <p:nvPr/>
        </p:nvSpPr>
        <p:spPr>
          <a:xfrm>
            <a:off x="5322960" y="53481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EP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Text Box 69"/>
          <p:cNvSpPr/>
          <p:nvPr/>
        </p:nvSpPr>
        <p:spPr>
          <a:xfrm>
            <a:off x="6999120" y="534816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Text Box 70"/>
          <p:cNvSpPr/>
          <p:nvPr/>
        </p:nvSpPr>
        <p:spPr>
          <a:xfrm>
            <a:off x="2351160" y="5805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Text Box 71"/>
          <p:cNvSpPr/>
          <p:nvPr/>
        </p:nvSpPr>
        <p:spPr>
          <a:xfrm>
            <a:off x="3875040" y="5805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Text Box 72"/>
          <p:cNvSpPr/>
          <p:nvPr/>
        </p:nvSpPr>
        <p:spPr>
          <a:xfrm>
            <a:off x="5322960" y="5805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IV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Text Box 73"/>
          <p:cNvSpPr/>
          <p:nvPr/>
        </p:nvSpPr>
        <p:spPr>
          <a:xfrm>
            <a:off x="6999120" y="5805360"/>
            <a:ext cx="18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I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Text Box 74"/>
          <p:cNvSpPr/>
          <p:nvPr/>
        </p:nvSpPr>
        <p:spPr>
          <a:xfrm>
            <a:off x="8269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Text Box 75"/>
          <p:cNvSpPr/>
          <p:nvPr/>
        </p:nvSpPr>
        <p:spPr>
          <a:xfrm>
            <a:off x="826920" y="491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Text Box 76"/>
          <p:cNvSpPr/>
          <p:nvPr/>
        </p:nvSpPr>
        <p:spPr>
          <a:xfrm>
            <a:off x="826920" y="53481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Text Box 77"/>
          <p:cNvSpPr/>
          <p:nvPr/>
        </p:nvSpPr>
        <p:spPr>
          <a:xfrm>
            <a:off x="826920" y="5805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Text Box 78"/>
          <p:cNvSpPr/>
          <p:nvPr/>
        </p:nvSpPr>
        <p:spPr>
          <a:xfrm>
            <a:off x="7956720" y="620640"/>
            <a:ext cx="24444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Text Box 79"/>
          <p:cNvSpPr/>
          <p:nvPr/>
        </p:nvSpPr>
        <p:spPr>
          <a:xfrm>
            <a:off x="4356000" y="5493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istintos temas del verb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ext Box 83"/>
          <p:cNvSpPr/>
          <p:nvPr/>
        </p:nvSpPr>
        <p:spPr>
          <a:xfrm>
            <a:off x="971640" y="2421000"/>
            <a:ext cx="76327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Del enunciado completo (cinco formas) se pueden deducir también los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RES TEMAS VERBALES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Text Box 86"/>
          <p:cNvSpPr/>
          <p:nvPr/>
        </p:nvSpPr>
        <p:spPr>
          <a:xfrm>
            <a:off x="1547640" y="3068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Tema de pres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87"/>
          <p:cNvSpPr/>
          <p:nvPr/>
        </p:nvSpPr>
        <p:spPr>
          <a:xfrm>
            <a:off x="5219640" y="3068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T.Perfec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89"/>
          <p:cNvSpPr/>
          <p:nvPr/>
        </p:nvSpPr>
        <p:spPr>
          <a:xfrm>
            <a:off x="6877080" y="30430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T.Supi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90"/>
          <p:cNvSpPr/>
          <p:nvPr/>
        </p:nvSpPr>
        <p:spPr>
          <a:xfrm>
            <a:off x="900000" y="3645000"/>
            <a:ext cx="136836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1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91"/>
          <p:cNvSpPr/>
          <p:nvPr/>
        </p:nvSpPr>
        <p:spPr>
          <a:xfrm>
            <a:off x="2411280" y="3645000"/>
            <a:ext cx="144000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2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Text Box 92"/>
          <p:cNvSpPr/>
          <p:nvPr/>
        </p:nvSpPr>
        <p:spPr>
          <a:xfrm>
            <a:off x="3924360" y="3645000"/>
            <a:ext cx="129528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Inf. Pr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Text Box 96"/>
          <p:cNvSpPr/>
          <p:nvPr/>
        </p:nvSpPr>
        <p:spPr>
          <a:xfrm>
            <a:off x="5364000" y="3645000"/>
            <a:ext cx="144000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1ª Pret. Perf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Text Box 97"/>
          <p:cNvSpPr/>
          <p:nvPr/>
        </p:nvSpPr>
        <p:spPr>
          <a:xfrm>
            <a:off x="7093080" y="3645000"/>
            <a:ext cx="143964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64c"/>
                </a:solidFill>
                <a:latin typeface="Arial"/>
              </a:rPr>
              <a:t>Supin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4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7" dur="25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LOS “TEMAS” VERBALES</a:t>
            </a:r>
            <a:br>
              <a:rPr sz="3200"/>
            </a:b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RMAS ASOCIADA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203640" y="2349360"/>
            <a:ext cx="3581280" cy="50940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e3300"/>
                </a:solidFill>
                <a:latin typeface="Times New Roman"/>
              </a:rPr>
              <a:t>TRES “TEMAS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5"/>
          <p:cNvSpPr/>
          <p:nvPr/>
        </p:nvSpPr>
        <p:spPr>
          <a:xfrm flipH="1">
            <a:off x="2410920" y="2852640"/>
            <a:ext cx="792360" cy="217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919080" y="3141720"/>
            <a:ext cx="3076560" cy="4485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Pres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5219640" y="2852640"/>
            <a:ext cx="0" cy="322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4218120" y="3141720"/>
            <a:ext cx="2514600" cy="4485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Perfe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6780240" y="2852640"/>
            <a:ext cx="1031760" cy="2174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6823080" y="3141720"/>
            <a:ext cx="2070000" cy="44856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Supi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900000" y="4270320"/>
            <a:ext cx="3311640" cy="194220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ESENTE (ind., subj., imp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MPERFECTO (ind. y subj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UTURO (ind. e impera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FINITIVO de present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presente (ac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GERUNDIO (ac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futuro (PAS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6877080" y="3824280"/>
            <a:ext cx="172728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pas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1692360" y="3608280"/>
            <a:ext cx="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5292720" y="3608280"/>
            <a:ext cx="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Line 16"/>
          <p:cNvSpPr/>
          <p:nvPr/>
        </p:nvSpPr>
        <p:spPr>
          <a:xfrm flipH="1">
            <a:off x="8028000" y="3608280"/>
            <a:ext cx="792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4427640" y="3824280"/>
            <a:ext cx="216036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 act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926640" y="3824280"/>
            <a:ext cx="140076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act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Text Box 20"/>
          <p:cNvSpPr/>
          <p:nvPr/>
        </p:nvSpPr>
        <p:spPr>
          <a:xfrm>
            <a:off x="2484360" y="3824280"/>
            <a:ext cx="172728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pas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4427640" y="4270320"/>
            <a:ext cx="4176720" cy="139356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ET. PERFECTO (indicat. y subjun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ET. PLUSCUAMPERF. (ind. Y subj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UTURO PERFECTO (indica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FINITIVO de PERFECT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PERFECTO.(PAS.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427640" y="5805360"/>
            <a:ext cx="3313080" cy="570600"/>
          </a:xfrm>
          <a:prstGeom prst="rect">
            <a:avLst/>
          </a:prstGeom>
          <a:solidFill>
            <a:srgbClr val="ffcc99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futuro (AC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UPINO (AC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Line 23"/>
          <p:cNvSpPr/>
          <p:nvPr/>
        </p:nvSpPr>
        <p:spPr>
          <a:xfrm>
            <a:off x="8820000" y="3645000"/>
            <a:ext cx="0" cy="2448000"/>
          </a:xfrm>
          <a:prstGeom prst="line">
            <a:avLst/>
          </a:prstGeom>
          <a:ln w="63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Line 24"/>
          <p:cNvSpPr/>
          <p:nvPr/>
        </p:nvSpPr>
        <p:spPr>
          <a:xfrm flipH="1">
            <a:off x="7848720" y="6093000"/>
            <a:ext cx="971280" cy="0"/>
          </a:xfrm>
          <a:prstGeom prst="line">
            <a:avLst/>
          </a:prstGeom>
          <a:ln w="63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Line 30"/>
          <p:cNvSpPr/>
          <p:nvPr/>
        </p:nvSpPr>
        <p:spPr>
          <a:xfrm>
            <a:off x="3203640" y="3608280"/>
            <a:ext cx="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0"/>
                            </p:stCondLst>
                            <p:childTnLst>
                              <p:par>
                                <p:cTn id="90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0"/>
                            </p:stCondLst>
                            <p:childTnLst>
                              <p:par>
                                <p:cTn id="91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0"/>
                            </p:stCondLst>
                            <p:childTnLst>
                              <p:par>
                                <p:cTn id="9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0"/>
                            </p:stCondLst>
                            <p:childTnLst>
                              <p:par>
                                <p:cTn id="9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4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6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7:14:17Z</dcterms:created>
  <dc:creator>Jaime Morente Heredia</dc:creator>
  <dc:description/>
  <dc:language>en-US</dc:language>
  <cp:lastModifiedBy>AUDIOLEASK</cp:lastModifiedBy>
  <dcterms:modified xsi:type="dcterms:W3CDTF">2012-12-03T14:30:16Z</dcterms:modified>
  <cp:revision>59</cp:revision>
  <dc:subject/>
  <dc:title>MORFOLOGÍA</dc:title>
</cp:coreProperties>
</file>