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3EB-E410-4AA9-AC72-747CDFBA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432-57EA-4A9E-AF90-96FA6EDF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F31-D1F8-4422-9997-2A3EB418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AB9-3D3B-4A3C-BD29-1403A91E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89D-36DF-4EB9-AE25-54AACA4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5E9-2F36-4ACF-8FE3-212D25CE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E2C-B229-4C90-BFB5-C4C63EDF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D35-1E6E-44C7-B231-9AA94C4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48C-C11A-4FF1-BDCA-8C2D522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A6D-5DB0-43C2-8095-021E788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4C5-F107-423D-B3CF-3CF812A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272-78D2-4D83-9429-204F4B4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9F1-173D-43B8-91D0-FBC977A7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REGLAS FONÉTICA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2920" cy="6849360"/>
        </p:xfrm>
        <a:graphic>
          <a:graphicData uri="http://schemas.openxmlformats.org/drawingml/2006/table">
            <a:tbl>
              <a:tblPr/>
              <a:tblGrid>
                <a:gridCol w="9142920"/>
              </a:tblGrid>
              <a:tr h="68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OLUCIÓN DEL VOCALISMO LATIN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Vocales latinas no finales acentuad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2060640"/>
          <a:ext cx="8178840" cy="3954240"/>
        </p:xfrm>
        <a:graphic>
          <a:graphicData uri="http://schemas.openxmlformats.org/drawingml/2006/table">
            <a:tbl>
              <a:tblPr/>
              <a:tblGrid>
                <a:gridCol w="1835280"/>
                <a:gridCol w="1500120"/>
                <a:gridCol w="1614600"/>
                <a:gridCol w="1614240"/>
                <a:gridCol w="161460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î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i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e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am&gt; tier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igo&gt; nav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em&gt;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pum&gt;l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8675640" cy="6383160"/>
        </p:xfrm>
        <a:graphic>
          <a:graphicData uri="http://schemas.openxmlformats.org/drawingml/2006/table">
            <a:tbl>
              <a:tblPr/>
              <a:tblGrid>
                <a:gridCol w="2335320"/>
                <a:gridCol w="1447920"/>
                <a:gridCol w="2446200"/>
                <a:gridCol w="2446200"/>
              </a:tblGrid>
              <a:tr h="1295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ptongos latin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Latí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u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a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o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Españo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News Gothic MT"/>
                          <a:ea typeface="Times New Roman"/>
                        </a:rPr>
                        <a:t> 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/ -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99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rum&gt; 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dificium&gt;aedif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elum&gt;ciel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enam&gt;p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1039680" y="338040"/>
          <a:ext cx="11123640" cy="850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9680" y="338040"/>
                    <a:ext cx="11123640" cy="85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19280" y="6308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vigo&gt; nav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6950160" y="1341360"/>
          <a:ext cx="22990320" cy="41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50160" y="1341360"/>
                    <a:ext cx="229903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dum&gt;caldo       nebulam&gt;niebla         nobilem&gt;no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750960" y="399960"/>
          <a:ext cx="10069560" cy="643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0960" y="399960"/>
                    <a:ext cx="1006956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58920" y="59500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alem&gt;sal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2:34:05Z</dcterms:created>
  <dc:creator>App</dc:creator>
  <dc:description/>
  <dc:language>en-US</dc:language>
  <cp:lastModifiedBy>Alumno</cp:lastModifiedBy>
  <dcterms:modified xsi:type="dcterms:W3CDTF">2012-11-28T02:49:05Z</dcterms:modified>
  <cp:revision>5</cp:revision>
  <dc:subject/>
  <dc:title>Diapositiva 1</dc:title>
</cp:coreProperties>
</file>