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606-4C8F-4FFB-8468-08E99C04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716-D1D9-4591-9D66-CEF7306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69E-0DFF-41A9-A46A-36D65DC8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A0C-0E99-40E3-874D-05B94D96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AB2-C7E7-41C9-BDB1-F762AF4B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822-F3C5-4542-B923-1AC9D02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07C-6C96-43F9-B09A-386768A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B01-26CA-4951-B7C6-A8171F8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181-CB56-4C55-B1D5-5101E687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1D1-5038-4293-8C26-3CFE02E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A70-B6B5-4A0A-A449-24E922F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BE9-75DC-4886-A16C-08F7721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41E-B8EC-4849-B24F-7FDDCFEC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REGLAS FONÉTICA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2920" cy="6849360"/>
        </p:xfrm>
        <a:graphic>
          <a:graphicData uri="http://schemas.openxmlformats.org/drawingml/2006/table">
            <a:tbl>
              <a:tblPr/>
              <a:tblGrid>
                <a:gridCol w="9142920"/>
              </a:tblGrid>
              <a:tr h="68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CIÓN DEL VOCALISMO LATIN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Vocales latinas no finales acentuad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2060640"/>
          <a:ext cx="8178840" cy="3954240"/>
        </p:xfrm>
        <a:graphic>
          <a:graphicData uri="http://schemas.openxmlformats.org/drawingml/2006/table">
            <a:tbl>
              <a:tblPr/>
              <a:tblGrid>
                <a:gridCol w="1835280"/>
                <a:gridCol w="1500120"/>
                <a:gridCol w="1614600"/>
                <a:gridCol w="1614240"/>
                <a:gridCol w="161460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î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m&gt; tier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igo&gt; nav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em&gt;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pum&gt;l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8675640" cy="6383160"/>
        </p:xfrm>
        <a:graphic>
          <a:graphicData uri="http://schemas.openxmlformats.org/drawingml/2006/table">
            <a:tbl>
              <a:tblPr/>
              <a:tblGrid>
                <a:gridCol w="2335320"/>
                <a:gridCol w="1447920"/>
                <a:gridCol w="2446200"/>
                <a:gridCol w="2446200"/>
              </a:tblGrid>
              <a:tr h="1295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ptongos lati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u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o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 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/ -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rum&gt; 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dificium&gt;aedi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lum&gt;ciel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enam&gt;p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39680" y="338040"/>
          <a:ext cx="11123640" cy="850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9680" y="338040"/>
                    <a:ext cx="11123640" cy="85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19280" y="6308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vigo&gt; nav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6950160" y="1341360"/>
          <a:ext cx="2299032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50160" y="1341360"/>
                    <a:ext cx="229903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dum&gt;caldo       nebulam&gt;niebla         nobilem&gt;n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750960" y="399960"/>
          <a:ext cx="10069560" cy="643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0960" y="399960"/>
                    <a:ext cx="100695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58920" y="59500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alem&gt;sal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2:34:05Z</dcterms:created>
  <dc:creator>App</dc:creator>
  <dc:description/>
  <dc:language>en-US</dc:language>
  <cp:lastModifiedBy>Alumno</cp:lastModifiedBy>
  <dcterms:modified xsi:type="dcterms:W3CDTF">2012-11-28T02:49:05Z</dcterms:modified>
  <cp:revision>5</cp:revision>
  <dc:subject/>
  <dc:title>Diapositiva 1</dc:title>
</cp:coreProperties>
</file>