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DC2E5-266C-4678-8335-F2C73C39D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31DCA-5E47-48B7-B54C-067DD0824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DFAB0-D625-41F0-B527-69A6E5F1F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6F7F1-CC8A-414E-9B17-99F285318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CD828-292F-4FBD-B3D1-24DD87517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7D2BF-1F4A-448A-B33D-F4109B1E7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2F111-3C92-492E-85F1-F0FC34DE4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E2535-0143-454A-9FD9-E5B7487A2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24565-4464-412A-B731-6EB5E477A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D4023-0FD7-41AE-BA5C-62985A839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4BB60-B5ED-4558-B787-D14715116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0DB09-A89B-4129-8A25-CE43A9E3D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A73F4-01DC-4AB2-8C0D-EC83F165D8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9144000" cy="681372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6813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4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S REGLAS FONÉTICAS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solidFill>
                      <a:srgbClr val="00ff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" name=""/>
          <p:cNvGraphicFramePr/>
          <p:nvPr/>
        </p:nvGraphicFramePr>
        <p:xfrm>
          <a:off x="0" y="0"/>
          <a:ext cx="9142920" cy="6849360"/>
        </p:xfrm>
        <a:graphic>
          <a:graphicData uri="http://schemas.openxmlformats.org/drawingml/2006/table">
            <a:tbl>
              <a:tblPr/>
              <a:tblGrid>
                <a:gridCol w="9142920"/>
              </a:tblGrid>
              <a:tr h="68493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4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VOLUCIÓN DEL VOCALISMO LATINO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00ff"/>
                      </a:solidFill>
                    </a:lnL>
                    <a:lnR w="5760">
                      <a:solidFill>
                        <a:srgbClr val="ff00ff"/>
                      </a:solidFill>
                    </a:lnR>
                    <a:lnT w="5760">
                      <a:solidFill>
                        <a:srgbClr val="ff00ff"/>
                      </a:solidFill>
                    </a:lnT>
                    <a:lnB w="5760">
                      <a:solidFill>
                        <a:srgbClr val="ff00ff"/>
                      </a:solidFill>
                    </a:lnB>
                    <a:solidFill>
                      <a:srgbClr val="ffcc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Arial"/>
                <a:ea typeface="Times New Roman"/>
              </a:rPr>
              <a:t>Vocales latinas no finales acentuada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95280" y="2060640"/>
          <a:ext cx="8178840" cy="3954240"/>
        </p:xfrm>
        <a:graphic>
          <a:graphicData uri="http://schemas.openxmlformats.org/drawingml/2006/table">
            <a:tbl>
              <a:tblPr/>
              <a:tblGrid>
                <a:gridCol w="1835280"/>
                <a:gridCol w="1500120"/>
                <a:gridCol w="1614600"/>
                <a:gridCol w="1614240"/>
                <a:gridCol w="1614600"/>
              </a:tblGrid>
              <a:tr h="1297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3600" spc="-1" strike="noStrike">
                          <a:solidFill>
                            <a:srgbClr val="000000"/>
                          </a:solidFill>
                          <a:latin typeface="News Gothic MT"/>
                          <a:ea typeface="Times New Roman"/>
                        </a:rPr>
                        <a:t>Latín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3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e-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3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î-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3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o-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3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 </a:t>
                      </a:r>
                      <a:r>
                        <a:rPr b="0" lang="es-ES_tradnl" sz="3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u-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ff9933"/>
                    </a:solidFill>
                  </a:tcPr>
                </a:tc>
              </a:tr>
              <a:tr h="13287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3600" spc="-1" strike="noStrike">
                          <a:solidFill>
                            <a:srgbClr val="000000"/>
                          </a:solidFill>
                          <a:latin typeface="News Gothic MT"/>
                          <a:ea typeface="Times New Roman"/>
                        </a:rPr>
                        <a:t>Español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3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s-ES_tradnl" sz="3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ie-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3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e-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3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ue-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3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s-ES_tradnl" sz="3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o-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ff9933"/>
                    </a:solidFill>
                  </a:tcPr>
                </a:tc>
              </a:tr>
              <a:tr h="13284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3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jemplo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erram&gt; tierr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avigo&gt; naveg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ontem&gt; fuen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upum&gt;lob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ff993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179280" y="189000"/>
          <a:ext cx="8675640" cy="6383160"/>
        </p:xfrm>
        <a:graphic>
          <a:graphicData uri="http://schemas.openxmlformats.org/drawingml/2006/table">
            <a:tbl>
              <a:tblPr/>
              <a:tblGrid>
                <a:gridCol w="2335320"/>
                <a:gridCol w="1447920"/>
                <a:gridCol w="2446200"/>
                <a:gridCol w="2446200"/>
              </a:tblGrid>
              <a:tr h="129528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40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Diptongos latinos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ff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350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4000" spc="-1" strike="noStrike">
                          <a:solidFill>
                            <a:srgbClr val="000000"/>
                          </a:solidFill>
                          <a:latin typeface="News Gothic MT"/>
                          <a:ea typeface="Times New Roman"/>
                        </a:rPr>
                        <a:t>Latín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4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-au</a:t>
                      </a:r>
                      <a:r>
                        <a:rPr b="0" lang="es-ES_tradnl" sz="4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4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-ae-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4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-oe-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ff9933"/>
                    </a:solidFill>
                  </a:tcPr>
                </a:tc>
              </a:tr>
              <a:tr h="15606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4000" spc="-1" strike="noStrike">
                          <a:solidFill>
                            <a:srgbClr val="000000"/>
                          </a:solidFill>
                          <a:latin typeface="News Gothic MT"/>
                          <a:ea typeface="Times New Roman"/>
                        </a:rPr>
                        <a:t>Español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4000" spc="-1" strike="noStrike">
                          <a:solidFill>
                            <a:srgbClr val="000000"/>
                          </a:solidFill>
                          <a:latin typeface="News Gothic MT"/>
                          <a:ea typeface="Times New Roman"/>
                        </a:rPr>
                        <a:t> </a:t>
                      </a:r>
                      <a:r>
                        <a:rPr b="0" lang="es-ES_tradnl" sz="4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o-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4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s-ES_tradnl" sz="4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e-/ -i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4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e-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ff9933"/>
                    </a:solidFill>
                  </a:tcPr>
                </a:tc>
              </a:tr>
              <a:tr h="1992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4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jemplo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urum&gt; or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edificium&gt;aedific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aelum&gt;cielo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enam&gt;pe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ff993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-1039680" y="338040"/>
          <a:ext cx="11123640" cy="8506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039680" y="338040"/>
                    <a:ext cx="11123640" cy="850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"/>
          <p:cNvSpPr/>
          <p:nvPr/>
        </p:nvSpPr>
        <p:spPr>
          <a:xfrm>
            <a:off x="1619280" y="6308640"/>
            <a:ext cx="655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050920" y="6308640"/>
            <a:ext cx="597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Navigo&gt; nave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-6950160" y="1341360"/>
          <a:ext cx="22990320" cy="4146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6950160" y="1341360"/>
                    <a:ext cx="22990320" cy="414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" name=""/>
          <p:cNvSpPr/>
          <p:nvPr/>
        </p:nvSpPr>
        <p:spPr>
          <a:xfrm>
            <a:off x="0" y="530064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alidum&gt;caldo       nebulam&gt;niebla         nobilem&gt;no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-750960" y="399960"/>
          <a:ext cx="10069560" cy="6437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750960" y="399960"/>
                    <a:ext cx="10069560" cy="643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1258920" y="5950080"/>
            <a:ext cx="7129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Salem&gt;sal     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6T22:34:05Z</dcterms:created>
  <dc:creator>App</dc:creator>
  <dc:description/>
  <dc:language>en-US</dc:language>
  <cp:lastModifiedBy>Alumno</cp:lastModifiedBy>
  <dcterms:modified xsi:type="dcterms:W3CDTF">2012-11-28T02:49:05Z</dcterms:modified>
  <cp:revision>5</cp:revision>
  <dc:subject/>
  <dc:title>Diapositiva 1</dc:title>
</cp:coreProperties>
</file>