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DD0-2004-4A40-96AD-824CA41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FD2-C659-4517-A330-28BC629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6D-D494-4B9F-A196-17D97759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2CD-BFD1-421E-AB8C-50E95355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015-5E0B-41CD-A58F-7D8D018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8D6-997A-4F6D-A018-DD01766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B00-A22A-4BF8-A16A-77ACCB5D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C4B-F621-484C-BD3E-3FC598DC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A28-0933-4951-902E-FD2B9B8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0B7-9A03-4F88-930E-88FC77C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C13-F1A3-43C7-952D-35F0D99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038-014E-457A-9733-E2EBDEE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EEF-4771-4403-96F8-6B25958A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REGLAS FONÉTICA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2920" cy="6849360"/>
        </p:xfrm>
        <a:graphic>
          <a:graphicData uri="http://schemas.openxmlformats.org/drawingml/2006/table">
            <a:tbl>
              <a:tblPr/>
              <a:tblGrid>
                <a:gridCol w="9142920"/>
              </a:tblGrid>
              <a:tr h="68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CIÓN DEL VOCALISMO LATIN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Vocales latinas no finales acentuad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2060640"/>
          <a:ext cx="8178840" cy="3954240"/>
        </p:xfrm>
        <a:graphic>
          <a:graphicData uri="http://schemas.openxmlformats.org/drawingml/2006/table">
            <a:tbl>
              <a:tblPr/>
              <a:tblGrid>
                <a:gridCol w="1835280"/>
                <a:gridCol w="1500120"/>
                <a:gridCol w="1614600"/>
                <a:gridCol w="1614240"/>
                <a:gridCol w="161460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î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m&gt; tier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igo&gt; nav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em&gt;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pum&gt;l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8675640" cy="6383160"/>
        </p:xfrm>
        <a:graphic>
          <a:graphicData uri="http://schemas.openxmlformats.org/drawingml/2006/table">
            <a:tbl>
              <a:tblPr/>
              <a:tblGrid>
                <a:gridCol w="2335320"/>
                <a:gridCol w="1447920"/>
                <a:gridCol w="2446200"/>
                <a:gridCol w="2446200"/>
              </a:tblGrid>
              <a:tr h="1295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ptongos lati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u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o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 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/ -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rum&gt; 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dificium&gt;aedi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lum&gt;ciel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enam&gt;p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39680" y="338040"/>
          <a:ext cx="11123640" cy="850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9680" y="338040"/>
                    <a:ext cx="11123640" cy="85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19280" y="6308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vigo&gt; nav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6950160" y="1341360"/>
          <a:ext cx="2299032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50160" y="1341360"/>
                    <a:ext cx="229903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dum&gt;caldo       nebulam&gt;niebla         nobilem&gt;n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750960" y="399960"/>
          <a:ext cx="10069560" cy="643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0960" y="399960"/>
                    <a:ext cx="100695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58920" y="59500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alem&gt;sal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2:34:05Z</dcterms:created>
  <dc:creator>App</dc:creator>
  <dc:description/>
  <dc:language>en-US</dc:language>
  <cp:lastModifiedBy>Alumno</cp:lastModifiedBy>
  <dcterms:modified xsi:type="dcterms:W3CDTF">2012-11-28T02:49:05Z</dcterms:modified>
  <cp:revision>5</cp:revision>
  <dc:subject/>
  <dc:title>Diapositiva 1</dc:title>
</cp:coreProperties>
</file>