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135-C1E0-490C-AAFA-C38688DA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CA3-91D7-4DD1-9B53-C5DAF1A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B2C-AB42-473C-ABC1-87AF0786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77C-0E46-4B40-B5D1-A6C5191E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B7F6-85B9-4586-9665-6AD91A92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74F-C7F3-48CA-A25C-1CD41EC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D84A-0890-4458-8413-94746D57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B984-D5B2-4E92-A17F-31A44668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0734-0850-4E25-A83E-B3FCF422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849A-8DC8-4DB1-9138-44E94C9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A70C-643D-43A9-8B43-938086E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729-EAFD-43BA-8395-3DE7893F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689-71D3-4FAD-BB78-CC36F49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E6C8-5BD2-4F12-9361-360283F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89EF-AA38-4703-BB34-744934C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03A4-A6DF-4D00-9775-C5ECBAF8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F629-ED05-42B6-9A77-A8C7B406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ECC-E8B2-478E-A4A0-F6514096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726-7B40-41A9-98CE-7738D66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8CD-7105-42D5-9100-A50FD02A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622-67C7-4E89-AF89-BB80F273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937-176E-4776-8BF7-439DBBA6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5B9-EB58-471F-A9CF-660D3CD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D11-4873-4113-AE11-F76D855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88F-A106-4BB3-8D97-1B64182E27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ED6D-8058-4A3C-A96A-2A67F13F1E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ISTINGUIR LAS CONJUGACIONES</a:t>
            </a:r>
            <a:br>
              <a:rPr sz="2800"/>
            </a:b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Y LOS TEMAS DEL VERBO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Para distinguir la conjugación del verbo debemos partir siempre d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enunciado del verbo</a:t>
            </a: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80640" y="67104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terminar la conjugación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8"/>
          <p:cNvGrpSpPr/>
          <p:nvPr/>
        </p:nvGrpSpPr>
        <p:grpSpPr>
          <a:xfrm>
            <a:off x="642960" y="3143160"/>
            <a:ext cx="8214480" cy="2546280"/>
            <a:chOff x="642960" y="3143160"/>
            <a:chExt cx="8214480" cy="2546280"/>
          </a:xfrm>
        </p:grpSpPr>
        <p:grpSp>
          <p:nvGrpSpPr>
            <p:cNvPr id="216" name="Group 59"/>
            <p:cNvGrpSpPr/>
            <p:nvPr/>
          </p:nvGrpSpPr>
          <p:grpSpPr>
            <a:xfrm>
              <a:off x="654120" y="3146040"/>
              <a:ext cx="8190720" cy="2540520"/>
              <a:chOff x="654120" y="3146040"/>
              <a:chExt cx="8190720" cy="2540520"/>
            </a:xfrm>
          </p:grpSpPr>
          <p:grpSp>
            <p:nvGrpSpPr>
              <p:cNvPr id="217" name="Group 60"/>
              <p:cNvGrpSpPr/>
              <p:nvPr/>
            </p:nvGrpSpPr>
            <p:grpSpPr>
              <a:xfrm>
                <a:off x="654120" y="3146040"/>
                <a:ext cx="1060920" cy="507960"/>
                <a:chOff x="654120" y="3146040"/>
                <a:chExt cx="1060920" cy="50796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654120" y="314604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19" name="Group 62"/>
                <p:cNvGrpSpPr/>
                <p:nvPr/>
              </p:nvGrpSpPr>
              <p:grpSpPr>
                <a:xfrm>
                  <a:off x="654120" y="3146040"/>
                  <a:ext cx="1060200" cy="507960"/>
                  <a:chOff x="654120" y="3146040"/>
                  <a:chExt cx="1060200" cy="507960"/>
                </a:xfrm>
              </p:grpSpPr>
              <p:sp>
                <p:nvSpPr>
                  <p:cNvPr id="220" name="Rectangle 63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Rectangle 64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2" name="Group 65"/>
              <p:cNvGrpSpPr/>
              <p:nvPr/>
            </p:nvGrpSpPr>
            <p:grpSpPr>
              <a:xfrm>
                <a:off x="1715760" y="3146040"/>
                <a:ext cx="7129080" cy="507960"/>
                <a:chOff x="1715760" y="3146040"/>
                <a:chExt cx="7129080" cy="507960"/>
              </a:xfrm>
            </p:grpSpPr>
            <p:sp>
              <p:nvSpPr>
                <p:cNvPr id="223" name="Rectangle 66"/>
                <p:cNvSpPr/>
                <p:nvPr/>
              </p:nvSpPr>
              <p:spPr>
                <a:xfrm>
                  <a:off x="1715760" y="314604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4" name="Group 67"/>
                <p:cNvGrpSpPr/>
                <p:nvPr/>
              </p:nvGrpSpPr>
              <p:grpSpPr>
                <a:xfrm>
                  <a:off x="1715760" y="3146040"/>
                  <a:ext cx="7128360" cy="507960"/>
                  <a:chOff x="1715760" y="3146040"/>
                  <a:chExt cx="7128360" cy="507960"/>
                </a:xfrm>
              </p:grpSpPr>
              <p:sp>
                <p:nvSpPr>
                  <p:cNvPr id="225" name="Rectangle 68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o,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-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avi, ama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6" name="Rectangle 69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7" name="Group 70"/>
              <p:cNvGrpSpPr/>
              <p:nvPr/>
            </p:nvGrpSpPr>
            <p:grpSpPr>
              <a:xfrm>
                <a:off x="654120" y="3654000"/>
                <a:ext cx="1060920" cy="507960"/>
                <a:chOff x="654120" y="3654000"/>
                <a:chExt cx="1060920" cy="507960"/>
              </a:xfrm>
            </p:grpSpPr>
            <p:sp>
              <p:nvSpPr>
                <p:cNvPr id="228" name="Rectangle 71"/>
                <p:cNvSpPr/>
                <p:nvPr/>
              </p:nvSpPr>
              <p:spPr>
                <a:xfrm>
                  <a:off x="654120" y="36540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9" name="Group 72"/>
                <p:cNvGrpSpPr/>
                <p:nvPr/>
              </p:nvGrpSpPr>
              <p:grpSpPr>
                <a:xfrm>
                  <a:off x="654120" y="3654000"/>
                  <a:ext cx="1060200" cy="507960"/>
                  <a:chOff x="654120" y="3654000"/>
                  <a:chExt cx="1060200" cy="507960"/>
                </a:xfrm>
              </p:grpSpPr>
              <p:sp>
                <p:nvSpPr>
                  <p:cNvPr id="230" name="Rectangle 73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1" name="Rectangle 74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2" name="Group 75"/>
              <p:cNvGrpSpPr/>
              <p:nvPr/>
            </p:nvGrpSpPr>
            <p:grpSpPr>
              <a:xfrm>
                <a:off x="1715760" y="3654000"/>
                <a:ext cx="7129080" cy="507960"/>
                <a:chOff x="1715760" y="3654000"/>
                <a:chExt cx="7129080" cy="50796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715760" y="36540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4" name="Group 77"/>
                <p:cNvGrpSpPr/>
                <p:nvPr/>
              </p:nvGrpSpPr>
              <p:grpSpPr>
                <a:xfrm>
                  <a:off x="1715760" y="3654000"/>
                  <a:ext cx="7128360" cy="507960"/>
                  <a:chOff x="1715760" y="3654000"/>
                  <a:chExt cx="7128360" cy="507960"/>
                </a:xfrm>
              </p:grpSpPr>
              <p:sp>
                <p:nvSpPr>
                  <p:cNvPr id="235" name="Rectangle 78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Rectangle 79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7" name="Group 80"/>
              <p:cNvGrpSpPr/>
              <p:nvPr/>
            </p:nvGrpSpPr>
            <p:grpSpPr>
              <a:xfrm>
                <a:off x="654120" y="4161960"/>
                <a:ext cx="1060920" cy="507960"/>
                <a:chOff x="654120" y="4161960"/>
                <a:chExt cx="1060920" cy="507960"/>
              </a:xfrm>
            </p:grpSpPr>
            <p:sp>
              <p:nvSpPr>
                <p:cNvPr id="238" name="Rectangle 81"/>
                <p:cNvSpPr/>
                <p:nvPr/>
              </p:nvSpPr>
              <p:spPr>
                <a:xfrm>
                  <a:off x="654120" y="416196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9" name="Group 82"/>
                <p:cNvGrpSpPr/>
                <p:nvPr/>
              </p:nvGrpSpPr>
              <p:grpSpPr>
                <a:xfrm>
                  <a:off x="654120" y="4161960"/>
                  <a:ext cx="1060200" cy="507960"/>
                  <a:chOff x="654120" y="4161960"/>
                  <a:chExt cx="1060200" cy="507960"/>
                </a:xfrm>
              </p:grpSpPr>
              <p:sp>
                <p:nvSpPr>
                  <p:cNvPr id="240" name="Rectangle 83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Rectangle 84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2" name="Group 85"/>
              <p:cNvGrpSpPr/>
              <p:nvPr/>
            </p:nvGrpSpPr>
            <p:grpSpPr>
              <a:xfrm>
                <a:off x="1715760" y="4161960"/>
                <a:ext cx="7129080" cy="507960"/>
                <a:chOff x="1715760" y="4161960"/>
                <a:chExt cx="7129080" cy="507960"/>
              </a:xfrm>
            </p:grpSpPr>
            <p:sp>
              <p:nvSpPr>
                <p:cNvPr id="243" name="Rectangle 86"/>
                <p:cNvSpPr/>
                <p:nvPr/>
              </p:nvSpPr>
              <p:spPr>
                <a:xfrm>
                  <a:off x="1715760" y="416196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4" name="Group 87"/>
                <p:cNvGrpSpPr/>
                <p:nvPr/>
              </p:nvGrpSpPr>
              <p:grpSpPr>
                <a:xfrm>
                  <a:off x="1715760" y="4161960"/>
                  <a:ext cx="7128360" cy="507960"/>
                  <a:chOff x="1715760" y="4161960"/>
                  <a:chExt cx="7128360" cy="507960"/>
                </a:xfrm>
              </p:grpSpPr>
              <p:sp>
                <p:nvSpPr>
                  <p:cNvPr id="245" name="Rectangle 88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o, 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Rectangle 89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7" name="Group 90"/>
              <p:cNvGrpSpPr/>
              <p:nvPr/>
            </p:nvGrpSpPr>
            <p:grpSpPr>
              <a:xfrm>
                <a:off x="654120" y="4670280"/>
                <a:ext cx="1060920" cy="507960"/>
                <a:chOff x="654120" y="4670280"/>
                <a:chExt cx="1060920" cy="507960"/>
              </a:xfrm>
            </p:grpSpPr>
            <p:sp>
              <p:nvSpPr>
                <p:cNvPr id="248" name="Rectangle 91"/>
                <p:cNvSpPr/>
                <p:nvPr/>
              </p:nvSpPr>
              <p:spPr>
                <a:xfrm>
                  <a:off x="654120" y="467028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92"/>
                <p:cNvGrpSpPr/>
                <p:nvPr/>
              </p:nvGrpSpPr>
              <p:grpSpPr>
                <a:xfrm>
                  <a:off x="654120" y="4670280"/>
                  <a:ext cx="1060200" cy="507960"/>
                  <a:chOff x="654120" y="4670280"/>
                  <a:chExt cx="1060200" cy="507960"/>
                </a:xfrm>
              </p:grpSpPr>
              <p:sp>
                <p:nvSpPr>
                  <p:cNvPr id="250" name="Rectangle 93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1" name="Rectangle 94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2" name="Group 95"/>
              <p:cNvGrpSpPr/>
              <p:nvPr/>
            </p:nvGrpSpPr>
            <p:grpSpPr>
              <a:xfrm>
                <a:off x="1715760" y="4670280"/>
                <a:ext cx="7129080" cy="507960"/>
                <a:chOff x="1715760" y="4670280"/>
                <a:chExt cx="7129080" cy="507960"/>
              </a:xfrm>
            </p:grpSpPr>
            <p:sp>
              <p:nvSpPr>
                <p:cNvPr id="253" name="Rectangle 96"/>
                <p:cNvSpPr/>
                <p:nvPr/>
              </p:nvSpPr>
              <p:spPr>
                <a:xfrm>
                  <a:off x="1715760" y="467028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4" name="Group 97"/>
                <p:cNvGrpSpPr/>
                <p:nvPr/>
              </p:nvGrpSpPr>
              <p:grpSpPr>
                <a:xfrm>
                  <a:off x="1715760" y="4670280"/>
                  <a:ext cx="7128360" cy="507960"/>
                  <a:chOff x="1715760" y="4670280"/>
                  <a:chExt cx="7128360" cy="507960"/>
                </a:xfrm>
              </p:grpSpPr>
              <p:sp>
                <p:nvSpPr>
                  <p:cNvPr id="255" name="Rectangle 98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ivi, aud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" name="Rectangle 99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7" name="Group 100"/>
              <p:cNvGrpSpPr/>
              <p:nvPr/>
            </p:nvGrpSpPr>
            <p:grpSpPr>
              <a:xfrm>
                <a:off x="654120" y="5178600"/>
                <a:ext cx="1060920" cy="507960"/>
                <a:chOff x="654120" y="5178600"/>
                <a:chExt cx="1060920" cy="507960"/>
              </a:xfrm>
            </p:grpSpPr>
            <p:sp>
              <p:nvSpPr>
                <p:cNvPr id="258" name="Rectangle 101"/>
                <p:cNvSpPr/>
                <p:nvPr/>
              </p:nvSpPr>
              <p:spPr>
                <a:xfrm>
                  <a:off x="654120" y="51786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9" name="Group 102"/>
                <p:cNvGrpSpPr/>
                <p:nvPr/>
              </p:nvGrpSpPr>
              <p:grpSpPr>
                <a:xfrm>
                  <a:off x="654120" y="5178600"/>
                  <a:ext cx="1060200" cy="507960"/>
                  <a:chOff x="654120" y="5178600"/>
                  <a:chExt cx="1060200" cy="507960"/>
                </a:xfrm>
              </p:grpSpPr>
              <p:sp>
                <p:nvSpPr>
                  <p:cNvPr id="260" name="Rectangle 103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1" name="Rectangle 104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62" name="Group 105"/>
              <p:cNvGrpSpPr/>
              <p:nvPr/>
            </p:nvGrpSpPr>
            <p:grpSpPr>
              <a:xfrm>
                <a:off x="1715760" y="5178600"/>
                <a:ext cx="7129080" cy="507960"/>
                <a:chOff x="1715760" y="5178600"/>
                <a:chExt cx="7129080" cy="507960"/>
              </a:xfrm>
            </p:grpSpPr>
            <p:sp>
              <p:nvSpPr>
                <p:cNvPr id="263" name="Rectangle 106"/>
                <p:cNvSpPr/>
                <p:nvPr/>
              </p:nvSpPr>
              <p:spPr>
                <a:xfrm>
                  <a:off x="1715760" y="51786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4" name="Group 107"/>
                <p:cNvGrpSpPr/>
                <p:nvPr/>
              </p:nvGrpSpPr>
              <p:grpSpPr>
                <a:xfrm>
                  <a:off x="1715760" y="5178600"/>
                  <a:ext cx="7128360" cy="507960"/>
                  <a:chOff x="1715760" y="5178600"/>
                  <a:chExt cx="7128360" cy="507960"/>
                </a:xfrm>
              </p:grpSpPr>
              <p:sp>
                <p:nvSpPr>
                  <p:cNvPr id="265" name="Rectangle 108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Rectangle 109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67" name="Rectangle 110"/>
            <p:cNvSpPr/>
            <p:nvPr/>
          </p:nvSpPr>
          <p:spPr>
            <a:xfrm>
              <a:off x="642960" y="3143160"/>
              <a:ext cx="8214480" cy="2546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" name="Group 114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269" name="AutoShape 112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AutoShape 113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Text Box 111"/>
          <p:cNvSpPr/>
          <p:nvPr/>
        </p:nvSpPr>
        <p:spPr>
          <a:xfrm>
            <a:off x="1000080" y="250020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Tendremos en cuenta las formas que aparecen en color amarillo en cada enunci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Sacar la raíz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 verbo tiene tres raíces temáticas o tem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85840" y="2714760"/>
            <a:ext cx="8571960" cy="2927880"/>
            <a:chOff x="285840" y="2714760"/>
            <a:chExt cx="8571960" cy="2927880"/>
          </a:xfrm>
        </p:grpSpPr>
        <p:grpSp>
          <p:nvGrpSpPr>
            <p:cNvPr id="276" name="Group 35"/>
            <p:cNvGrpSpPr/>
            <p:nvPr/>
          </p:nvGrpSpPr>
          <p:grpSpPr>
            <a:xfrm>
              <a:off x="291240" y="2730960"/>
              <a:ext cx="8560440" cy="2892600"/>
              <a:chOff x="291240" y="2730960"/>
              <a:chExt cx="8560440" cy="289260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291240" y="2730960"/>
                <a:ext cx="2138040" cy="963360"/>
                <a:chOff x="291240" y="2730960"/>
                <a:chExt cx="2138040" cy="963360"/>
              </a:xfrm>
            </p:grpSpPr>
            <p:sp>
              <p:nvSpPr>
                <p:cNvPr id="278" name="Rectangle 13"/>
                <p:cNvSpPr/>
                <p:nvPr/>
              </p:nvSpPr>
              <p:spPr>
                <a:xfrm>
                  <a:off x="291240" y="2730960"/>
                  <a:ext cx="2138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9" name="Group 12"/>
                <p:cNvGrpSpPr/>
                <p:nvPr/>
              </p:nvGrpSpPr>
              <p:grpSpPr>
                <a:xfrm>
                  <a:off x="291240" y="2730960"/>
                  <a:ext cx="2137680" cy="962280"/>
                  <a:chOff x="291240" y="2730960"/>
                  <a:chExt cx="2137680" cy="962280"/>
                </a:xfrm>
              </p:grpSpPr>
              <p:sp>
                <p:nvSpPr>
                  <p:cNvPr id="280" name="Rectangle 5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1" name="Rectangle 11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2" name="Group 18"/>
              <p:cNvGrpSpPr/>
              <p:nvPr/>
            </p:nvGrpSpPr>
            <p:grpSpPr>
              <a:xfrm>
                <a:off x="2429640" y="2730960"/>
                <a:ext cx="6422040" cy="963360"/>
                <a:chOff x="2429640" y="2730960"/>
                <a:chExt cx="6422040" cy="963360"/>
              </a:xfrm>
            </p:grpSpPr>
            <p:sp>
              <p:nvSpPr>
                <p:cNvPr id="283" name="Rectangle 17"/>
                <p:cNvSpPr/>
                <p:nvPr/>
              </p:nvSpPr>
              <p:spPr>
                <a:xfrm>
                  <a:off x="2429640" y="2730960"/>
                  <a:ext cx="6422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4" name="Group 16"/>
                <p:cNvGrpSpPr/>
                <p:nvPr/>
              </p:nvGrpSpPr>
              <p:grpSpPr>
                <a:xfrm>
                  <a:off x="2429640" y="2730960"/>
                  <a:ext cx="6421680" cy="962280"/>
                  <a:chOff x="2429640" y="2730960"/>
                  <a:chExt cx="6421680" cy="962280"/>
                </a:xfrm>
              </p:grpSpPr>
              <p:sp>
                <p:nvSpPr>
                  <p:cNvPr id="285" name="Rectangle 6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6" name="Rectangle 15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7" name="Group 22"/>
              <p:cNvGrpSpPr/>
              <p:nvPr/>
            </p:nvGrpSpPr>
            <p:grpSpPr>
              <a:xfrm>
                <a:off x="291240" y="3695400"/>
                <a:ext cx="2138040" cy="963360"/>
                <a:chOff x="291240" y="3695400"/>
                <a:chExt cx="2138040" cy="963360"/>
              </a:xfrm>
            </p:grpSpPr>
            <p:sp>
              <p:nvSpPr>
                <p:cNvPr id="288" name="Rectangle 21"/>
                <p:cNvSpPr/>
                <p:nvPr/>
              </p:nvSpPr>
              <p:spPr>
                <a:xfrm>
                  <a:off x="291240" y="3695400"/>
                  <a:ext cx="2138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Group 20"/>
                <p:cNvGrpSpPr/>
                <p:nvPr/>
              </p:nvGrpSpPr>
              <p:grpSpPr>
                <a:xfrm>
                  <a:off x="291240" y="3695400"/>
                  <a:ext cx="2137680" cy="962280"/>
                  <a:chOff x="291240" y="3695400"/>
                  <a:chExt cx="2137680" cy="962280"/>
                </a:xfrm>
              </p:grpSpPr>
              <p:sp>
                <p:nvSpPr>
                  <p:cNvPr id="290" name="Rectangle 7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Rectangle 19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2" name="Group 26"/>
              <p:cNvGrpSpPr/>
              <p:nvPr/>
            </p:nvGrpSpPr>
            <p:grpSpPr>
              <a:xfrm>
                <a:off x="2429640" y="3695400"/>
                <a:ext cx="6422040" cy="963360"/>
                <a:chOff x="2429640" y="3695400"/>
                <a:chExt cx="6422040" cy="963360"/>
              </a:xfrm>
            </p:grpSpPr>
            <p:sp>
              <p:nvSpPr>
                <p:cNvPr id="293" name="Rectangle 25"/>
                <p:cNvSpPr/>
                <p:nvPr/>
              </p:nvSpPr>
              <p:spPr>
                <a:xfrm>
                  <a:off x="2429640" y="3695400"/>
                  <a:ext cx="6422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4" name="Group 24"/>
                <p:cNvGrpSpPr/>
                <p:nvPr/>
              </p:nvGrpSpPr>
              <p:grpSpPr>
                <a:xfrm>
                  <a:off x="2429640" y="3695400"/>
                  <a:ext cx="6421680" cy="962280"/>
                  <a:chOff x="2429640" y="3695400"/>
                  <a:chExt cx="6421680" cy="962280"/>
                </a:xfrm>
              </p:grpSpPr>
              <p:sp>
                <p:nvSpPr>
                  <p:cNvPr id="295" name="Rectangle 8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Rectangle 23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7" name="Group 30"/>
              <p:cNvGrpSpPr/>
              <p:nvPr/>
            </p:nvGrpSpPr>
            <p:grpSpPr>
              <a:xfrm>
                <a:off x="291240" y="4660200"/>
                <a:ext cx="2138040" cy="963360"/>
                <a:chOff x="291240" y="4660200"/>
                <a:chExt cx="2138040" cy="963360"/>
              </a:xfrm>
            </p:grpSpPr>
            <p:sp>
              <p:nvSpPr>
                <p:cNvPr id="298" name="Rectangle 29"/>
                <p:cNvSpPr/>
                <p:nvPr/>
              </p:nvSpPr>
              <p:spPr>
                <a:xfrm>
                  <a:off x="291240" y="4660200"/>
                  <a:ext cx="2138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9" name="Group 28"/>
                <p:cNvGrpSpPr/>
                <p:nvPr/>
              </p:nvGrpSpPr>
              <p:grpSpPr>
                <a:xfrm>
                  <a:off x="291240" y="4660200"/>
                  <a:ext cx="2137680" cy="962280"/>
                  <a:chOff x="291240" y="4660200"/>
                  <a:chExt cx="2137680" cy="962280"/>
                </a:xfrm>
              </p:grpSpPr>
              <p:sp>
                <p:nvSpPr>
                  <p:cNvPr id="300" name="Rectangle 9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1" name="Rectangle 27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02" name="Group 34"/>
              <p:cNvGrpSpPr/>
              <p:nvPr/>
            </p:nvGrpSpPr>
            <p:grpSpPr>
              <a:xfrm>
                <a:off x="2429640" y="4660200"/>
                <a:ext cx="6422040" cy="963360"/>
                <a:chOff x="2429640" y="4660200"/>
                <a:chExt cx="6422040" cy="96336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2429640" y="4660200"/>
                  <a:ext cx="6422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4" name="Group 32"/>
                <p:cNvGrpSpPr/>
                <p:nvPr/>
              </p:nvGrpSpPr>
              <p:grpSpPr>
                <a:xfrm>
                  <a:off x="2429640" y="4660200"/>
                  <a:ext cx="6421680" cy="962280"/>
                  <a:chOff x="2429640" y="4660200"/>
                  <a:chExt cx="6421680" cy="962280"/>
                </a:xfrm>
              </p:grpSpPr>
              <p:sp>
                <p:nvSpPr>
                  <p:cNvPr id="305" name="Rectangle 10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Rectangle 31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07" name="Rectangle 36"/>
            <p:cNvSpPr/>
            <p:nvPr/>
          </p:nvSpPr>
          <p:spPr>
            <a:xfrm>
              <a:off x="285840" y="2714760"/>
              <a:ext cx="8571960" cy="292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309" name="AutoShape 39">
              <a:hlinkClick r:id="" action="ppaction://hlinkshowjump?jump=nextslide"/>
            </p:cNvPr>
            <p:cNvSpPr/>
            <p:nvPr/>
          </p:nvSpPr>
          <p:spPr>
            <a:xfrm>
              <a:off x="819684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5879"/>
                  </a:moveTo>
                  <a:lnTo>
                    <a:pt x="17806" y="12886"/>
                  </a:lnTo>
                  <a:lnTo>
                    <a:pt x="3794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40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10800" y="5923"/>
                  </a:moveTo>
                  <a:lnTo>
                    <a:pt x="13376" y="8534"/>
                  </a:ln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lnTo>
                    <a:pt x="17763" y="12886"/>
                  </a:lnTo>
                  <a:lnTo>
                    <a:pt x="16109" y="12886"/>
                  </a:lnTo>
                  <a:lnTo>
                    <a:pt x="16109" y="20075"/>
                  </a:lnTo>
                  <a:lnTo>
                    <a:pt x="5491" y="20075"/>
                  </a:lnTo>
                  <a:lnTo>
                    <a:pt x="5491" y="12886"/>
                  </a:lnTo>
                  <a:lnTo>
                    <a:pt x="3837" y="12886"/>
                  </a:lnTo>
                  <a:close/>
                </a:path>
                <a:path fill="darkenLess" w="21600" h="25772">
                  <a:moveTo>
                    <a:pt x="13376" y="8534"/>
                  </a:move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close/>
                </a:path>
                <a:path fill="darkenLess" w="21600" h="25772">
                  <a:moveTo>
                    <a:pt x="9877" y="16385"/>
                  </a:moveTo>
                  <a:lnTo>
                    <a:pt x="11723" y="16385"/>
                  </a:lnTo>
                  <a:lnTo>
                    <a:pt x="11723" y="20075"/>
                  </a:lnTo>
                  <a:lnTo>
                    <a:pt x="16109" y="20075"/>
                  </a:lnTo>
                  <a:lnTo>
                    <a:pt x="16109" y="12886"/>
                  </a:lnTo>
                  <a:lnTo>
                    <a:pt x="5491" y="12886"/>
                  </a:lnTo>
                  <a:lnTo>
                    <a:pt x="5491" y="20075"/>
                  </a:lnTo>
                  <a:lnTo>
                    <a:pt x="9877" y="20075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41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12886"/>
                  </a:moveTo>
                  <a:lnTo>
                    <a:pt x="17806" y="5879"/>
                  </a:lnTo>
                  <a:lnTo>
                    <a:pt x="17806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58"/>
          <p:cNvGrpSpPr/>
          <p:nvPr/>
        </p:nvGrpSpPr>
        <p:grpSpPr>
          <a:xfrm>
            <a:off x="0" y="1857240"/>
            <a:ext cx="8857440" cy="4571640"/>
            <a:chOff x="0" y="1857240"/>
            <a:chExt cx="8857440" cy="4571640"/>
          </a:xfrm>
        </p:grpSpPr>
        <p:grpSp>
          <p:nvGrpSpPr>
            <p:cNvPr id="313" name="Group 59"/>
            <p:cNvGrpSpPr/>
            <p:nvPr/>
          </p:nvGrpSpPr>
          <p:grpSpPr>
            <a:xfrm>
              <a:off x="11880" y="1862280"/>
              <a:ext cx="8831880" cy="4560480"/>
              <a:chOff x="11880" y="1862280"/>
              <a:chExt cx="8831880" cy="4560480"/>
            </a:xfrm>
          </p:grpSpPr>
          <p:grpSp>
            <p:nvGrpSpPr>
              <p:cNvPr id="314" name="Group 60"/>
              <p:cNvGrpSpPr/>
              <p:nvPr/>
            </p:nvGrpSpPr>
            <p:grpSpPr>
              <a:xfrm>
                <a:off x="11880" y="1862280"/>
                <a:ext cx="1144080" cy="911520"/>
                <a:chOff x="11880" y="1862280"/>
                <a:chExt cx="1144080" cy="911520"/>
              </a:xfrm>
            </p:grpSpPr>
            <p:sp>
              <p:nvSpPr>
                <p:cNvPr id="315" name="Rectangle 61"/>
                <p:cNvSpPr/>
                <p:nvPr/>
              </p:nvSpPr>
              <p:spPr>
                <a:xfrm>
                  <a:off x="11880" y="186228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16" name="Group 62"/>
                <p:cNvGrpSpPr/>
                <p:nvPr/>
              </p:nvGrpSpPr>
              <p:grpSpPr>
                <a:xfrm>
                  <a:off x="11880" y="1862280"/>
                  <a:ext cx="1143360" cy="911160"/>
                  <a:chOff x="11880" y="1862280"/>
                  <a:chExt cx="1143360" cy="911160"/>
                </a:xfrm>
              </p:grpSpPr>
              <p:sp>
                <p:nvSpPr>
                  <p:cNvPr id="317" name="Rectangle 63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conj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Rectangle 64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19" name="Group 65"/>
              <p:cNvGrpSpPr/>
              <p:nvPr/>
            </p:nvGrpSpPr>
            <p:grpSpPr>
              <a:xfrm>
                <a:off x="1156680" y="1862280"/>
                <a:ext cx="7687080" cy="911520"/>
                <a:chOff x="1156680" y="1862280"/>
                <a:chExt cx="7687080" cy="911520"/>
              </a:xfrm>
            </p:grpSpPr>
            <p:sp>
              <p:nvSpPr>
                <p:cNvPr id="320" name="Rectangle 66"/>
                <p:cNvSpPr/>
                <p:nvPr/>
              </p:nvSpPr>
              <p:spPr>
                <a:xfrm>
                  <a:off x="1156680" y="186228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1" name="Group 67"/>
                <p:cNvGrpSpPr/>
                <p:nvPr/>
              </p:nvGrpSpPr>
              <p:grpSpPr>
                <a:xfrm>
                  <a:off x="1156680" y="1862280"/>
                  <a:ext cx="7686360" cy="911160"/>
                  <a:chOff x="1156680" y="1862280"/>
                  <a:chExt cx="7686360" cy="911160"/>
                </a:xfrm>
              </p:grpSpPr>
              <p:sp>
                <p:nvSpPr>
                  <p:cNvPr id="322" name="Rectangle 68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-Tiene tema en -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3" name="Rectangle 69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4" name="Group 70"/>
              <p:cNvGrpSpPr/>
              <p:nvPr/>
            </p:nvGrpSpPr>
            <p:grpSpPr>
              <a:xfrm>
                <a:off x="11880" y="2774160"/>
                <a:ext cx="1144080" cy="911520"/>
                <a:chOff x="11880" y="2774160"/>
                <a:chExt cx="1144080" cy="911520"/>
              </a:xfrm>
            </p:grpSpPr>
            <p:sp>
              <p:nvSpPr>
                <p:cNvPr id="325" name="Rectangle 71"/>
                <p:cNvSpPr/>
                <p:nvPr/>
              </p:nvSpPr>
              <p:spPr>
                <a:xfrm>
                  <a:off x="11880" y="277416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6" name="Group 72"/>
                <p:cNvGrpSpPr/>
                <p:nvPr/>
              </p:nvGrpSpPr>
              <p:grpSpPr>
                <a:xfrm>
                  <a:off x="11880" y="2774160"/>
                  <a:ext cx="1143360" cy="911160"/>
                  <a:chOff x="11880" y="2774160"/>
                  <a:chExt cx="1143360" cy="911160"/>
                </a:xfrm>
              </p:grpSpPr>
              <p:sp>
                <p:nvSpPr>
                  <p:cNvPr id="327" name="Rectangle 73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8" name="Rectangle 74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9" name="Group 75"/>
              <p:cNvGrpSpPr/>
              <p:nvPr/>
            </p:nvGrpSpPr>
            <p:grpSpPr>
              <a:xfrm>
                <a:off x="1156680" y="2774160"/>
                <a:ext cx="7687080" cy="911520"/>
                <a:chOff x="1156680" y="2774160"/>
                <a:chExt cx="7687080" cy="911520"/>
              </a:xfrm>
            </p:grpSpPr>
            <p:sp>
              <p:nvSpPr>
                <p:cNvPr id="330" name="Rectangle 76"/>
                <p:cNvSpPr/>
                <p:nvPr/>
              </p:nvSpPr>
              <p:spPr>
                <a:xfrm>
                  <a:off x="1156680" y="277416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1" name="Group 77"/>
                <p:cNvGrpSpPr/>
                <p:nvPr/>
              </p:nvGrpSpPr>
              <p:grpSpPr>
                <a:xfrm>
                  <a:off x="1156680" y="2774160"/>
                  <a:ext cx="7686360" cy="911160"/>
                  <a:chOff x="1156680" y="2774160"/>
                  <a:chExt cx="7686360" cy="911160"/>
                </a:xfrm>
              </p:grpSpPr>
              <p:sp>
                <p:nvSpPr>
                  <p:cNvPr id="332" name="Rectangle 78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es 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3" name="Rectangle 79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4" name="Group 80"/>
              <p:cNvGrpSpPr/>
              <p:nvPr/>
            </p:nvGrpSpPr>
            <p:grpSpPr>
              <a:xfrm>
                <a:off x="11880" y="3686400"/>
                <a:ext cx="1144080" cy="912240"/>
                <a:chOff x="11880" y="3686400"/>
                <a:chExt cx="1144080" cy="912240"/>
              </a:xfrm>
            </p:grpSpPr>
            <p:sp>
              <p:nvSpPr>
                <p:cNvPr id="335" name="Rectangle 81"/>
                <p:cNvSpPr/>
                <p:nvPr/>
              </p:nvSpPr>
              <p:spPr>
                <a:xfrm>
                  <a:off x="11880" y="3686400"/>
                  <a:ext cx="1144080" cy="9122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11880" y="3686400"/>
                  <a:ext cx="1143360" cy="911880"/>
                  <a:chOff x="11880" y="3686400"/>
                  <a:chExt cx="1143360" cy="911880"/>
                </a:xfrm>
              </p:grpSpPr>
              <p:sp>
                <p:nvSpPr>
                  <p:cNvPr id="337" name="Rectangle 83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Rectangle 84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9" name="Group 85"/>
              <p:cNvGrpSpPr/>
              <p:nvPr/>
            </p:nvGrpSpPr>
            <p:grpSpPr>
              <a:xfrm>
                <a:off x="1156680" y="3686400"/>
                <a:ext cx="7687080" cy="912240"/>
                <a:chOff x="1156680" y="3686400"/>
                <a:chExt cx="7687080" cy="912240"/>
              </a:xfrm>
            </p:grpSpPr>
            <p:sp>
              <p:nvSpPr>
                <p:cNvPr id="340" name="Rectangle 86"/>
                <p:cNvSpPr/>
                <p:nvPr/>
              </p:nvSpPr>
              <p:spPr>
                <a:xfrm>
                  <a:off x="1156680" y="3686400"/>
                  <a:ext cx="7687080" cy="9122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1" name="Group 87"/>
                <p:cNvGrpSpPr/>
                <p:nvPr/>
              </p:nvGrpSpPr>
              <p:grpSpPr>
                <a:xfrm>
                  <a:off x="1156680" y="3686400"/>
                  <a:ext cx="7686360" cy="911880"/>
                  <a:chOff x="1156680" y="3686400"/>
                  <a:chExt cx="7686360" cy="911880"/>
                </a:xfrm>
              </p:grpSpPr>
              <p:sp>
                <p:nvSpPr>
                  <p:cNvPr id="342" name="Rectangle 88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reg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Tiene tema consonant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Rectangle 89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4" name="Group 90"/>
              <p:cNvGrpSpPr/>
              <p:nvPr/>
            </p:nvGrpSpPr>
            <p:grpSpPr>
              <a:xfrm>
                <a:off x="11880" y="4599000"/>
                <a:ext cx="1144080" cy="911520"/>
                <a:chOff x="11880" y="4599000"/>
                <a:chExt cx="1144080" cy="911520"/>
              </a:xfrm>
            </p:grpSpPr>
            <p:sp>
              <p:nvSpPr>
                <p:cNvPr id="345" name="Rectangle 91"/>
                <p:cNvSpPr/>
                <p:nvPr/>
              </p:nvSpPr>
              <p:spPr>
                <a:xfrm>
                  <a:off x="11880" y="459900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92"/>
                <p:cNvGrpSpPr/>
                <p:nvPr/>
              </p:nvGrpSpPr>
              <p:grpSpPr>
                <a:xfrm>
                  <a:off x="11880" y="4599000"/>
                  <a:ext cx="1143360" cy="911160"/>
                  <a:chOff x="11880" y="4599000"/>
                  <a:chExt cx="1143360" cy="911160"/>
                </a:xfrm>
              </p:grpSpPr>
              <p:sp>
                <p:nvSpPr>
                  <p:cNvPr id="347" name="Rectangle 93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Rectangle 94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95"/>
              <p:cNvGrpSpPr/>
              <p:nvPr/>
            </p:nvGrpSpPr>
            <p:grpSpPr>
              <a:xfrm>
                <a:off x="1156680" y="4599000"/>
                <a:ext cx="7687080" cy="911520"/>
                <a:chOff x="1156680" y="4599000"/>
                <a:chExt cx="7687080" cy="911520"/>
              </a:xfrm>
            </p:grpSpPr>
            <p:sp>
              <p:nvSpPr>
                <p:cNvPr id="350" name="Rectangle 96"/>
                <p:cNvSpPr/>
                <p:nvPr/>
              </p:nvSpPr>
              <p:spPr>
                <a:xfrm>
                  <a:off x="1156680" y="459900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1" name="Group 97"/>
                <p:cNvGrpSpPr/>
                <p:nvPr/>
              </p:nvGrpSpPr>
              <p:grpSpPr>
                <a:xfrm>
                  <a:off x="1156680" y="4599000"/>
                  <a:ext cx="7686360" cy="911160"/>
                  <a:chOff x="1156680" y="4599000"/>
                  <a:chExt cx="7686360" cy="911160"/>
                </a:xfrm>
              </p:grpSpPr>
              <p:sp>
                <p:nvSpPr>
                  <p:cNvPr id="352" name="Rectangle 98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ud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Tiene tema en –I larga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Rectangle 99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4" name="Group 100"/>
              <p:cNvGrpSpPr/>
              <p:nvPr/>
            </p:nvGrpSpPr>
            <p:grpSpPr>
              <a:xfrm>
                <a:off x="11880" y="5511240"/>
                <a:ext cx="1144080" cy="911520"/>
                <a:chOff x="11880" y="5511240"/>
                <a:chExt cx="1144080" cy="911520"/>
              </a:xfrm>
            </p:grpSpPr>
            <p:sp>
              <p:nvSpPr>
                <p:cNvPr id="355" name="Rectangle 101"/>
                <p:cNvSpPr/>
                <p:nvPr/>
              </p:nvSpPr>
              <p:spPr>
                <a:xfrm>
                  <a:off x="11880" y="551124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6" name="Group 102"/>
                <p:cNvGrpSpPr/>
                <p:nvPr/>
              </p:nvGrpSpPr>
              <p:grpSpPr>
                <a:xfrm>
                  <a:off x="11880" y="5511240"/>
                  <a:ext cx="1143360" cy="911160"/>
                  <a:chOff x="11880" y="5511240"/>
                  <a:chExt cx="1143360" cy="911160"/>
                </a:xfrm>
              </p:grpSpPr>
              <p:sp>
                <p:nvSpPr>
                  <p:cNvPr id="357" name="Rectangle 103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Rectangle 104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9" name="Group 105"/>
              <p:cNvGrpSpPr/>
              <p:nvPr/>
            </p:nvGrpSpPr>
            <p:grpSpPr>
              <a:xfrm>
                <a:off x="1156680" y="5511240"/>
                <a:ext cx="7687080" cy="911520"/>
                <a:chOff x="1156680" y="5511240"/>
                <a:chExt cx="7687080" cy="911520"/>
              </a:xfrm>
            </p:grpSpPr>
            <p:sp>
              <p:nvSpPr>
                <p:cNvPr id="360" name="Rectangle 106"/>
                <p:cNvSpPr/>
                <p:nvPr/>
              </p:nvSpPr>
              <p:spPr>
                <a:xfrm>
                  <a:off x="1156680" y="551124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61" name="Group 107"/>
                <p:cNvGrpSpPr/>
                <p:nvPr/>
              </p:nvGrpSpPr>
              <p:grpSpPr>
                <a:xfrm>
                  <a:off x="1156680" y="5511240"/>
                  <a:ext cx="7686360" cy="911160"/>
                  <a:chOff x="1156680" y="5511240"/>
                  <a:chExt cx="7686360" cy="911160"/>
                </a:xfrm>
              </p:grpSpPr>
              <p:sp>
                <p:nvSpPr>
                  <p:cNvPr id="362" name="Rectangle 108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cap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 Tiene tema en –I brev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Rectangle 109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64" name="Rectangle 110"/>
            <p:cNvSpPr/>
            <p:nvPr/>
          </p:nvSpPr>
          <p:spPr>
            <a:xfrm>
              <a:off x="0" y="1857240"/>
              <a:ext cx="885744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98100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L TEMA DE LAS CONJUGA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428760" y="1214280"/>
            <a:ext cx="816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 la letra última de la raíz de pres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57 Rectángulo"/>
          <p:cNvSpPr/>
          <p:nvPr/>
        </p:nvSpPr>
        <p:spPr>
          <a:xfrm>
            <a:off x="5079960" y="28576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fc5e"/>
                </a:solidFill>
                <a:latin typeface="Times New Roman"/>
              </a:rPr>
              <a:t>Tiene tema en -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6:54:13Z</dcterms:created>
  <dc:creator>w</dc:creator>
  <dc:description/>
  <dc:language>en-US</dc:language>
  <cp:lastModifiedBy>AUDIOLEASK</cp:lastModifiedBy>
  <dcterms:modified xsi:type="dcterms:W3CDTF">2012-12-03T15:04:22Z</dcterms:modified>
  <cp:revision>39</cp:revision>
  <dc:subject/>
  <dc:title>EL ANÁLISIS DE FORMAS VERBALES</dc:title>
</cp:coreProperties>
</file>