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3A8-9B0F-4F7C-BD6D-DBFEA9F0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731-12B8-4F81-A8CF-48E0CB56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330-ED65-45D6-8BE5-279601DC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13E-038B-4FCA-A0D4-74FCAC7D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8F86-C3CC-465A-BCDD-36941122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77C3-C660-4954-A817-2F3EC1C7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D2CA-6597-436E-9C50-B32F4F14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B1C9-A4F3-4C0E-90B9-3BA30D70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BDA6-8F96-4B5A-A6FF-92711488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C699-10C8-4586-9B08-2F947067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AD69-AD8A-4007-AE5E-D56A5D2B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175-A9B6-43CA-9FE4-6DAB1CE7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D4F6-EC6F-4157-91AF-8505E47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4291-BD98-4F5A-B3D8-464962BC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768E-53A3-402E-9B72-46E36424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4392-8C03-4C91-8FA8-C679D4F4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707E-27D4-448B-9149-82680EA0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41F-07DF-4112-82AF-58C2ECB6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6CB-07A8-41D8-BA48-90544299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241-ADDB-430F-B683-7968A2C4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39C-4B0D-49E8-AA29-E3AEB6A9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F81-656F-4EF0-A332-64EB49C2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3EE-8ACE-4507-8CFB-3C775FCD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47E-AB18-4A93-9808-B63FABC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6B2C-C198-45DE-AF21-F4D0D85A70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88A2-8BB0-4EC2-92D4-A12CC00364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16441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DISTINGUIR LAS CONJUGACIONES</a:t>
            </a:r>
            <a:br>
              <a:rPr sz="2800"/>
            </a:b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Y LOS TEMAS DEL VERBO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AutoShape 4">
            <a:hlinkClick r:id="" action="ppaction://hlinkshowjump?jump=nextslide"/>
          </p:cNvPr>
          <p:cNvSpPr/>
          <p:nvPr/>
        </p:nvSpPr>
        <p:spPr>
          <a:xfrm>
            <a:off x="7772400" y="49528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Para distinguir la conjugación del verbo debemos partir siempre d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enunciado del verbo</a:t>
            </a: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980640" y="67104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Determinar la conjugación.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58"/>
          <p:cNvGrpSpPr/>
          <p:nvPr/>
        </p:nvGrpSpPr>
        <p:grpSpPr>
          <a:xfrm>
            <a:off x="642960" y="3143160"/>
            <a:ext cx="8214480" cy="2546280"/>
            <a:chOff x="642960" y="3143160"/>
            <a:chExt cx="8214480" cy="2546280"/>
          </a:xfrm>
        </p:grpSpPr>
        <p:grpSp>
          <p:nvGrpSpPr>
            <p:cNvPr id="216" name="Group 59"/>
            <p:cNvGrpSpPr/>
            <p:nvPr/>
          </p:nvGrpSpPr>
          <p:grpSpPr>
            <a:xfrm>
              <a:off x="654120" y="3146040"/>
              <a:ext cx="8190720" cy="2540520"/>
              <a:chOff x="654120" y="3146040"/>
              <a:chExt cx="8190720" cy="2540520"/>
            </a:xfrm>
          </p:grpSpPr>
          <p:grpSp>
            <p:nvGrpSpPr>
              <p:cNvPr id="217" name="Group 60"/>
              <p:cNvGrpSpPr/>
              <p:nvPr/>
            </p:nvGrpSpPr>
            <p:grpSpPr>
              <a:xfrm>
                <a:off x="654120" y="3146040"/>
                <a:ext cx="1060920" cy="507960"/>
                <a:chOff x="654120" y="3146040"/>
                <a:chExt cx="1060920" cy="507960"/>
              </a:xfrm>
            </p:grpSpPr>
            <p:sp>
              <p:nvSpPr>
                <p:cNvPr id="218" name="Rectangle 61"/>
                <p:cNvSpPr/>
                <p:nvPr/>
              </p:nvSpPr>
              <p:spPr>
                <a:xfrm>
                  <a:off x="654120" y="314604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19" name="Group 62"/>
                <p:cNvGrpSpPr/>
                <p:nvPr/>
              </p:nvGrpSpPr>
              <p:grpSpPr>
                <a:xfrm>
                  <a:off x="654120" y="3146040"/>
                  <a:ext cx="1060200" cy="507960"/>
                  <a:chOff x="654120" y="3146040"/>
                  <a:chExt cx="1060200" cy="507960"/>
                </a:xfrm>
              </p:grpSpPr>
              <p:sp>
                <p:nvSpPr>
                  <p:cNvPr id="220" name="Rectangle 63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1" name="Rectangle 64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2" name="Group 65"/>
              <p:cNvGrpSpPr/>
              <p:nvPr/>
            </p:nvGrpSpPr>
            <p:grpSpPr>
              <a:xfrm>
                <a:off x="1715760" y="3146040"/>
                <a:ext cx="7129080" cy="507960"/>
                <a:chOff x="1715760" y="3146040"/>
                <a:chExt cx="7129080" cy="507960"/>
              </a:xfrm>
            </p:grpSpPr>
            <p:sp>
              <p:nvSpPr>
                <p:cNvPr id="223" name="Rectangle 66"/>
                <p:cNvSpPr/>
                <p:nvPr/>
              </p:nvSpPr>
              <p:spPr>
                <a:xfrm>
                  <a:off x="1715760" y="314604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4" name="Group 67"/>
                <p:cNvGrpSpPr/>
                <p:nvPr/>
              </p:nvGrpSpPr>
              <p:grpSpPr>
                <a:xfrm>
                  <a:off x="1715760" y="3146040"/>
                  <a:ext cx="7128360" cy="507960"/>
                  <a:chOff x="1715760" y="3146040"/>
                  <a:chExt cx="7128360" cy="507960"/>
                </a:xfrm>
              </p:grpSpPr>
              <p:sp>
                <p:nvSpPr>
                  <p:cNvPr id="225" name="Rectangle 68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mo,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-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avi, ama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6" name="Rectangle 69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7" name="Group 70"/>
              <p:cNvGrpSpPr/>
              <p:nvPr/>
            </p:nvGrpSpPr>
            <p:grpSpPr>
              <a:xfrm>
                <a:off x="654120" y="3654000"/>
                <a:ext cx="1060920" cy="507960"/>
                <a:chOff x="654120" y="3654000"/>
                <a:chExt cx="1060920" cy="507960"/>
              </a:xfrm>
            </p:grpSpPr>
            <p:sp>
              <p:nvSpPr>
                <p:cNvPr id="228" name="Rectangle 71"/>
                <p:cNvSpPr/>
                <p:nvPr/>
              </p:nvSpPr>
              <p:spPr>
                <a:xfrm>
                  <a:off x="654120" y="36540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9" name="Group 72"/>
                <p:cNvGrpSpPr/>
                <p:nvPr/>
              </p:nvGrpSpPr>
              <p:grpSpPr>
                <a:xfrm>
                  <a:off x="654120" y="3654000"/>
                  <a:ext cx="1060200" cy="507960"/>
                  <a:chOff x="654120" y="3654000"/>
                  <a:chExt cx="1060200" cy="507960"/>
                </a:xfrm>
              </p:grpSpPr>
              <p:sp>
                <p:nvSpPr>
                  <p:cNvPr id="230" name="Rectangle 73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1" name="Rectangle 74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2" name="Group 75"/>
              <p:cNvGrpSpPr/>
              <p:nvPr/>
            </p:nvGrpSpPr>
            <p:grpSpPr>
              <a:xfrm>
                <a:off x="1715760" y="3654000"/>
                <a:ext cx="7129080" cy="507960"/>
                <a:chOff x="1715760" y="3654000"/>
                <a:chExt cx="7129080" cy="507960"/>
              </a:xfrm>
            </p:grpSpPr>
            <p:sp>
              <p:nvSpPr>
                <p:cNvPr id="233" name="Rectangle 76"/>
                <p:cNvSpPr/>
                <p:nvPr/>
              </p:nvSpPr>
              <p:spPr>
                <a:xfrm>
                  <a:off x="1715760" y="36540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4" name="Group 77"/>
                <p:cNvGrpSpPr/>
                <p:nvPr/>
              </p:nvGrpSpPr>
              <p:grpSpPr>
                <a:xfrm>
                  <a:off x="1715760" y="3654000"/>
                  <a:ext cx="7128360" cy="507960"/>
                  <a:chOff x="1715760" y="3654000"/>
                  <a:chExt cx="7128360" cy="507960"/>
                </a:xfrm>
              </p:grpSpPr>
              <p:sp>
                <p:nvSpPr>
                  <p:cNvPr id="235" name="Rectangle 78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</a:t>
                    </a: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ui, hab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6" name="Rectangle 79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7" name="Group 80"/>
              <p:cNvGrpSpPr/>
              <p:nvPr/>
            </p:nvGrpSpPr>
            <p:grpSpPr>
              <a:xfrm>
                <a:off x="654120" y="4161960"/>
                <a:ext cx="1060920" cy="507960"/>
                <a:chOff x="654120" y="4161960"/>
                <a:chExt cx="1060920" cy="507960"/>
              </a:xfrm>
            </p:grpSpPr>
            <p:sp>
              <p:nvSpPr>
                <p:cNvPr id="238" name="Rectangle 81"/>
                <p:cNvSpPr/>
                <p:nvPr/>
              </p:nvSpPr>
              <p:spPr>
                <a:xfrm>
                  <a:off x="654120" y="416196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9" name="Group 82"/>
                <p:cNvGrpSpPr/>
                <p:nvPr/>
              </p:nvGrpSpPr>
              <p:grpSpPr>
                <a:xfrm>
                  <a:off x="654120" y="4161960"/>
                  <a:ext cx="1060200" cy="507960"/>
                  <a:chOff x="654120" y="4161960"/>
                  <a:chExt cx="1060200" cy="507960"/>
                </a:xfrm>
              </p:grpSpPr>
              <p:sp>
                <p:nvSpPr>
                  <p:cNvPr id="240" name="Rectangle 83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1" name="Rectangle 84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2" name="Group 85"/>
              <p:cNvGrpSpPr/>
              <p:nvPr/>
            </p:nvGrpSpPr>
            <p:grpSpPr>
              <a:xfrm>
                <a:off x="1715760" y="4161960"/>
                <a:ext cx="7129080" cy="507960"/>
                <a:chOff x="1715760" y="4161960"/>
                <a:chExt cx="7129080" cy="507960"/>
              </a:xfrm>
            </p:grpSpPr>
            <p:sp>
              <p:nvSpPr>
                <p:cNvPr id="243" name="Rectangle 86"/>
                <p:cNvSpPr/>
                <p:nvPr/>
              </p:nvSpPr>
              <p:spPr>
                <a:xfrm>
                  <a:off x="1715760" y="416196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4" name="Group 87"/>
                <p:cNvGrpSpPr/>
                <p:nvPr/>
              </p:nvGrpSpPr>
              <p:grpSpPr>
                <a:xfrm>
                  <a:off x="1715760" y="4161960"/>
                  <a:ext cx="7128360" cy="507960"/>
                  <a:chOff x="1715760" y="4161960"/>
                  <a:chExt cx="7128360" cy="507960"/>
                </a:xfrm>
              </p:grpSpPr>
              <p:sp>
                <p:nvSpPr>
                  <p:cNvPr id="245" name="Rectangle 88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o, 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rexi, rec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6" name="Rectangle 89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7" name="Group 90"/>
              <p:cNvGrpSpPr/>
              <p:nvPr/>
            </p:nvGrpSpPr>
            <p:grpSpPr>
              <a:xfrm>
                <a:off x="654120" y="4670280"/>
                <a:ext cx="1060920" cy="507960"/>
                <a:chOff x="654120" y="4670280"/>
                <a:chExt cx="1060920" cy="507960"/>
              </a:xfrm>
            </p:grpSpPr>
            <p:sp>
              <p:nvSpPr>
                <p:cNvPr id="248" name="Rectangle 91"/>
                <p:cNvSpPr/>
                <p:nvPr/>
              </p:nvSpPr>
              <p:spPr>
                <a:xfrm>
                  <a:off x="654120" y="467028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9" name="Group 92"/>
                <p:cNvGrpSpPr/>
                <p:nvPr/>
              </p:nvGrpSpPr>
              <p:grpSpPr>
                <a:xfrm>
                  <a:off x="654120" y="4670280"/>
                  <a:ext cx="1060200" cy="507960"/>
                  <a:chOff x="654120" y="4670280"/>
                  <a:chExt cx="1060200" cy="507960"/>
                </a:xfrm>
              </p:grpSpPr>
              <p:sp>
                <p:nvSpPr>
                  <p:cNvPr id="250" name="Rectangle 93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1" name="Rectangle 94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2" name="Group 95"/>
              <p:cNvGrpSpPr/>
              <p:nvPr/>
            </p:nvGrpSpPr>
            <p:grpSpPr>
              <a:xfrm>
                <a:off x="1715760" y="4670280"/>
                <a:ext cx="7129080" cy="507960"/>
                <a:chOff x="1715760" y="4670280"/>
                <a:chExt cx="7129080" cy="507960"/>
              </a:xfrm>
            </p:grpSpPr>
            <p:sp>
              <p:nvSpPr>
                <p:cNvPr id="253" name="Rectangle 96"/>
                <p:cNvSpPr/>
                <p:nvPr/>
              </p:nvSpPr>
              <p:spPr>
                <a:xfrm>
                  <a:off x="1715760" y="467028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4" name="Group 97"/>
                <p:cNvGrpSpPr/>
                <p:nvPr/>
              </p:nvGrpSpPr>
              <p:grpSpPr>
                <a:xfrm>
                  <a:off x="1715760" y="4670280"/>
                  <a:ext cx="7128360" cy="507960"/>
                  <a:chOff x="1715760" y="4670280"/>
                  <a:chExt cx="7128360" cy="507960"/>
                </a:xfrm>
              </p:grpSpPr>
              <p:sp>
                <p:nvSpPr>
                  <p:cNvPr id="255" name="Rectangle 98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ud</a:t>
                    </a:r>
                    <a:r>
                      <a:rPr b="0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ivi, aud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6" name="Rectangle 99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7" name="Group 100"/>
              <p:cNvGrpSpPr/>
              <p:nvPr/>
            </p:nvGrpSpPr>
            <p:grpSpPr>
              <a:xfrm>
                <a:off x="654120" y="5178600"/>
                <a:ext cx="1060920" cy="507960"/>
                <a:chOff x="654120" y="5178600"/>
                <a:chExt cx="1060920" cy="507960"/>
              </a:xfrm>
            </p:grpSpPr>
            <p:sp>
              <p:nvSpPr>
                <p:cNvPr id="258" name="Rectangle 101"/>
                <p:cNvSpPr/>
                <p:nvPr/>
              </p:nvSpPr>
              <p:spPr>
                <a:xfrm>
                  <a:off x="654120" y="51786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9" name="Group 102"/>
                <p:cNvGrpSpPr/>
                <p:nvPr/>
              </p:nvGrpSpPr>
              <p:grpSpPr>
                <a:xfrm>
                  <a:off x="654120" y="5178600"/>
                  <a:ext cx="1060200" cy="507960"/>
                  <a:chOff x="654120" y="5178600"/>
                  <a:chExt cx="1060200" cy="507960"/>
                </a:xfrm>
              </p:grpSpPr>
              <p:sp>
                <p:nvSpPr>
                  <p:cNvPr id="260" name="Rectangle 103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1" name="Rectangle 104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62" name="Group 105"/>
              <p:cNvGrpSpPr/>
              <p:nvPr/>
            </p:nvGrpSpPr>
            <p:grpSpPr>
              <a:xfrm>
                <a:off x="1715760" y="5178600"/>
                <a:ext cx="7129080" cy="507960"/>
                <a:chOff x="1715760" y="5178600"/>
                <a:chExt cx="7129080" cy="507960"/>
              </a:xfrm>
            </p:grpSpPr>
            <p:sp>
              <p:nvSpPr>
                <p:cNvPr id="263" name="Rectangle 106"/>
                <p:cNvSpPr/>
                <p:nvPr/>
              </p:nvSpPr>
              <p:spPr>
                <a:xfrm>
                  <a:off x="1715760" y="51786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4" name="Group 107"/>
                <p:cNvGrpSpPr/>
                <p:nvPr/>
              </p:nvGrpSpPr>
              <p:grpSpPr>
                <a:xfrm>
                  <a:off x="1715760" y="5178600"/>
                  <a:ext cx="7128360" cy="507960"/>
                  <a:chOff x="1715760" y="5178600"/>
                  <a:chExt cx="7128360" cy="507960"/>
                </a:xfrm>
              </p:grpSpPr>
              <p:sp>
                <p:nvSpPr>
                  <p:cNvPr id="265" name="Rectangle 108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epi, cap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6" name="Rectangle 109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67" name="Rectangle 110"/>
            <p:cNvSpPr/>
            <p:nvPr/>
          </p:nvSpPr>
          <p:spPr>
            <a:xfrm>
              <a:off x="642960" y="3143160"/>
              <a:ext cx="8214480" cy="2546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" name="Group 114"/>
          <p:cNvGrpSpPr/>
          <p:nvPr/>
        </p:nvGrpSpPr>
        <p:grpSpPr>
          <a:xfrm>
            <a:off x="7010280" y="5867280"/>
            <a:ext cx="1652760" cy="662040"/>
            <a:chOff x="7010280" y="5867280"/>
            <a:chExt cx="1652760" cy="662040"/>
          </a:xfrm>
        </p:grpSpPr>
        <p:sp>
          <p:nvSpPr>
            <p:cNvPr id="269" name="AutoShape 112">
              <a:hlinkClick r:id="" action="ppaction://hlinkshowjump?jump=nextslide"/>
            </p:cNvPr>
            <p:cNvSpPr/>
            <p:nvPr/>
          </p:nvSpPr>
          <p:spPr>
            <a:xfrm>
              <a:off x="7924680" y="5867280"/>
              <a:ext cx="738360" cy="662040"/>
            </a:xfrm>
            <a:custGeom>
              <a:avLst/>
              <a:gdLst>
                <a:gd name="textAreaLeft" fmla="*/ 42840 w 738360"/>
                <a:gd name="textAreaRight" fmla="*/ 695520 w 73836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4089" h="21600">
                  <a:moveTo>
                    <a:pt x="0" y="0"/>
                  </a:moveTo>
                  <a:lnTo>
                    <a:pt x="24089" y="0"/>
                  </a:lnTo>
                  <a:lnTo>
                    <a:pt x="24089" y="21600"/>
                  </a:lnTo>
                  <a:lnTo>
                    <a:pt x="0" y="21600"/>
                  </a:lnTo>
                  <a:close/>
                </a:path>
                <a:path fill="lightenLess" w="24089" h="21600">
                  <a:moveTo>
                    <a:pt x="0" y="0"/>
                  </a:moveTo>
                  <a:lnTo>
                    <a:pt x="24089" y="0"/>
                  </a:lnTo>
                  <a:lnTo>
                    <a:pt x="22689" y="1400"/>
                  </a:lnTo>
                  <a:lnTo>
                    <a:pt x="1400" y="1400"/>
                  </a:lnTo>
                  <a:close/>
                </a:path>
                <a:path fill="darken" w="24089" h="21600">
                  <a:moveTo>
                    <a:pt x="24089" y="0"/>
                  </a:moveTo>
                  <a:lnTo>
                    <a:pt x="24089" y="21600"/>
                  </a:lnTo>
                  <a:lnTo>
                    <a:pt x="22689" y="20200"/>
                  </a:lnTo>
                  <a:lnTo>
                    <a:pt x="22689" y="1400"/>
                  </a:lnTo>
                  <a:close/>
                </a:path>
                <a:path fill="darkenLess" w="24089" h="21600">
                  <a:moveTo>
                    <a:pt x="240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689" y="20200"/>
                  </a:lnTo>
                  <a:close/>
                </a:path>
                <a:path fill="lighten" w="240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089" h="21600">
                  <a:moveTo>
                    <a:pt x="5038" y="3794"/>
                  </a:moveTo>
                  <a:lnTo>
                    <a:pt x="19051" y="10800"/>
                  </a:lnTo>
                  <a:lnTo>
                    <a:pt x="5038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AutoShape 113">
              <a:hlinkClick r:id="" action="ppaction://hlinkshowjump?jump=previousslide"/>
            </p:cNvPr>
            <p:cNvSpPr/>
            <p:nvPr/>
          </p:nvSpPr>
          <p:spPr>
            <a:xfrm>
              <a:off x="7010280" y="5867280"/>
              <a:ext cx="662040" cy="662040"/>
            </a:xfrm>
            <a:custGeom>
              <a:avLst/>
              <a:gdLst>
                <a:gd name="textAreaLeft" fmla="*/ 42840 w 662040"/>
                <a:gd name="textAreaRight" fmla="*/ 619200 w 66204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Text Box 111"/>
          <p:cNvSpPr/>
          <p:nvPr/>
        </p:nvSpPr>
        <p:spPr>
          <a:xfrm>
            <a:off x="1000080" y="250020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Tendremos en cuenta las formas que aparecen en color amarillo en cada enunci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8064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Sacar la raíz.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 verbo tiene tres raíces temáticas o tem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37"/>
          <p:cNvGrpSpPr/>
          <p:nvPr/>
        </p:nvGrpSpPr>
        <p:grpSpPr>
          <a:xfrm>
            <a:off x="285840" y="2714760"/>
            <a:ext cx="8571960" cy="2927880"/>
            <a:chOff x="285840" y="2714760"/>
            <a:chExt cx="8571960" cy="2927880"/>
          </a:xfrm>
        </p:grpSpPr>
        <p:grpSp>
          <p:nvGrpSpPr>
            <p:cNvPr id="276" name="Group 35"/>
            <p:cNvGrpSpPr/>
            <p:nvPr/>
          </p:nvGrpSpPr>
          <p:grpSpPr>
            <a:xfrm>
              <a:off x="291240" y="2730960"/>
              <a:ext cx="8560440" cy="2892600"/>
              <a:chOff x="291240" y="2730960"/>
              <a:chExt cx="8560440" cy="2892600"/>
            </a:xfrm>
          </p:grpSpPr>
          <p:grpSp>
            <p:nvGrpSpPr>
              <p:cNvPr id="277" name="Group 14"/>
              <p:cNvGrpSpPr/>
              <p:nvPr/>
            </p:nvGrpSpPr>
            <p:grpSpPr>
              <a:xfrm>
                <a:off x="291240" y="2730960"/>
                <a:ext cx="2138040" cy="963360"/>
                <a:chOff x="291240" y="2730960"/>
                <a:chExt cx="2138040" cy="963360"/>
              </a:xfrm>
            </p:grpSpPr>
            <p:sp>
              <p:nvSpPr>
                <p:cNvPr id="278" name="Rectangle 13"/>
                <p:cNvSpPr/>
                <p:nvPr/>
              </p:nvSpPr>
              <p:spPr>
                <a:xfrm>
                  <a:off x="291240" y="2730960"/>
                  <a:ext cx="2138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9" name="Group 12"/>
                <p:cNvGrpSpPr/>
                <p:nvPr/>
              </p:nvGrpSpPr>
              <p:grpSpPr>
                <a:xfrm>
                  <a:off x="291240" y="2730960"/>
                  <a:ext cx="2137680" cy="962280"/>
                  <a:chOff x="291240" y="2730960"/>
                  <a:chExt cx="2137680" cy="962280"/>
                </a:xfrm>
              </p:grpSpPr>
              <p:sp>
                <p:nvSpPr>
                  <p:cNvPr id="280" name="Rectangle 5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Tema de presen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1" name="Rectangle 11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2" name="Group 18"/>
              <p:cNvGrpSpPr/>
              <p:nvPr/>
            </p:nvGrpSpPr>
            <p:grpSpPr>
              <a:xfrm>
                <a:off x="2429640" y="2730960"/>
                <a:ext cx="6422040" cy="963360"/>
                <a:chOff x="2429640" y="2730960"/>
                <a:chExt cx="6422040" cy="963360"/>
              </a:xfrm>
            </p:grpSpPr>
            <p:sp>
              <p:nvSpPr>
                <p:cNvPr id="283" name="Rectangle 17"/>
                <p:cNvSpPr/>
                <p:nvPr/>
              </p:nvSpPr>
              <p:spPr>
                <a:xfrm>
                  <a:off x="2429640" y="2730960"/>
                  <a:ext cx="6422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4" name="Group 16"/>
                <p:cNvGrpSpPr/>
                <p:nvPr/>
              </p:nvGrpSpPr>
              <p:grpSpPr>
                <a:xfrm>
                  <a:off x="2429640" y="2730960"/>
                  <a:ext cx="6421680" cy="962280"/>
                  <a:chOff x="2429640" y="2730960"/>
                  <a:chExt cx="6421680" cy="962280"/>
                </a:xfrm>
              </p:grpSpPr>
              <p:sp>
                <p:nvSpPr>
                  <p:cNvPr id="285" name="Rectangle 6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-o 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 la 1ª forma menos en la 1ªconjugación que quitamos la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–s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 a la 2ª forma Ej.: </a:t>
                    </a: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ma-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6" name="Rectangle 15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7" name="Group 22"/>
              <p:cNvGrpSpPr/>
              <p:nvPr/>
            </p:nvGrpSpPr>
            <p:grpSpPr>
              <a:xfrm>
                <a:off x="291240" y="3695400"/>
                <a:ext cx="2138040" cy="963360"/>
                <a:chOff x="291240" y="3695400"/>
                <a:chExt cx="2138040" cy="963360"/>
              </a:xfrm>
            </p:grpSpPr>
            <p:sp>
              <p:nvSpPr>
                <p:cNvPr id="288" name="Rectangle 21"/>
                <p:cNvSpPr/>
                <p:nvPr/>
              </p:nvSpPr>
              <p:spPr>
                <a:xfrm>
                  <a:off x="291240" y="3695400"/>
                  <a:ext cx="2138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Group 20"/>
                <p:cNvGrpSpPr/>
                <p:nvPr/>
              </p:nvGrpSpPr>
              <p:grpSpPr>
                <a:xfrm>
                  <a:off x="291240" y="3695400"/>
                  <a:ext cx="2137680" cy="962280"/>
                  <a:chOff x="291240" y="3695400"/>
                  <a:chExt cx="2137680" cy="962280"/>
                </a:xfrm>
              </p:grpSpPr>
              <p:sp>
                <p:nvSpPr>
                  <p:cNvPr id="290" name="Rectangle 7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Tema de perfec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Rectangle 19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2" name="Group 26"/>
              <p:cNvGrpSpPr/>
              <p:nvPr/>
            </p:nvGrpSpPr>
            <p:grpSpPr>
              <a:xfrm>
                <a:off x="2429640" y="3695400"/>
                <a:ext cx="6422040" cy="963360"/>
                <a:chOff x="2429640" y="3695400"/>
                <a:chExt cx="6422040" cy="963360"/>
              </a:xfrm>
            </p:grpSpPr>
            <p:sp>
              <p:nvSpPr>
                <p:cNvPr id="293" name="Rectangle 25"/>
                <p:cNvSpPr/>
                <p:nvPr/>
              </p:nvSpPr>
              <p:spPr>
                <a:xfrm>
                  <a:off x="2429640" y="3695400"/>
                  <a:ext cx="6422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4" name="Group 24"/>
                <p:cNvGrpSpPr/>
                <p:nvPr/>
              </p:nvGrpSpPr>
              <p:grpSpPr>
                <a:xfrm>
                  <a:off x="2429640" y="3695400"/>
                  <a:ext cx="6421680" cy="962280"/>
                  <a:chOff x="2429640" y="3695400"/>
                  <a:chExt cx="6421680" cy="962280"/>
                </a:xfrm>
              </p:grpSpPr>
              <p:sp>
                <p:nvSpPr>
                  <p:cNvPr id="295" name="Rectangle 8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Quitamos la desinencia </a:t>
                    </a:r>
                    <a:r>
                      <a:rPr b="1" i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-i</a:t>
                    </a: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 al perfecto de indicativo. Ej.: </a:t>
                    </a: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amav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6" name="Rectangle 23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7" name="Group 30"/>
              <p:cNvGrpSpPr/>
              <p:nvPr/>
            </p:nvGrpSpPr>
            <p:grpSpPr>
              <a:xfrm>
                <a:off x="291240" y="4660200"/>
                <a:ext cx="2138040" cy="963360"/>
                <a:chOff x="291240" y="4660200"/>
                <a:chExt cx="2138040" cy="963360"/>
              </a:xfrm>
            </p:grpSpPr>
            <p:sp>
              <p:nvSpPr>
                <p:cNvPr id="298" name="Rectangle 29"/>
                <p:cNvSpPr/>
                <p:nvPr/>
              </p:nvSpPr>
              <p:spPr>
                <a:xfrm>
                  <a:off x="291240" y="4660200"/>
                  <a:ext cx="2138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9" name="Group 28"/>
                <p:cNvGrpSpPr/>
                <p:nvPr/>
              </p:nvGrpSpPr>
              <p:grpSpPr>
                <a:xfrm>
                  <a:off x="291240" y="4660200"/>
                  <a:ext cx="2137680" cy="962280"/>
                  <a:chOff x="291240" y="4660200"/>
                  <a:chExt cx="2137680" cy="962280"/>
                </a:xfrm>
              </p:grpSpPr>
              <p:sp>
                <p:nvSpPr>
                  <p:cNvPr id="300" name="Rectangle 9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Tema de supin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1" name="Rectangle 27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02" name="Group 34"/>
              <p:cNvGrpSpPr/>
              <p:nvPr/>
            </p:nvGrpSpPr>
            <p:grpSpPr>
              <a:xfrm>
                <a:off x="2429640" y="4660200"/>
                <a:ext cx="6422040" cy="963360"/>
                <a:chOff x="2429640" y="4660200"/>
                <a:chExt cx="6422040" cy="963360"/>
              </a:xfrm>
            </p:grpSpPr>
            <p:sp>
              <p:nvSpPr>
                <p:cNvPr id="303" name="Rectangle 33"/>
                <p:cNvSpPr/>
                <p:nvPr/>
              </p:nvSpPr>
              <p:spPr>
                <a:xfrm>
                  <a:off x="2429640" y="4660200"/>
                  <a:ext cx="6422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04" name="Group 32"/>
                <p:cNvGrpSpPr/>
                <p:nvPr/>
              </p:nvGrpSpPr>
              <p:grpSpPr>
                <a:xfrm>
                  <a:off x="2429640" y="4660200"/>
                  <a:ext cx="6421680" cy="962280"/>
                  <a:chOff x="2429640" y="4660200"/>
                  <a:chExt cx="6421680" cy="962280"/>
                </a:xfrm>
              </p:grpSpPr>
              <p:sp>
                <p:nvSpPr>
                  <p:cNvPr id="305" name="Rectangle 10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um</a:t>
                    </a: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 al supino. Ej.: </a:t>
                    </a: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amat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6" name="Rectangle 31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07" name="Rectangle 36"/>
            <p:cNvSpPr/>
            <p:nvPr/>
          </p:nvSpPr>
          <p:spPr>
            <a:xfrm>
              <a:off x="285840" y="2714760"/>
              <a:ext cx="8571960" cy="2927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42"/>
          <p:cNvGrpSpPr/>
          <p:nvPr/>
        </p:nvGrpSpPr>
        <p:grpSpPr>
          <a:xfrm>
            <a:off x="6705720" y="5791320"/>
            <a:ext cx="2109600" cy="738000"/>
            <a:chOff x="6705720" y="5791320"/>
            <a:chExt cx="2109600" cy="738000"/>
          </a:xfrm>
        </p:grpSpPr>
        <p:sp>
          <p:nvSpPr>
            <p:cNvPr id="309" name="AutoShape 39">
              <a:hlinkClick r:id="" action="ppaction://hlinkshowjump?jump=nextslide"/>
            </p:cNvPr>
            <p:cNvSpPr/>
            <p:nvPr/>
          </p:nvSpPr>
          <p:spPr>
            <a:xfrm>
              <a:off x="819684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5879"/>
                  </a:moveTo>
                  <a:lnTo>
                    <a:pt x="17806" y="12886"/>
                  </a:lnTo>
                  <a:lnTo>
                    <a:pt x="3794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AutoShape 40">
              <a:hlinkClick r:id="" action="ppaction://hlinkshowjump?jump=firstslide"/>
            </p:cNvPr>
            <p:cNvSpPr/>
            <p:nvPr/>
          </p:nvSpPr>
          <p:spPr>
            <a:xfrm>
              <a:off x="747360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10800" y="5923"/>
                  </a:moveTo>
                  <a:lnTo>
                    <a:pt x="13376" y="8534"/>
                  </a:ln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lnTo>
                    <a:pt x="17763" y="12886"/>
                  </a:lnTo>
                  <a:lnTo>
                    <a:pt x="16109" y="12886"/>
                  </a:lnTo>
                  <a:lnTo>
                    <a:pt x="16109" y="20075"/>
                  </a:lnTo>
                  <a:lnTo>
                    <a:pt x="5491" y="20075"/>
                  </a:lnTo>
                  <a:lnTo>
                    <a:pt x="5491" y="12886"/>
                  </a:lnTo>
                  <a:lnTo>
                    <a:pt x="3837" y="12886"/>
                  </a:lnTo>
                  <a:close/>
                </a:path>
                <a:path fill="darkenLess" w="21600" h="25772">
                  <a:moveTo>
                    <a:pt x="13376" y="8534"/>
                  </a:move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close/>
                </a:path>
                <a:path fill="darkenLess" w="21600" h="25772">
                  <a:moveTo>
                    <a:pt x="9877" y="16385"/>
                  </a:moveTo>
                  <a:lnTo>
                    <a:pt x="11723" y="16385"/>
                  </a:lnTo>
                  <a:lnTo>
                    <a:pt x="11723" y="20075"/>
                  </a:lnTo>
                  <a:lnTo>
                    <a:pt x="16109" y="20075"/>
                  </a:lnTo>
                  <a:lnTo>
                    <a:pt x="16109" y="12886"/>
                  </a:lnTo>
                  <a:lnTo>
                    <a:pt x="5491" y="12886"/>
                  </a:lnTo>
                  <a:lnTo>
                    <a:pt x="5491" y="20075"/>
                  </a:lnTo>
                  <a:lnTo>
                    <a:pt x="9877" y="20075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AutoShape 41">
              <a:hlinkClick r:id="" action="ppaction://hlinkshowjump?jump=previousslide"/>
            </p:cNvPr>
            <p:cNvSpPr/>
            <p:nvPr/>
          </p:nvSpPr>
          <p:spPr>
            <a:xfrm>
              <a:off x="670572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12886"/>
                  </a:moveTo>
                  <a:lnTo>
                    <a:pt x="17806" y="5879"/>
                  </a:lnTo>
                  <a:lnTo>
                    <a:pt x="17806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58"/>
          <p:cNvGrpSpPr/>
          <p:nvPr/>
        </p:nvGrpSpPr>
        <p:grpSpPr>
          <a:xfrm>
            <a:off x="0" y="1857240"/>
            <a:ext cx="8857440" cy="4571640"/>
            <a:chOff x="0" y="1857240"/>
            <a:chExt cx="8857440" cy="4571640"/>
          </a:xfrm>
        </p:grpSpPr>
        <p:grpSp>
          <p:nvGrpSpPr>
            <p:cNvPr id="313" name="Group 59"/>
            <p:cNvGrpSpPr/>
            <p:nvPr/>
          </p:nvGrpSpPr>
          <p:grpSpPr>
            <a:xfrm>
              <a:off x="11880" y="1862280"/>
              <a:ext cx="8831880" cy="4560480"/>
              <a:chOff x="11880" y="1862280"/>
              <a:chExt cx="8831880" cy="4560480"/>
            </a:xfrm>
          </p:grpSpPr>
          <p:grpSp>
            <p:nvGrpSpPr>
              <p:cNvPr id="314" name="Group 60"/>
              <p:cNvGrpSpPr/>
              <p:nvPr/>
            </p:nvGrpSpPr>
            <p:grpSpPr>
              <a:xfrm>
                <a:off x="11880" y="1862280"/>
                <a:ext cx="1144080" cy="911520"/>
                <a:chOff x="11880" y="1862280"/>
                <a:chExt cx="1144080" cy="911520"/>
              </a:xfrm>
            </p:grpSpPr>
            <p:sp>
              <p:nvSpPr>
                <p:cNvPr id="315" name="Rectangle 61"/>
                <p:cNvSpPr/>
                <p:nvPr/>
              </p:nvSpPr>
              <p:spPr>
                <a:xfrm>
                  <a:off x="11880" y="186228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16" name="Group 62"/>
                <p:cNvGrpSpPr/>
                <p:nvPr/>
              </p:nvGrpSpPr>
              <p:grpSpPr>
                <a:xfrm>
                  <a:off x="11880" y="1862280"/>
                  <a:ext cx="1143360" cy="911160"/>
                  <a:chOff x="11880" y="1862280"/>
                  <a:chExt cx="1143360" cy="911160"/>
                </a:xfrm>
              </p:grpSpPr>
              <p:sp>
                <p:nvSpPr>
                  <p:cNvPr id="317" name="Rectangle 63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conj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8" name="Rectangle 64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19" name="Group 65"/>
              <p:cNvGrpSpPr/>
              <p:nvPr/>
            </p:nvGrpSpPr>
            <p:grpSpPr>
              <a:xfrm>
                <a:off x="1156680" y="1862280"/>
                <a:ext cx="7687080" cy="911520"/>
                <a:chOff x="1156680" y="1862280"/>
                <a:chExt cx="7687080" cy="911520"/>
              </a:xfrm>
            </p:grpSpPr>
            <p:sp>
              <p:nvSpPr>
                <p:cNvPr id="320" name="Rectangle 66"/>
                <p:cNvSpPr/>
                <p:nvPr/>
              </p:nvSpPr>
              <p:spPr>
                <a:xfrm>
                  <a:off x="1156680" y="186228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1" name="Group 67"/>
                <p:cNvGrpSpPr/>
                <p:nvPr/>
              </p:nvGrpSpPr>
              <p:grpSpPr>
                <a:xfrm>
                  <a:off x="1156680" y="1862280"/>
                  <a:ext cx="7686360" cy="911160"/>
                  <a:chOff x="1156680" y="1862280"/>
                  <a:chExt cx="7686360" cy="911160"/>
                </a:xfrm>
              </p:grpSpPr>
              <p:sp>
                <p:nvSpPr>
                  <p:cNvPr id="322" name="Rectangle 68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-Tiene tema en -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3" name="Rectangle 69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4" name="Group 70"/>
              <p:cNvGrpSpPr/>
              <p:nvPr/>
            </p:nvGrpSpPr>
            <p:grpSpPr>
              <a:xfrm>
                <a:off x="11880" y="2774160"/>
                <a:ext cx="1144080" cy="911520"/>
                <a:chOff x="11880" y="2774160"/>
                <a:chExt cx="1144080" cy="911520"/>
              </a:xfrm>
            </p:grpSpPr>
            <p:sp>
              <p:nvSpPr>
                <p:cNvPr id="325" name="Rectangle 71"/>
                <p:cNvSpPr/>
                <p:nvPr/>
              </p:nvSpPr>
              <p:spPr>
                <a:xfrm>
                  <a:off x="11880" y="277416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6" name="Group 72"/>
                <p:cNvGrpSpPr/>
                <p:nvPr/>
              </p:nvGrpSpPr>
              <p:grpSpPr>
                <a:xfrm>
                  <a:off x="11880" y="2774160"/>
                  <a:ext cx="1143360" cy="911160"/>
                  <a:chOff x="11880" y="2774160"/>
                  <a:chExt cx="1143360" cy="911160"/>
                </a:xfrm>
              </p:grpSpPr>
              <p:sp>
                <p:nvSpPr>
                  <p:cNvPr id="327" name="Rectangle 73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8" name="Rectangle 74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9" name="Group 75"/>
              <p:cNvGrpSpPr/>
              <p:nvPr/>
            </p:nvGrpSpPr>
            <p:grpSpPr>
              <a:xfrm>
                <a:off x="1156680" y="2774160"/>
                <a:ext cx="7687080" cy="911520"/>
                <a:chOff x="1156680" y="2774160"/>
                <a:chExt cx="7687080" cy="911520"/>
              </a:xfrm>
            </p:grpSpPr>
            <p:sp>
              <p:nvSpPr>
                <p:cNvPr id="330" name="Rectangle 76"/>
                <p:cNvSpPr/>
                <p:nvPr/>
              </p:nvSpPr>
              <p:spPr>
                <a:xfrm>
                  <a:off x="1156680" y="277416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1" name="Group 77"/>
                <p:cNvGrpSpPr/>
                <p:nvPr/>
              </p:nvGrpSpPr>
              <p:grpSpPr>
                <a:xfrm>
                  <a:off x="1156680" y="2774160"/>
                  <a:ext cx="7686360" cy="911160"/>
                  <a:chOff x="1156680" y="2774160"/>
                  <a:chExt cx="7686360" cy="911160"/>
                </a:xfrm>
              </p:grpSpPr>
              <p:sp>
                <p:nvSpPr>
                  <p:cNvPr id="332" name="Rectangle 78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es 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3" name="Rectangle 79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4" name="Group 80"/>
              <p:cNvGrpSpPr/>
              <p:nvPr/>
            </p:nvGrpSpPr>
            <p:grpSpPr>
              <a:xfrm>
                <a:off x="11880" y="3686400"/>
                <a:ext cx="1144080" cy="912240"/>
                <a:chOff x="11880" y="3686400"/>
                <a:chExt cx="1144080" cy="912240"/>
              </a:xfrm>
            </p:grpSpPr>
            <p:sp>
              <p:nvSpPr>
                <p:cNvPr id="335" name="Rectangle 81"/>
                <p:cNvSpPr/>
                <p:nvPr/>
              </p:nvSpPr>
              <p:spPr>
                <a:xfrm>
                  <a:off x="11880" y="3686400"/>
                  <a:ext cx="1144080" cy="9122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6" name="Group 82"/>
                <p:cNvGrpSpPr/>
                <p:nvPr/>
              </p:nvGrpSpPr>
              <p:grpSpPr>
                <a:xfrm>
                  <a:off x="11880" y="3686400"/>
                  <a:ext cx="1143360" cy="911880"/>
                  <a:chOff x="11880" y="3686400"/>
                  <a:chExt cx="1143360" cy="911880"/>
                </a:xfrm>
              </p:grpSpPr>
              <p:sp>
                <p:nvSpPr>
                  <p:cNvPr id="337" name="Rectangle 83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8" name="Rectangle 84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9" name="Group 85"/>
              <p:cNvGrpSpPr/>
              <p:nvPr/>
            </p:nvGrpSpPr>
            <p:grpSpPr>
              <a:xfrm>
                <a:off x="1156680" y="3686400"/>
                <a:ext cx="7687080" cy="912240"/>
                <a:chOff x="1156680" y="3686400"/>
                <a:chExt cx="7687080" cy="912240"/>
              </a:xfrm>
            </p:grpSpPr>
            <p:sp>
              <p:nvSpPr>
                <p:cNvPr id="340" name="Rectangle 86"/>
                <p:cNvSpPr/>
                <p:nvPr/>
              </p:nvSpPr>
              <p:spPr>
                <a:xfrm>
                  <a:off x="1156680" y="3686400"/>
                  <a:ext cx="7687080" cy="91224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1" name="Group 87"/>
                <p:cNvGrpSpPr/>
                <p:nvPr/>
              </p:nvGrpSpPr>
              <p:grpSpPr>
                <a:xfrm>
                  <a:off x="1156680" y="3686400"/>
                  <a:ext cx="7686360" cy="911880"/>
                  <a:chOff x="1156680" y="3686400"/>
                  <a:chExt cx="7686360" cy="911880"/>
                </a:xfrm>
              </p:grpSpPr>
              <p:sp>
                <p:nvSpPr>
                  <p:cNvPr id="342" name="Rectangle 88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reg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Tiene tema consonant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Rectangle 89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4" name="Group 90"/>
              <p:cNvGrpSpPr/>
              <p:nvPr/>
            </p:nvGrpSpPr>
            <p:grpSpPr>
              <a:xfrm>
                <a:off x="11880" y="4599000"/>
                <a:ext cx="1144080" cy="911520"/>
                <a:chOff x="11880" y="4599000"/>
                <a:chExt cx="1144080" cy="911520"/>
              </a:xfrm>
            </p:grpSpPr>
            <p:sp>
              <p:nvSpPr>
                <p:cNvPr id="345" name="Rectangle 91"/>
                <p:cNvSpPr/>
                <p:nvPr/>
              </p:nvSpPr>
              <p:spPr>
                <a:xfrm>
                  <a:off x="11880" y="459900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6" name="Group 92"/>
                <p:cNvGrpSpPr/>
                <p:nvPr/>
              </p:nvGrpSpPr>
              <p:grpSpPr>
                <a:xfrm>
                  <a:off x="11880" y="4599000"/>
                  <a:ext cx="1143360" cy="911160"/>
                  <a:chOff x="11880" y="4599000"/>
                  <a:chExt cx="1143360" cy="911160"/>
                </a:xfrm>
              </p:grpSpPr>
              <p:sp>
                <p:nvSpPr>
                  <p:cNvPr id="347" name="Rectangle 93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Rectangle 94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9" name="Group 95"/>
              <p:cNvGrpSpPr/>
              <p:nvPr/>
            </p:nvGrpSpPr>
            <p:grpSpPr>
              <a:xfrm>
                <a:off x="1156680" y="4599000"/>
                <a:ext cx="7687080" cy="911520"/>
                <a:chOff x="1156680" y="4599000"/>
                <a:chExt cx="7687080" cy="911520"/>
              </a:xfrm>
            </p:grpSpPr>
            <p:sp>
              <p:nvSpPr>
                <p:cNvPr id="350" name="Rectangle 96"/>
                <p:cNvSpPr/>
                <p:nvPr/>
              </p:nvSpPr>
              <p:spPr>
                <a:xfrm>
                  <a:off x="1156680" y="459900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1" name="Group 97"/>
                <p:cNvGrpSpPr/>
                <p:nvPr/>
              </p:nvGrpSpPr>
              <p:grpSpPr>
                <a:xfrm>
                  <a:off x="1156680" y="4599000"/>
                  <a:ext cx="7686360" cy="911160"/>
                  <a:chOff x="1156680" y="4599000"/>
                  <a:chExt cx="7686360" cy="911160"/>
                </a:xfrm>
              </p:grpSpPr>
              <p:sp>
                <p:nvSpPr>
                  <p:cNvPr id="352" name="Rectangle 98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ud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Tiene tema en –I larga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Rectangle 99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4" name="Group 100"/>
              <p:cNvGrpSpPr/>
              <p:nvPr/>
            </p:nvGrpSpPr>
            <p:grpSpPr>
              <a:xfrm>
                <a:off x="11880" y="5511240"/>
                <a:ext cx="1144080" cy="911520"/>
                <a:chOff x="11880" y="5511240"/>
                <a:chExt cx="1144080" cy="911520"/>
              </a:xfrm>
            </p:grpSpPr>
            <p:sp>
              <p:nvSpPr>
                <p:cNvPr id="355" name="Rectangle 101"/>
                <p:cNvSpPr/>
                <p:nvPr/>
              </p:nvSpPr>
              <p:spPr>
                <a:xfrm>
                  <a:off x="11880" y="551124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6" name="Group 102"/>
                <p:cNvGrpSpPr/>
                <p:nvPr/>
              </p:nvGrpSpPr>
              <p:grpSpPr>
                <a:xfrm>
                  <a:off x="11880" y="5511240"/>
                  <a:ext cx="1143360" cy="911160"/>
                  <a:chOff x="11880" y="5511240"/>
                  <a:chExt cx="1143360" cy="911160"/>
                </a:xfrm>
              </p:grpSpPr>
              <p:sp>
                <p:nvSpPr>
                  <p:cNvPr id="357" name="Rectangle 103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Rectangle 104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9" name="Group 105"/>
              <p:cNvGrpSpPr/>
              <p:nvPr/>
            </p:nvGrpSpPr>
            <p:grpSpPr>
              <a:xfrm>
                <a:off x="1156680" y="5511240"/>
                <a:ext cx="7687080" cy="911520"/>
                <a:chOff x="1156680" y="5511240"/>
                <a:chExt cx="7687080" cy="911520"/>
              </a:xfrm>
            </p:grpSpPr>
            <p:sp>
              <p:nvSpPr>
                <p:cNvPr id="360" name="Rectangle 106"/>
                <p:cNvSpPr/>
                <p:nvPr/>
              </p:nvSpPr>
              <p:spPr>
                <a:xfrm>
                  <a:off x="1156680" y="551124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61" name="Group 107"/>
                <p:cNvGrpSpPr/>
                <p:nvPr/>
              </p:nvGrpSpPr>
              <p:grpSpPr>
                <a:xfrm>
                  <a:off x="1156680" y="5511240"/>
                  <a:ext cx="7686360" cy="911160"/>
                  <a:chOff x="1156680" y="5511240"/>
                  <a:chExt cx="7686360" cy="911160"/>
                </a:xfrm>
              </p:grpSpPr>
              <p:sp>
                <p:nvSpPr>
                  <p:cNvPr id="362" name="Rectangle 108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cap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 Tiene tema en –I brev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Rectangle 109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64" name="Rectangle 110"/>
            <p:cNvSpPr/>
            <p:nvPr/>
          </p:nvSpPr>
          <p:spPr>
            <a:xfrm>
              <a:off x="0" y="1857240"/>
              <a:ext cx="8857440" cy="457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Rectangle 2"/>
          <p:cNvSpPr/>
          <p:nvPr/>
        </p:nvSpPr>
        <p:spPr>
          <a:xfrm>
            <a:off x="98100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L TEMA DE LAS CONJUGACI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428760" y="1214280"/>
            <a:ext cx="816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 la letra última de la raíz de pres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57 Rectángulo"/>
          <p:cNvSpPr/>
          <p:nvPr/>
        </p:nvSpPr>
        <p:spPr>
          <a:xfrm>
            <a:off x="5079960" y="28576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fc5e"/>
                </a:solidFill>
                <a:latin typeface="Times New Roman"/>
              </a:rPr>
              <a:t>Tiene tema en -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06:54:13Z</dcterms:created>
  <dc:creator>w</dc:creator>
  <dc:description/>
  <dc:language>en-US</dc:language>
  <cp:lastModifiedBy>AUDIOLEASK</cp:lastModifiedBy>
  <dcterms:modified xsi:type="dcterms:W3CDTF">2012-12-03T15:04:22Z</dcterms:modified>
  <cp:revision>39</cp:revision>
  <dc:subject/>
  <dc:title>EL ANÁLISIS DE FORMAS VERBALES</dc:title>
</cp:coreProperties>
</file>