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5D3-18D2-49D4-BEB9-200223F3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AC1-8E2C-48A6-920E-302D6B23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A7E-D2B4-4580-A827-DEC0FBB2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B3B-5380-480B-9DFA-786329B4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3885-83F3-4073-8875-1B6A528B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A238-21E3-4920-AE2C-FD132A72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00A2-3D5B-4672-849B-7C5F22FC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86F5-C568-4293-B91E-1078918C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8D9F-A2DA-4A14-95D1-628A3E32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202F-4CF1-4596-97A7-E05114B8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DCB7-59A1-4D1C-B7BA-743A1EF2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C93-59F3-4F49-B7EA-A32C95C6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A4FA-1C64-40D4-B73F-06C4A439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2AB7-DD21-4264-AB6A-775CA651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F9F9-AEB0-4A8A-9462-47CB5E93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6109-F0D7-47DC-8A28-D5CABBEF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608E-075B-4D74-8077-38D7DCAC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492-290E-4246-97E4-B263DFEB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63A-B588-49BC-916E-13BED1F4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B58-3A6D-4B10-8DF7-FA960470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101-FE33-4C7C-94E4-E1A75D5A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66B-C529-405D-81A3-3AC2D4C6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C53-F283-4898-BB4D-2A1578D5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78E-3803-4823-9626-A215ABF5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ADE6-8493-4A2D-BF66-5521CDFE787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7BD8-470A-4D10-A4C5-307E431C1E6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16441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DISTINGUIR LAS CONJUGACIONES</a:t>
            </a:r>
            <a:br>
              <a:rPr sz="2800"/>
            </a:b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Y LOS TEMAS DEL VERBO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AutoShape 4">
            <a:hlinkClick r:id="" action="ppaction://hlinkshowjump?jump=nextslide"/>
          </p:cNvPr>
          <p:cNvSpPr/>
          <p:nvPr/>
        </p:nvSpPr>
        <p:spPr>
          <a:xfrm>
            <a:off x="7772400" y="49528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Para distinguir la conjugación del verbo debemos partir siempre del </a:t>
            </a:r>
            <a:r>
              <a:rPr b="1" lang="es-ES_tradnl" sz="1800" spc="-1" strike="noStrike">
                <a:solidFill>
                  <a:srgbClr val="9a0000"/>
                </a:solidFill>
                <a:latin typeface="Verdana"/>
              </a:rPr>
              <a:t>enunciado del verbo</a:t>
            </a: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980640" y="671040"/>
            <a:ext cx="816300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Determinar la conjugación.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137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Group 58"/>
          <p:cNvGrpSpPr/>
          <p:nvPr/>
        </p:nvGrpSpPr>
        <p:grpSpPr>
          <a:xfrm>
            <a:off x="642960" y="3143160"/>
            <a:ext cx="8214480" cy="2546280"/>
            <a:chOff x="642960" y="3143160"/>
            <a:chExt cx="8214480" cy="2546280"/>
          </a:xfrm>
        </p:grpSpPr>
        <p:grpSp>
          <p:nvGrpSpPr>
            <p:cNvPr id="216" name="Group 59"/>
            <p:cNvGrpSpPr/>
            <p:nvPr/>
          </p:nvGrpSpPr>
          <p:grpSpPr>
            <a:xfrm>
              <a:off x="654120" y="3146040"/>
              <a:ext cx="8190720" cy="2540520"/>
              <a:chOff x="654120" y="3146040"/>
              <a:chExt cx="8190720" cy="2540520"/>
            </a:xfrm>
          </p:grpSpPr>
          <p:grpSp>
            <p:nvGrpSpPr>
              <p:cNvPr id="217" name="Group 60"/>
              <p:cNvGrpSpPr/>
              <p:nvPr/>
            </p:nvGrpSpPr>
            <p:grpSpPr>
              <a:xfrm>
                <a:off x="654120" y="3146040"/>
                <a:ext cx="1060920" cy="507960"/>
                <a:chOff x="654120" y="3146040"/>
                <a:chExt cx="1060920" cy="507960"/>
              </a:xfrm>
            </p:grpSpPr>
            <p:sp>
              <p:nvSpPr>
                <p:cNvPr id="218" name="Rectangle 61"/>
                <p:cNvSpPr/>
                <p:nvPr/>
              </p:nvSpPr>
              <p:spPr>
                <a:xfrm>
                  <a:off x="654120" y="314604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19" name="Group 62"/>
                <p:cNvGrpSpPr/>
                <p:nvPr/>
              </p:nvGrpSpPr>
              <p:grpSpPr>
                <a:xfrm>
                  <a:off x="654120" y="3146040"/>
                  <a:ext cx="1060200" cy="507960"/>
                  <a:chOff x="654120" y="3146040"/>
                  <a:chExt cx="1060200" cy="507960"/>
                </a:xfrm>
              </p:grpSpPr>
              <p:sp>
                <p:nvSpPr>
                  <p:cNvPr id="220" name="Rectangle 63"/>
                  <p:cNvSpPr/>
                  <p:nvPr/>
                </p:nvSpPr>
                <p:spPr>
                  <a:xfrm>
                    <a:off x="654120" y="314604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1" name="Rectangle 64"/>
                  <p:cNvSpPr/>
                  <p:nvPr/>
                </p:nvSpPr>
                <p:spPr>
                  <a:xfrm>
                    <a:off x="654120" y="314604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22" name="Group 65"/>
              <p:cNvGrpSpPr/>
              <p:nvPr/>
            </p:nvGrpSpPr>
            <p:grpSpPr>
              <a:xfrm>
                <a:off x="1715760" y="3146040"/>
                <a:ext cx="7129080" cy="507960"/>
                <a:chOff x="1715760" y="3146040"/>
                <a:chExt cx="7129080" cy="507960"/>
              </a:xfrm>
            </p:grpSpPr>
            <p:sp>
              <p:nvSpPr>
                <p:cNvPr id="223" name="Rectangle 66"/>
                <p:cNvSpPr/>
                <p:nvPr/>
              </p:nvSpPr>
              <p:spPr>
                <a:xfrm>
                  <a:off x="1715760" y="314604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24" name="Group 67"/>
                <p:cNvGrpSpPr/>
                <p:nvPr/>
              </p:nvGrpSpPr>
              <p:grpSpPr>
                <a:xfrm>
                  <a:off x="1715760" y="3146040"/>
                  <a:ext cx="7128360" cy="507960"/>
                  <a:chOff x="1715760" y="3146040"/>
                  <a:chExt cx="7128360" cy="507960"/>
                </a:xfrm>
              </p:grpSpPr>
              <p:sp>
                <p:nvSpPr>
                  <p:cNvPr id="225" name="Rectangle 68"/>
                  <p:cNvSpPr/>
                  <p:nvPr/>
                </p:nvSpPr>
                <p:spPr>
                  <a:xfrm>
                    <a:off x="1715760" y="314604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mo, am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m-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mavi, ama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6" name="Rectangle 69"/>
                  <p:cNvSpPr/>
                  <p:nvPr/>
                </p:nvSpPr>
                <p:spPr>
                  <a:xfrm>
                    <a:off x="1715760" y="314604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27" name="Group 70"/>
              <p:cNvGrpSpPr/>
              <p:nvPr/>
            </p:nvGrpSpPr>
            <p:grpSpPr>
              <a:xfrm>
                <a:off x="654120" y="3654000"/>
                <a:ext cx="1060920" cy="507960"/>
                <a:chOff x="654120" y="3654000"/>
                <a:chExt cx="1060920" cy="507960"/>
              </a:xfrm>
            </p:grpSpPr>
            <p:sp>
              <p:nvSpPr>
                <p:cNvPr id="228" name="Rectangle 71"/>
                <p:cNvSpPr/>
                <p:nvPr/>
              </p:nvSpPr>
              <p:spPr>
                <a:xfrm>
                  <a:off x="654120" y="365400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29" name="Group 72"/>
                <p:cNvGrpSpPr/>
                <p:nvPr/>
              </p:nvGrpSpPr>
              <p:grpSpPr>
                <a:xfrm>
                  <a:off x="654120" y="3654000"/>
                  <a:ext cx="1060200" cy="507960"/>
                  <a:chOff x="654120" y="3654000"/>
                  <a:chExt cx="1060200" cy="507960"/>
                </a:xfrm>
              </p:grpSpPr>
              <p:sp>
                <p:nvSpPr>
                  <p:cNvPr id="230" name="Rectangle 73"/>
                  <p:cNvSpPr/>
                  <p:nvPr/>
                </p:nvSpPr>
                <p:spPr>
                  <a:xfrm>
                    <a:off x="654120" y="365400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1" name="Rectangle 74"/>
                  <p:cNvSpPr/>
                  <p:nvPr/>
                </p:nvSpPr>
                <p:spPr>
                  <a:xfrm>
                    <a:off x="654120" y="365400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32" name="Group 75"/>
              <p:cNvGrpSpPr/>
              <p:nvPr/>
            </p:nvGrpSpPr>
            <p:grpSpPr>
              <a:xfrm>
                <a:off x="1715760" y="3654000"/>
                <a:ext cx="7129080" cy="507960"/>
                <a:chOff x="1715760" y="3654000"/>
                <a:chExt cx="7129080" cy="507960"/>
              </a:xfrm>
            </p:grpSpPr>
            <p:sp>
              <p:nvSpPr>
                <p:cNvPr id="233" name="Rectangle 76"/>
                <p:cNvSpPr/>
                <p:nvPr/>
              </p:nvSpPr>
              <p:spPr>
                <a:xfrm>
                  <a:off x="1715760" y="365400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34" name="Group 77"/>
                <p:cNvGrpSpPr/>
                <p:nvPr/>
              </p:nvGrpSpPr>
              <p:grpSpPr>
                <a:xfrm>
                  <a:off x="1715760" y="3654000"/>
                  <a:ext cx="7128360" cy="507960"/>
                  <a:chOff x="1715760" y="3654000"/>
                  <a:chExt cx="7128360" cy="507960"/>
                </a:xfrm>
              </p:grpSpPr>
              <p:sp>
                <p:nvSpPr>
                  <p:cNvPr id="235" name="Rectangle 78"/>
                  <p:cNvSpPr/>
                  <p:nvPr/>
                </p:nvSpPr>
                <p:spPr>
                  <a:xfrm>
                    <a:off x="1715760" y="365400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b</a:t>
                    </a:r>
                    <a:r>
                      <a:rPr b="1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s, 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ui, habi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6" name="Rectangle 79"/>
                  <p:cNvSpPr/>
                  <p:nvPr/>
                </p:nvSpPr>
                <p:spPr>
                  <a:xfrm>
                    <a:off x="1715760" y="365400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37" name="Group 80"/>
              <p:cNvGrpSpPr/>
              <p:nvPr/>
            </p:nvGrpSpPr>
            <p:grpSpPr>
              <a:xfrm>
                <a:off x="654120" y="4161960"/>
                <a:ext cx="1060920" cy="507960"/>
                <a:chOff x="654120" y="4161960"/>
                <a:chExt cx="1060920" cy="507960"/>
              </a:xfrm>
            </p:grpSpPr>
            <p:sp>
              <p:nvSpPr>
                <p:cNvPr id="238" name="Rectangle 81"/>
                <p:cNvSpPr/>
                <p:nvPr/>
              </p:nvSpPr>
              <p:spPr>
                <a:xfrm>
                  <a:off x="654120" y="416196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39" name="Group 82"/>
                <p:cNvGrpSpPr/>
                <p:nvPr/>
              </p:nvGrpSpPr>
              <p:grpSpPr>
                <a:xfrm>
                  <a:off x="654120" y="4161960"/>
                  <a:ext cx="1060200" cy="507960"/>
                  <a:chOff x="654120" y="4161960"/>
                  <a:chExt cx="1060200" cy="507960"/>
                </a:xfrm>
              </p:grpSpPr>
              <p:sp>
                <p:nvSpPr>
                  <p:cNvPr id="240" name="Rectangle 83"/>
                  <p:cNvSpPr/>
                  <p:nvPr/>
                </p:nvSpPr>
                <p:spPr>
                  <a:xfrm>
                    <a:off x="654120" y="416196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1" name="Rectangle 84"/>
                  <p:cNvSpPr/>
                  <p:nvPr/>
                </p:nvSpPr>
                <p:spPr>
                  <a:xfrm>
                    <a:off x="654120" y="416196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42" name="Group 85"/>
              <p:cNvGrpSpPr/>
              <p:nvPr/>
            </p:nvGrpSpPr>
            <p:grpSpPr>
              <a:xfrm>
                <a:off x="1715760" y="4161960"/>
                <a:ext cx="7129080" cy="507960"/>
                <a:chOff x="1715760" y="4161960"/>
                <a:chExt cx="7129080" cy="507960"/>
              </a:xfrm>
            </p:grpSpPr>
            <p:sp>
              <p:nvSpPr>
                <p:cNvPr id="243" name="Rectangle 86"/>
                <p:cNvSpPr/>
                <p:nvPr/>
              </p:nvSpPr>
              <p:spPr>
                <a:xfrm>
                  <a:off x="1715760" y="416196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4" name="Group 87"/>
                <p:cNvGrpSpPr/>
                <p:nvPr/>
              </p:nvGrpSpPr>
              <p:grpSpPr>
                <a:xfrm>
                  <a:off x="1715760" y="4161960"/>
                  <a:ext cx="7128360" cy="507960"/>
                  <a:chOff x="1715760" y="4161960"/>
                  <a:chExt cx="7128360" cy="507960"/>
                </a:xfrm>
              </p:grpSpPr>
              <p:sp>
                <p:nvSpPr>
                  <p:cNvPr id="245" name="Rectangle 88"/>
                  <p:cNvSpPr/>
                  <p:nvPr/>
                </p:nvSpPr>
                <p:spPr>
                  <a:xfrm>
                    <a:off x="1715760" y="416196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o, reg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s, 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rexi, rec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6" name="Rectangle 89"/>
                  <p:cNvSpPr/>
                  <p:nvPr/>
                </p:nvSpPr>
                <p:spPr>
                  <a:xfrm>
                    <a:off x="1715760" y="416196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47" name="Group 90"/>
              <p:cNvGrpSpPr/>
              <p:nvPr/>
            </p:nvGrpSpPr>
            <p:grpSpPr>
              <a:xfrm>
                <a:off x="654120" y="4670280"/>
                <a:ext cx="1060920" cy="507960"/>
                <a:chOff x="654120" y="4670280"/>
                <a:chExt cx="1060920" cy="507960"/>
              </a:xfrm>
            </p:grpSpPr>
            <p:sp>
              <p:nvSpPr>
                <p:cNvPr id="248" name="Rectangle 91"/>
                <p:cNvSpPr/>
                <p:nvPr/>
              </p:nvSpPr>
              <p:spPr>
                <a:xfrm>
                  <a:off x="654120" y="467028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9" name="Group 92"/>
                <p:cNvGrpSpPr/>
                <p:nvPr/>
              </p:nvGrpSpPr>
              <p:grpSpPr>
                <a:xfrm>
                  <a:off x="654120" y="4670280"/>
                  <a:ext cx="1060200" cy="507960"/>
                  <a:chOff x="654120" y="4670280"/>
                  <a:chExt cx="1060200" cy="507960"/>
                </a:xfrm>
              </p:grpSpPr>
              <p:sp>
                <p:nvSpPr>
                  <p:cNvPr id="250" name="Rectangle 93"/>
                  <p:cNvSpPr/>
                  <p:nvPr/>
                </p:nvSpPr>
                <p:spPr>
                  <a:xfrm>
                    <a:off x="654120" y="467028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1" name="Rectangle 94"/>
                  <p:cNvSpPr/>
                  <p:nvPr/>
                </p:nvSpPr>
                <p:spPr>
                  <a:xfrm>
                    <a:off x="654120" y="467028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52" name="Group 95"/>
              <p:cNvGrpSpPr/>
              <p:nvPr/>
            </p:nvGrpSpPr>
            <p:grpSpPr>
              <a:xfrm>
                <a:off x="1715760" y="4670280"/>
                <a:ext cx="7129080" cy="507960"/>
                <a:chOff x="1715760" y="4670280"/>
                <a:chExt cx="7129080" cy="507960"/>
              </a:xfrm>
            </p:grpSpPr>
            <p:sp>
              <p:nvSpPr>
                <p:cNvPr id="253" name="Rectangle 96"/>
                <p:cNvSpPr/>
                <p:nvPr/>
              </p:nvSpPr>
              <p:spPr>
                <a:xfrm>
                  <a:off x="1715760" y="467028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54" name="Group 97"/>
                <p:cNvGrpSpPr/>
                <p:nvPr/>
              </p:nvGrpSpPr>
              <p:grpSpPr>
                <a:xfrm>
                  <a:off x="1715760" y="4670280"/>
                  <a:ext cx="7128360" cy="507960"/>
                  <a:chOff x="1715760" y="4670280"/>
                  <a:chExt cx="7128360" cy="507960"/>
                </a:xfrm>
              </p:grpSpPr>
              <p:sp>
                <p:nvSpPr>
                  <p:cNvPr id="255" name="Rectangle 98"/>
                  <p:cNvSpPr/>
                  <p:nvPr/>
                </p:nvSpPr>
                <p:spPr>
                  <a:xfrm>
                    <a:off x="1715760" y="467028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ud</a:t>
                    </a:r>
                    <a:r>
                      <a:rPr b="0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ivi, audi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6" name="Rectangle 99"/>
                  <p:cNvSpPr/>
                  <p:nvPr/>
                </p:nvSpPr>
                <p:spPr>
                  <a:xfrm>
                    <a:off x="1715760" y="467028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57" name="Group 100"/>
              <p:cNvGrpSpPr/>
              <p:nvPr/>
            </p:nvGrpSpPr>
            <p:grpSpPr>
              <a:xfrm>
                <a:off x="654120" y="5178600"/>
                <a:ext cx="1060920" cy="507960"/>
                <a:chOff x="654120" y="5178600"/>
                <a:chExt cx="1060920" cy="507960"/>
              </a:xfrm>
            </p:grpSpPr>
            <p:sp>
              <p:nvSpPr>
                <p:cNvPr id="258" name="Rectangle 101"/>
                <p:cNvSpPr/>
                <p:nvPr/>
              </p:nvSpPr>
              <p:spPr>
                <a:xfrm>
                  <a:off x="654120" y="517860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59" name="Group 102"/>
                <p:cNvGrpSpPr/>
                <p:nvPr/>
              </p:nvGrpSpPr>
              <p:grpSpPr>
                <a:xfrm>
                  <a:off x="654120" y="5178600"/>
                  <a:ext cx="1060200" cy="507960"/>
                  <a:chOff x="654120" y="5178600"/>
                  <a:chExt cx="1060200" cy="507960"/>
                </a:xfrm>
              </p:grpSpPr>
              <p:sp>
                <p:nvSpPr>
                  <p:cNvPr id="260" name="Rectangle 103"/>
                  <p:cNvSpPr/>
                  <p:nvPr/>
                </p:nvSpPr>
                <p:spPr>
                  <a:xfrm>
                    <a:off x="654120" y="517860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1" name="Rectangle 104"/>
                  <p:cNvSpPr/>
                  <p:nvPr/>
                </p:nvSpPr>
                <p:spPr>
                  <a:xfrm>
                    <a:off x="654120" y="517860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62" name="Group 105"/>
              <p:cNvGrpSpPr/>
              <p:nvPr/>
            </p:nvGrpSpPr>
            <p:grpSpPr>
              <a:xfrm>
                <a:off x="1715760" y="5178600"/>
                <a:ext cx="7129080" cy="507960"/>
                <a:chOff x="1715760" y="5178600"/>
                <a:chExt cx="7129080" cy="507960"/>
              </a:xfrm>
            </p:grpSpPr>
            <p:sp>
              <p:nvSpPr>
                <p:cNvPr id="263" name="Rectangle 106"/>
                <p:cNvSpPr/>
                <p:nvPr/>
              </p:nvSpPr>
              <p:spPr>
                <a:xfrm>
                  <a:off x="1715760" y="517860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4" name="Group 107"/>
                <p:cNvGrpSpPr/>
                <p:nvPr/>
              </p:nvGrpSpPr>
              <p:grpSpPr>
                <a:xfrm>
                  <a:off x="1715760" y="5178600"/>
                  <a:ext cx="7128360" cy="507960"/>
                  <a:chOff x="1715760" y="5178600"/>
                  <a:chExt cx="7128360" cy="507960"/>
                </a:xfrm>
              </p:grpSpPr>
              <p:sp>
                <p:nvSpPr>
                  <p:cNvPr id="265" name="Rectangle 108"/>
                  <p:cNvSpPr/>
                  <p:nvPr/>
                </p:nvSpPr>
                <p:spPr>
                  <a:xfrm>
                    <a:off x="1715760" y="517860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ap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epi, cap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6" name="Rectangle 109"/>
                  <p:cNvSpPr/>
                  <p:nvPr/>
                </p:nvSpPr>
                <p:spPr>
                  <a:xfrm>
                    <a:off x="1715760" y="517860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67" name="Rectangle 110"/>
            <p:cNvSpPr/>
            <p:nvPr/>
          </p:nvSpPr>
          <p:spPr>
            <a:xfrm>
              <a:off x="642960" y="3143160"/>
              <a:ext cx="8214480" cy="2546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" name="Group 114"/>
          <p:cNvGrpSpPr/>
          <p:nvPr/>
        </p:nvGrpSpPr>
        <p:grpSpPr>
          <a:xfrm>
            <a:off x="7010280" y="5867280"/>
            <a:ext cx="1652760" cy="662040"/>
            <a:chOff x="7010280" y="5867280"/>
            <a:chExt cx="1652760" cy="662040"/>
          </a:xfrm>
        </p:grpSpPr>
        <p:sp>
          <p:nvSpPr>
            <p:cNvPr id="269" name="AutoShape 112">
              <a:hlinkClick r:id="" action="ppaction://hlinkshowjump?jump=nextslide"/>
            </p:cNvPr>
            <p:cNvSpPr/>
            <p:nvPr/>
          </p:nvSpPr>
          <p:spPr>
            <a:xfrm>
              <a:off x="7924680" y="5867280"/>
              <a:ext cx="738360" cy="662040"/>
            </a:xfrm>
            <a:custGeom>
              <a:avLst/>
              <a:gdLst>
                <a:gd name="textAreaLeft" fmla="*/ 42840 w 738360"/>
                <a:gd name="textAreaRight" fmla="*/ 695520 w 73836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4089" h="21600">
                  <a:moveTo>
                    <a:pt x="0" y="0"/>
                  </a:moveTo>
                  <a:lnTo>
                    <a:pt x="24089" y="0"/>
                  </a:lnTo>
                  <a:lnTo>
                    <a:pt x="24089" y="21600"/>
                  </a:lnTo>
                  <a:lnTo>
                    <a:pt x="0" y="21600"/>
                  </a:lnTo>
                  <a:close/>
                </a:path>
                <a:path fill="lightenLess" w="24089" h="21600">
                  <a:moveTo>
                    <a:pt x="0" y="0"/>
                  </a:moveTo>
                  <a:lnTo>
                    <a:pt x="24089" y="0"/>
                  </a:lnTo>
                  <a:lnTo>
                    <a:pt x="22689" y="1400"/>
                  </a:lnTo>
                  <a:lnTo>
                    <a:pt x="1400" y="1400"/>
                  </a:lnTo>
                  <a:close/>
                </a:path>
                <a:path fill="darken" w="24089" h="21600">
                  <a:moveTo>
                    <a:pt x="24089" y="0"/>
                  </a:moveTo>
                  <a:lnTo>
                    <a:pt x="24089" y="21600"/>
                  </a:lnTo>
                  <a:lnTo>
                    <a:pt x="22689" y="20200"/>
                  </a:lnTo>
                  <a:lnTo>
                    <a:pt x="22689" y="1400"/>
                  </a:lnTo>
                  <a:close/>
                </a:path>
                <a:path fill="darkenLess" w="24089" h="21600">
                  <a:moveTo>
                    <a:pt x="240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689" y="20200"/>
                  </a:lnTo>
                  <a:close/>
                </a:path>
                <a:path fill="lighten" w="240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089" h="21600">
                  <a:moveTo>
                    <a:pt x="5038" y="3794"/>
                  </a:moveTo>
                  <a:lnTo>
                    <a:pt x="19051" y="10800"/>
                  </a:lnTo>
                  <a:lnTo>
                    <a:pt x="5038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AutoShape 113">
              <a:hlinkClick r:id="" action="ppaction://hlinkshowjump?jump=previousslide"/>
            </p:cNvPr>
            <p:cNvSpPr/>
            <p:nvPr/>
          </p:nvSpPr>
          <p:spPr>
            <a:xfrm>
              <a:off x="7010280" y="5867280"/>
              <a:ext cx="662040" cy="662040"/>
            </a:xfrm>
            <a:custGeom>
              <a:avLst/>
              <a:gdLst>
                <a:gd name="textAreaLeft" fmla="*/ 42840 w 662040"/>
                <a:gd name="textAreaRight" fmla="*/ 619200 w 66204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1" name="Text Box 111"/>
          <p:cNvSpPr/>
          <p:nvPr/>
        </p:nvSpPr>
        <p:spPr>
          <a:xfrm>
            <a:off x="1000080" y="250020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Tendremos en cuenta las formas que aparecen en color amarillo en cada enunci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8064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Sacar la raíz.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El </a:t>
            </a:r>
            <a:r>
              <a:rPr b="1" lang="es-ES_tradnl" sz="1800" spc="-1" strike="noStrike">
                <a:solidFill>
                  <a:srgbClr val="9a0000"/>
                </a:solidFill>
                <a:latin typeface="Verdana"/>
              </a:rPr>
              <a:t> verbo tiene tres raíces temáticas o tema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37"/>
          <p:cNvGrpSpPr/>
          <p:nvPr/>
        </p:nvGrpSpPr>
        <p:grpSpPr>
          <a:xfrm>
            <a:off x="285840" y="2714760"/>
            <a:ext cx="8571960" cy="2927880"/>
            <a:chOff x="285840" y="2714760"/>
            <a:chExt cx="8571960" cy="2927880"/>
          </a:xfrm>
        </p:grpSpPr>
        <p:grpSp>
          <p:nvGrpSpPr>
            <p:cNvPr id="276" name="Group 35"/>
            <p:cNvGrpSpPr/>
            <p:nvPr/>
          </p:nvGrpSpPr>
          <p:grpSpPr>
            <a:xfrm>
              <a:off x="291240" y="2730960"/>
              <a:ext cx="8560440" cy="2892600"/>
              <a:chOff x="291240" y="2730960"/>
              <a:chExt cx="8560440" cy="2892600"/>
            </a:xfrm>
          </p:grpSpPr>
          <p:grpSp>
            <p:nvGrpSpPr>
              <p:cNvPr id="277" name="Group 14"/>
              <p:cNvGrpSpPr/>
              <p:nvPr/>
            </p:nvGrpSpPr>
            <p:grpSpPr>
              <a:xfrm>
                <a:off x="291240" y="2730960"/>
                <a:ext cx="2138040" cy="963360"/>
                <a:chOff x="291240" y="2730960"/>
                <a:chExt cx="2138040" cy="963360"/>
              </a:xfrm>
            </p:grpSpPr>
            <p:sp>
              <p:nvSpPr>
                <p:cNvPr id="278" name="Rectangle 13"/>
                <p:cNvSpPr/>
                <p:nvPr/>
              </p:nvSpPr>
              <p:spPr>
                <a:xfrm>
                  <a:off x="291240" y="2730960"/>
                  <a:ext cx="2138040" cy="963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9" name="Group 12"/>
                <p:cNvGrpSpPr/>
                <p:nvPr/>
              </p:nvGrpSpPr>
              <p:grpSpPr>
                <a:xfrm>
                  <a:off x="291240" y="2730960"/>
                  <a:ext cx="2137680" cy="962280"/>
                  <a:chOff x="291240" y="2730960"/>
                  <a:chExt cx="2137680" cy="962280"/>
                </a:xfrm>
              </p:grpSpPr>
              <p:sp>
                <p:nvSpPr>
                  <p:cNvPr id="280" name="Rectangle 5"/>
                  <p:cNvSpPr/>
                  <p:nvPr/>
                </p:nvSpPr>
                <p:spPr>
                  <a:xfrm>
                    <a:off x="291240" y="2730960"/>
                    <a:ext cx="2137680" cy="962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Tema de presen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1" name="Rectangle 11"/>
                  <p:cNvSpPr/>
                  <p:nvPr/>
                </p:nvSpPr>
                <p:spPr>
                  <a:xfrm>
                    <a:off x="291240" y="273096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82" name="Group 18"/>
              <p:cNvGrpSpPr/>
              <p:nvPr/>
            </p:nvGrpSpPr>
            <p:grpSpPr>
              <a:xfrm>
                <a:off x="2429640" y="2730960"/>
                <a:ext cx="6422040" cy="963360"/>
                <a:chOff x="2429640" y="2730960"/>
                <a:chExt cx="6422040" cy="963360"/>
              </a:xfrm>
            </p:grpSpPr>
            <p:sp>
              <p:nvSpPr>
                <p:cNvPr id="283" name="Rectangle 17"/>
                <p:cNvSpPr/>
                <p:nvPr/>
              </p:nvSpPr>
              <p:spPr>
                <a:xfrm>
                  <a:off x="2429640" y="2730960"/>
                  <a:ext cx="6422040" cy="963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4" name="Group 16"/>
                <p:cNvGrpSpPr/>
                <p:nvPr/>
              </p:nvGrpSpPr>
              <p:grpSpPr>
                <a:xfrm>
                  <a:off x="2429640" y="2730960"/>
                  <a:ext cx="6421680" cy="962280"/>
                  <a:chOff x="2429640" y="2730960"/>
                  <a:chExt cx="6421680" cy="962280"/>
                </a:xfrm>
              </p:grpSpPr>
              <p:sp>
                <p:nvSpPr>
                  <p:cNvPr id="285" name="Rectangle 6"/>
                  <p:cNvSpPr/>
                  <p:nvPr/>
                </p:nvSpPr>
                <p:spPr>
                  <a:xfrm>
                    <a:off x="2429640" y="2730960"/>
                    <a:ext cx="6421680" cy="962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-o </a:t>
                    </a: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 la 1ª forma menos en la 1ªconjugación que quitamos la </a:t>
                    </a:r>
                    <a:r>
                      <a:rPr b="1" i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–s</a:t>
                    </a: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 a la 2ª forma Ej.: </a:t>
                    </a:r>
                    <a:r>
                      <a:rPr b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ma-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6" name="Rectangle 15"/>
                  <p:cNvSpPr/>
                  <p:nvPr/>
                </p:nvSpPr>
                <p:spPr>
                  <a:xfrm>
                    <a:off x="2429640" y="273096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87" name="Group 22"/>
              <p:cNvGrpSpPr/>
              <p:nvPr/>
            </p:nvGrpSpPr>
            <p:grpSpPr>
              <a:xfrm>
                <a:off x="291240" y="3695400"/>
                <a:ext cx="2138040" cy="963360"/>
                <a:chOff x="291240" y="3695400"/>
                <a:chExt cx="2138040" cy="963360"/>
              </a:xfrm>
            </p:grpSpPr>
            <p:sp>
              <p:nvSpPr>
                <p:cNvPr id="288" name="Rectangle 21"/>
                <p:cNvSpPr/>
                <p:nvPr/>
              </p:nvSpPr>
              <p:spPr>
                <a:xfrm>
                  <a:off x="291240" y="3695400"/>
                  <a:ext cx="2138040" cy="96336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9" name="Group 20"/>
                <p:cNvGrpSpPr/>
                <p:nvPr/>
              </p:nvGrpSpPr>
              <p:grpSpPr>
                <a:xfrm>
                  <a:off x="291240" y="3695400"/>
                  <a:ext cx="2137680" cy="962280"/>
                  <a:chOff x="291240" y="3695400"/>
                  <a:chExt cx="2137680" cy="962280"/>
                </a:xfrm>
              </p:grpSpPr>
              <p:sp>
                <p:nvSpPr>
                  <p:cNvPr id="290" name="Rectangle 7"/>
                  <p:cNvSpPr/>
                  <p:nvPr/>
                </p:nvSpPr>
                <p:spPr>
                  <a:xfrm>
                    <a:off x="291240" y="3695400"/>
                    <a:ext cx="2137680" cy="96228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Tema de perfec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1" name="Rectangle 19"/>
                  <p:cNvSpPr/>
                  <p:nvPr/>
                </p:nvSpPr>
                <p:spPr>
                  <a:xfrm>
                    <a:off x="291240" y="369540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92" name="Group 26"/>
              <p:cNvGrpSpPr/>
              <p:nvPr/>
            </p:nvGrpSpPr>
            <p:grpSpPr>
              <a:xfrm>
                <a:off x="2429640" y="3695400"/>
                <a:ext cx="6422040" cy="963360"/>
                <a:chOff x="2429640" y="3695400"/>
                <a:chExt cx="6422040" cy="963360"/>
              </a:xfrm>
            </p:grpSpPr>
            <p:sp>
              <p:nvSpPr>
                <p:cNvPr id="293" name="Rectangle 25"/>
                <p:cNvSpPr/>
                <p:nvPr/>
              </p:nvSpPr>
              <p:spPr>
                <a:xfrm>
                  <a:off x="2429640" y="3695400"/>
                  <a:ext cx="6422040" cy="96336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4" name="Group 24"/>
                <p:cNvGrpSpPr/>
                <p:nvPr/>
              </p:nvGrpSpPr>
              <p:grpSpPr>
                <a:xfrm>
                  <a:off x="2429640" y="3695400"/>
                  <a:ext cx="6421680" cy="962280"/>
                  <a:chOff x="2429640" y="3695400"/>
                  <a:chExt cx="6421680" cy="962280"/>
                </a:xfrm>
              </p:grpSpPr>
              <p:sp>
                <p:nvSpPr>
                  <p:cNvPr id="295" name="Rectangle 8"/>
                  <p:cNvSpPr/>
                  <p:nvPr/>
                </p:nvSpPr>
                <p:spPr>
                  <a:xfrm>
                    <a:off x="2429640" y="3695400"/>
                    <a:ext cx="6421680" cy="96228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Quitamos la desinencia </a:t>
                    </a:r>
                    <a:r>
                      <a:rPr b="1" i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-i</a:t>
                    </a:r>
                    <a:r>
                      <a:rPr b="0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 al perfecto de indicativo. Ej.: </a:t>
                    </a:r>
                    <a:r>
                      <a:rPr b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amav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6" name="Rectangle 23"/>
                  <p:cNvSpPr/>
                  <p:nvPr/>
                </p:nvSpPr>
                <p:spPr>
                  <a:xfrm>
                    <a:off x="2429640" y="369540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97" name="Group 30"/>
              <p:cNvGrpSpPr/>
              <p:nvPr/>
            </p:nvGrpSpPr>
            <p:grpSpPr>
              <a:xfrm>
                <a:off x="291240" y="4660200"/>
                <a:ext cx="2138040" cy="963360"/>
                <a:chOff x="291240" y="4660200"/>
                <a:chExt cx="2138040" cy="963360"/>
              </a:xfrm>
            </p:grpSpPr>
            <p:sp>
              <p:nvSpPr>
                <p:cNvPr id="298" name="Rectangle 29"/>
                <p:cNvSpPr/>
                <p:nvPr/>
              </p:nvSpPr>
              <p:spPr>
                <a:xfrm>
                  <a:off x="291240" y="4660200"/>
                  <a:ext cx="2138040" cy="96336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9" name="Group 28"/>
                <p:cNvGrpSpPr/>
                <p:nvPr/>
              </p:nvGrpSpPr>
              <p:grpSpPr>
                <a:xfrm>
                  <a:off x="291240" y="4660200"/>
                  <a:ext cx="2137680" cy="962280"/>
                  <a:chOff x="291240" y="4660200"/>
                  <a:chExt cx="2137680" cy="962280"/>
                </a:xfrm>
              </p:grpSpPr>
              <p:sp>
                <p:nvSpPr>
                  <p:cNvPr id="300" name="Rectangle 9"/>
                  <p:cNvSpPr/>
                  <p:nvPr/>
                </p:nvSpPr>
                <p:spPr>
                  <a:xfrm>
                    <a:off x="291240" y="4660200"/>
                    <a:ext cx="2137680" cy="96228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Tema de supin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1" name="Rectangle 27"/>
                  <p:cNvSpPr/>
                  <p:nvPr/>
                </p:nvSpPr>
                <p:spPr>
                  <a:xfrm>
                    <a:off x="291240" y="466020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02" name="Group 34"/>
              <p:cNvGrpSpPr/>
              <p:nvPr/>
            </p:nvGrpSpPr>
            <p:grpSpPr>
              <a:xfrm>
                <a:off x="2429640" y="4660200"/>
                <a:ext cx="6422040" cy="963360"/>
                <a:chOff x="2429640" y="4660200"/>
                <a:chExt cx="6422040" cy="963360"/>
              </a:xfrm>
            </p:grpSpPr>
            <p:sp>
              <p:nvSpPr>
                <p:cNvPr id="303" name="Rectangle 33"/>
                <p:cNvSpPr/>
                <p:nvPr/>
              </p:nvSpPr>
              <p:spPr>
                <a:xfrm>
                  <a:off x="2429640" y="4660200"/>
                  <a:ext cx="6422040" cy="96336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04" name="Group 32"/>
                <p:cNvGrpSpPr/>
                <p:nvPr/>
              </p:nvGrpSpPr>
              <p:grpSpPr>
                <a:xfrm>
                  <a:off x="2429640" y="4660200"/>
                  <a:ext cx="6421680" cy="962280"/>
                  <a:chOff x="2429640" y="4660200"/>
                  <a:chExt cx="6421680" cy="962280"/>
                </a:xfrm>
              </p:grpSpPr>
              <p:sp>
                <p:nvSpPr>
                  <p:cNvPr id="305" name="Rectangle 10"/>
                  <p:cNvSpPr/>
                  <p:nvPr/>
                </p:nvSpPr>
                <p:spPr>
                  <a:xfrm>
                    <a:off x="2429640" y="4660200"/>
                    <a:ext cx="6421680" cy="96228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um</a:t>
                    </a:r>
                    <a:r>
                      <a:rPr b="0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 al supino. Ej.: </a:t>
                    </a:r>
                    <a:r>
                      <a:rPr b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amat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6" name="Rectangle 31"/>
                  <p:cNvSpPr/>
                  <p:nvPr/>
                </p:nvSpPr>
                <p:spPr>
                  <a:xfrm>
                    <a:off x="2429640" y="466020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307" name="Rectangle 36"/>
            <p:cNvSpPr/>
            <p:nvPr/>
          </p:nvSpPr>
          <p:spPr>
            <a:xfrm>
              <a:off x="285840" y="2714760"/>
              <a:ext cx="8571960" cy="2927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" name="Group 42"/>
          <p:cNvGrpSpPr/>
          <p:nvPr/>
        </p:nvGrpSpPr>
        <p:grpSpPr>
          <a:xfrm>
            <a:off x="6705720" y="5791320"/>
            <a:ext cx="2109600" cy="738000"/>
            <a:chOff x="6705720" y="5791320"/>
            <a:chExt cx="2109600" cy="738000"/>
          </a:xfrm>
        </p:grpSpPr>
        <p:sp>
          <p:nvSpPr>
            <p:cNvPr id="309" name="AutoShape 39">
              <a:hlinkClick r:id="" action="ppaction://hlinkshowjump?jump=nextslide"/>
            </p:cNvPr>
            <p:cNvSpPr/>
            <p:nvPr/>
          </p:nvSpPr>
          <p:spPr>
            <a:xfrm>
              <a:off x="819684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3794" y="5879"/>
                  </a:moveTo>
                  <a:lnTo>
                    <a:pt x="17806" y="12886"/>
                  </a:lnTo>
                  <a:lnTo>
                    <a:pt x="3794" y="19892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AutoShape 40">
              <a:hlinkClick r:id="" action="ppaction://hlinkshowjump?jump=firstslide"/>
            </p:cNvPr>
            <p:cNvSpPr/>
            <p:nvPr/>
          </p:nvSpPr>
          <p:spPr>
            <a:xfrm>
              <a:off x="747360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10800" y="5923"/>
                  </a:moveTo>
                  <a:lnTo>
                    <a:pt x="13376" y="8534"/>
                  </a:lnTo>
                  <a:lnTo>
                    <a:pt x="13376" y="6793"/>
                  </a:lnTo>
                  <a:lnTo>
                    <a:pt x="15152" y="6793"/>
                  </a:lnTo>
                  <a:lnTo>
                    <a:pt x="15152" y="10310"/>
                  </a:lnTo>
                  <a:lnTo>
                    <a:pt x="17763" y="12886"/>
                  </a:lnTo>
                  <a:lnTo>
                    <a:pt x="16109" y="12886"/>
                  </a:lnTo>
                  <a:lnTo>
                    <a:pt x="16109" y="20075"/>
                  </a:lnTo>
                  <a:lnTo>
                    <a:pt x="5491" y="20075"/>
                  </a:lnTo>
                  <a:lnTo>
                    <a:pt x="5491" y="12886"/>
                  </a:lnTo>
                  <a:lnTo>
                    <a:pt x="3837" y="12886"/>
                  </a:lnTo>
                  <a:close/>
                </a:path>
                <a:path fill="darkenLess" w="21600" h="25772">
                  <a:moveTo>
                    <a:pt x="13376" y="8534"/>
                  </a:moveTo>
                  <a:lnTo>
                    <a:pt x="13376" y="6793"/>
                  </a:lnTo>
                  <a:lnTo>
                    <a:pt x="15152" y="6793"/>
                  </a:lnTo>
                  <a:lnTo>
                    <a:pt x="15152" y="10310"/>
                  </a:lnTo>
                  <a:close/>
                </a:path>
                <a:path fill="darkenLess" w="21600" h="25772">
                  <a:moveTo>
                    <a:pt x="9877" y="16385"/>
                  </a:moveTo>
                  <a:lnTo>
                    <a:pt x="11723" y="16385"/>
                  </a:lnTo>
                  <a:lnTo>
                    <a:pt x="11723" y="20075"/>
                  </a:lnTo>
                  <a:lnTo>
                    <a:pt x="16109" y="20075"/>
                  </a:lnTo>
                  <a:lnTo>
                    <a:pt x="16109" y="12886"/>
                  </a:lnTo>
                  <a:lnTo>
                    <a:pt x="5491" y="12886"/>
                  </a:lnTo>
                  <a:lnTo>
                    <a:pt x="5491" y="20075"/>
                  </a:lnTo>
                  <a:lnTo>
                    <a:pt x="9877" y="20075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AutoShape 41">
              <a:hlinkClick r:id="" action="ppaction://hlinkshowjump?jump=previousslide"/>
            </p:cNvPr>
            <p:cNvSpPr/>
            <p:nvPr/>
          </p:nvSpPr>
          <p:spPr>
            <a:xfrm>
              <a:off x="670572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3794" y="12886"/>
                  </a:moveTo>
                  <a:lnTo>
                    <a:pt x="17806" y="5879"/>
                  </a:lnTo>
                  <a:lnTo>
                    <a:pt x="17806" y="19892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58"/>
          <p:cNvGrpSpPr/>
          <p:nvPr/>
        </p:nvGrpSpPr>
        <p:grpSpPr>
          <a:xfrm>
            <a:off x="0" y="1857240"/>
            <a:ext cx="8857440" cy="4571640"/>
            <a:chOff x="0" y="1857240"/>
            <a:chExt cx="8857440" cy="4571640"/>
          </a:xfrm>
        </p:grpSpPr>
        <p:grpSp>
          <p:nvGrpSpPr>
            <p:cNvPr id="313" name="Group 59"/>
            <p:cNvGrpSpPr/>
            <p:nvPr/>
          </p:nvGrpSpPr>
          <p:grpSpPr>
            <a:xfrm>
              <a:off x="11880" y="1862280"/>
              <a:ext cx="8831880" cy="4560480"/>
              <a:chOff x="11880" y="1862280"/>
              <a:chExt cx="8831880" cy="4560480"/>
            </a:xfrm>
          </p:grpSpPr>
          <p:grpSp>
            <p:nvGrpSpPr>
              <p:cNvPr id="314" name="Group 60"/>
              <p:cNvGrpSpPr/>
              <p:nvPr/>
            </p:nvGrpSpPr>
            <p:grpSpPr>
              <a:xfrm>
                <a:off x="11880" y="1862280"/>
                <a:ext cx="1144080" cy="911520"/>
                <a:chOff x="11880" y="1862280"/>
                <a:chExt cx="1144080" cy="911520"/>
              </a:xfrm>
            </p:grpSpPr>
            <p:sp>
              <p:nvSpPr>
                <p:cNvPr id="315" name="Rectangle 61"/>
                <p:cNvSpPr/>
                <p:nvPr/>
              </p:nvSpPr>
              <p:spPr>
                <a:xfrm>
                  <a:off x="11880" y="186228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16" name="Group 62"/>
                <p:cNvGrpSpPr/>
                <p:nvPr/>
              </p:nvGrpSpPr>
              <p:grpSpPr>
                <a:xfrm>
                  <a:off x="11880" y="1862280"/>
                  <a:ext cx="1143360" cy="911160"/>
                  <a:chOff x="11880" y="1862280"/>
                  <a:chExt cx="1143360" cy="911160"/>
                </a:xfrm>
              </p:grpSpPr>
              <p:sp>
                <p:nvSpPr>
                  <p:cNvPr id="317" name="Rectangle 63"/>
                  <p:cNvSpPr/>
                  <p:nvPr/>
                </p:nvSpPr>
                <p:spPr>
                  <a:xfrm>
                    <a:off x="11880" y="186228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conj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8" name="Rectangle 64"/>
                  <p:cNvSpPr/>
                  <p:nvPr/>
                </p:nvSpPr>
                <p:spPr>
                  <a:xfrm>
                    <a:off x="11880" y="186228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19" name="Group 65"/>
              <p:cNvGrpSpPr/>
              <p:nvPr/>
            </p:nvGrpSpPr>
            <p:grpSpPr>
              <a:xfrm>
                <a:off x="1156680" y="1862280"/>
                <a:ext cx="7687080" cy="911520"/>
                <a:chOff x="1156680" y="1862280"/>
                <a:chExt cx="7687080" cy="911520"/>
              </a:xfrm>
            </p:grpSpPr>
            <p:sp>
              <p:nvSpPr>
                <p:cNvPr id="320" name="Rectangle 66"/>
                <p:cNvSpPr/>
                <p:nvPr/>
              </p:nvSpPr>
              <p:spPr>
                <a:xfrm>
                  <a:off x="1156680" y="186228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21" name="Group 67"/>
                <p:cNvGrpSpPr/>
                <p:nvPr/>
              </p:nvGrpSpPr>
              <p:grpSpPr>
                <a:xfrm>
                  <a:off x="1156680" y="1862280"/>
                  <a:ext cx="7686360" cy="911160"/>
                  <a:chOff x="1156680" y="1862280"/>
                  <a:chExt cx="7686360" cy="911160"/>
                </a:xfrm>
              </p:grpSpPr>
              <p:sp>
                <p:nvSpPr>
                  <p:cNvPr id="322" name="Rectangle 68"/>
                  <p:cNvSpPr/>
                  <p:nvPr/>
                </p:nvSpPr>
                <p:spPr>
                  <a:xfrm>
                    <a:off x="1156680" y="186228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am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-Tiene tema en -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3" name="Rectangle 69"/>
                  <p:cNvSpPr/>
                  <p:nvPr/>
                </p:nvSpPr>
                <p:spPr>
                  <a:xfrm>
                    <a:off x="1156680" y="186228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24" name="Group 70"/>
              <p:cNvGrpSpPr/>
              <p:nvPr/>
            </p:nvGrpSpPr>
            <p:grpSpPr>
              <a:xfrm>
                <a:off x="11880" y="2774160"/>
                <a:ext cx="1144080" cy="911520"/>
                <a:chOff x="11880" y="2774160"/>
                <a:chExt cx="1144080" cy="911520"/>
              </a:xfrm>
            </p:grpSpPr>
            <p:sp>
              <p:nvSpPr>
                <p:cNvPr id="325" name="Rectangle 71"/>
                <p:cNvSpPr/>
                <p:nvPr/>
              </p:nvSpPr>
              <p:spPr>
                <a:xfrm>
                  <a:off x="11880" y="277416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26" name="Group 72"/>
                <p:cNvGrpSpPr/>
                <p:nvPr/>
              </p:nvGrpSpPr>
              <p:grpSpPr>
                <a:xfrm>
                  <a:off x="11880" y="2774160"/>
                  <a:ext cx="1143360" cy="911160"/>
                  <a:chOff x="11880" y="2774160"/>
                  <a:chExt cx="1143360" cy="911160"/>
                </a:xfrm>
              </p:grpSpPr>
              <p:sp>
                <p:nvSpPr>
                  <p:cNvPr id="327" name="Rectangle 73"/>
                  <p:cNvSpPr/>
                  <p:nvPr/>
                </p:nvSpPr>
                <p:spPr>
                  <a:xfrm>
                    <a:off x="11880" y="277416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8" name="Rectangle 74"/>
                  <p:cNvSpPr/>
                  <p:nvPr/>
                </p:nvSpPr>
                <p:spPr>
                  <a:xfrm>
                    <a:off x="11880" y="277416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29" name="Group 75"/>
              <p:cNvGrpSpPr/>
              <p:nvPr/>
            </p:nvGrpSpPr>
            <p:grpSpPr>
              <a:xfrm>
                <a:off x="1156680" y="2774160"/>
                <a:ext cx="7687080" cy="911520"/>
                <a:chOff x="1156680" y="2774160"/>
                <a:chExt cx="7687080" cy="911520"/>
              </a:xfrm>
            </p:grpSpPr>
            <p:sp>
              <p:nvSpPr>
                <p:cNvPr id="330" name="Rectangle 76"/>
                <p:cNvSpPr/>
                <p:nvPr/>
              </p:nvSpPr>
              <p:spPr>
                <a:xfrm>
                  <a:off x="1156680" y="277416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31" name="Group 77"/>
                <p:cNvGrpSpPr/>
                <p:nvPr/>
              </p:nvGrpSpPr>
              <p:grpSpPr>
                <a:xfrm>
                  <a:off x="1156680" y="2774160"/>
                  <a:ext cx="7686360" cy="911160"/>
                  <a:chOff x="1156680" y="2774160"/>
                  <a:chExt cx="7686360" cy="911160"/>
                </a:xfrm>
              </p:grpSpPr>
              <p:sp>
                <p:nvSpPr>
                  <p:cNvPr id="332" name="Rectangle 78"/>
                  <p:cNvSpPr/>
                  <p:nvPr/>
                </p:nvSpPr>
                <p:spPr>
                  <a:xfrm>
                    <a:off x="1156680" y="277416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es  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3" name="Rectangle 79"/>
                  <p:cNvSpPr/>
                  <p:nvPr/>
                </p:nvSpPr>
                <p:spPr>
                  <a:xfrm>
                    <a:off x="1156680" y="277416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34" name="Group 80"/>
              <p:cNvGrpSpPr/>
              <p:nvPr/>
            </p:nvGrpSpPr>
            <p:grpSpPr>
              <a:xfrm>
                <a:off x="11880" y="3686400"/>
                <a:ext cx="1144080" cy="912240"/>
                <a:chOff x="11880" y="3686400"/>
                <a:chExt cx="1144080" cy="912240"/>
              </a:xfrm>
            </p:grpSpPr>
            <p:sp>
              <p:nvSpPr>
                <p:cNvPr id="335" name="Rectangle 81"/>
                <p:cNvSpPr/>
                <p:nvPr/>
              </p:nvSpPr>
              <p:spPr>
                <a:xfrm>
                  <a:off x="11880" y="3686400"/>
                  <a:ext cx="1144080" cy="9122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36" name="Group 82"/>
                <p:cNvGrpSpPr/>
                <p:nvPr/>
              </p:nvGrpSpPr>
              <p:grpSpPr>
                <a:xfrm>
                  <a:off x="11880" y="3686400"/>
                  <a:ext cx="1143360" cy="911880"/>
                  <a:chOff x="11880" y="3686400"/>
                  <a:chExt cx="1143360" cy="911880"/>
                </a:xfrm>
              </p:grpSpPr>
              <p:sp>
                <p:nvSpPr>
                  <p:cNvPr id="337" name="Rectangle 83"/>
                  <p:cNvSpPr/>
                  <p:nvPr/>
                </p:nvSpPr>
                <p:spPr>
                  <a:xfrm>
                    <a:off x="11880" y="3686400"/>
                    <a:ext cx="1143360" cy="91188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8" name="Rectangle 84"/>
                  <p:cNvSpPr/>
                  <p:nvPr/>
                </p:nvSpPr>
                <p:spPr>
                  <a:xfrm>
                    <a:off x="11880" y="3686400"/>
                    <a:ext cx="1143360" cy="91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39" name="Group 85"/>
              <p:cNvGrpSpPr/>
              <p:nvPr/>
            </p:nvGrpSpPr>
            <p:grpSpPr>
              <a:xfrm>
                <a:off x="1156680" y="3686400"/>
                <a:ext cx="7687080" cy="912240"/>
                <a:chOff x="1156680" y="3686400"/>
                <a:chExt cx="7687080" cy="912240"/>
              </a:xfrm>
            </p:grpSpPr>
            <p:sp>
              <p:nvSpPr>
                <p:cNvPr id="340" name="Rectangle 86"/>
                <p:cNvSpPr/>
                <p:nvPr/>
              </p:nvSpPr>
              <p:spPr>
                <a:xfrm>
                  <a:off x="1156680" y="3686400"/>
                  <a:ext cx="7687080" cy="91224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41" name="Group 87"/>
                <p:cNvGrpSpPr/>
                <p:nvPr/>
              </p:nvGrpSpPr>
              <p:grpSpPr>
                <a:xfrm>
                  <a:off x="1156680" y="3686400"/>
                  <a:ext cx="7686360" cy="911880"/>
                  <a:chOff x="1156680" y="3686400"/>
                  <a:chExt cx="7686360" cy="911880"/>
                </a:xfrm>
              </p:grpSpPr>
              <p:sp>
                <p:nvSpPr>
                  <p:cNvPr id="342" name="Rectangle 88"/>
                  <p:cNvSpPr/>
                  <p:nvPr/>
                </p:nvSpPr>
                <p:spPr>
                  <a:xfrm>
                    <a:off x="1156680" y="3686400"/>
                    <a:ext cx="7686360" cy="9118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reg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Tiene tema consonant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3" name="Rectangle 89"/>
                  <p:cNvSpPr/>
                  <p:nvPr/>
                </p:nvSpPr>
                <p:spPr>
                  <a:xfrm>
                    <a:off x="1156680" y="3686400"/>
                    <a:ext cx="7686360" cy="91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44" name="Group 90"/>
              <p:cNvGrpSpPr/>
              <p:nvPr/>
            </p:nvGrpSpPr>
            <p:grpSpPr>
              <a:xfrm>
                <a:off x="11880" y="4599000"/>
                <a:ext cx="1144080" cy="911520"/>
                <a:chOff x="11880" y="4599000"/>
                <a:chExt cx="1144080" cy="911520"/>
              </a:xfrm>
            </p:grpSpPr>
            <p:sp>
              <p:nvSpPr>
                <p:cNvPr id="345" name="Rectangle 91"/>
                <p:cNvSpPr/>
                <p:nvPr/>
              </p:nvSpPr>
              <p:spPr>
                <a:xfrm>
                  <a:off x="11880" y="459900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46" name="Group 92"/>
                <p:cNvGrpSpPr/>
                <p:nvPr/>
              </p:nvGrpSpPr>
              <p:grpSpPr>
                <a:xfrm>
                  <a:off x="11880" y="4599000"/>
                  <a:ext cx="1143360" cy="911160"/>
                  <a:chOff x="11880" y="4599000"/>
                  <a:chExt cx="1143360" cy="911160"/>
                </a:xfrm>
              </p:grpSpPr>
              <p:sp>
                <p:nvSpPr>
                  <p:cNvPr id="347" name="Rectangle 93"/>
                  <p:cNvSpPr/>
                  <p:nvPr/>
                </p:nvSpPr>
                <p:spPr>
                  <a:xfrm>
                    <a:off x="11880" y="459900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8" name="Rectangle 94"/>
                  <p:cNvSpPr/>
                  <p:nvPr/>
                </p:nvSpPr>
                <p:spPr>
                  <a:xfrm>
                    <a:off x="11880" y="459900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49" name="Group 95"/>
              <p:cNvGrpSpPr/>
              <p:nvPr/>
            </p:nvGrpSpPr>
            <p:grpSpPr>
              <a:xfrm>
                <a:off x="1156680" y="4599000"/>
                <a:ext cx="7687080" cy="911520"/>
                <a:chOff x="1156680" y="4599000"/>
                <a:chExt cx="7687080" cy="911520"/>
              </a:xfrm>
            </p:grpSpPr>
            <p:sp>
              <p:nvSpPr>
                <p:cNvPr id="350" name="Rectangle 96"/>
                <p:cNvSpPr/>
                <p:nvPr/>
              </p:nvSpPr>
              <p:spPr>
                <a:xfrm>
                  <a:off x="1156680" y="459900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51" name="Group 97"/>
                <p:cNvGrpSpPr/>
                <p:nvPr/>
              </p:nvGrpSpPr>
              <p:grpSpPr>
                <a:xfrm>
                  <a:off x="1156680" y="4599000"/>
                  <a:ext cx="7686360" cy="911160"/>
                  <a:chOff x="1156680" y="4599000"/>
                  <a:chExt cx="7686360" cy="911160"/>
                </a:xfrm>
              </p:grpSpPr>
              <p:sp>
                <p:nvSpPr>
                  <p:cNvPr id="352" name="Rectangle 98"/>
                  <p:cNvSpPr/>
                  <p:nvPr/>
                </p:nvSpPr>
                <p:spPr>
                  <a:xfrm>
                    <a:off x="1156680" y="459900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aud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-Tiene tema en –I larga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3" name="Rectangle 99"/>
                  <p:cNvSpPr/>
                  <p:nvPr/>
                </p:nvSpPr>
                <p:spPr>
                  <a:xfrm>
                    <a:off x="1156680" y="459900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54" name="Group 100"/>
              <p:cNvGrpSpPr/>
              <p:nvPr/>
            </p:nvGrpSpPr>
            <p:grpSpPr>
              <a:xfrm>
                <a:off x="11880" y="5511240"/>
                <a:ext cx="1144080" cy="911520"/>
                <a:chOff x="11880" y="5511240"/>
                <a:chExt cx="1144080" cy="911520"/>
              </a:xfrm>
            </p:grpSpPr>
            <p:sp>
              <p:nvSpPr>
                <p:cNvPr id="355" name="Rectangle 101"/>
                <p:cNvSpPr/>
                <p:nvPr/>
              </p:nvSpPr>
              <p:spPr>
                <a:xfrm>
                  <a:off x="11880" y="551124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56" name="Group 102"/>
                <p:cNvGrpSpPr/>
                <p:nvPr/>
              </p:nvGrpSpPr>
              <p:grpSpPr>
                <a:xfrm>
                  <a:off x="11880" y="5511240"/>
                  <a:ext cx="1143360" cy="911160"/>
                  <a:chOff x="11880" y="5511240"/>
                  <a:chExt cx="1143360" cy="911160"/>
                </a:xfrm>
              </p:grpSpPr>
              <p:sp>
                <p:nvSpPr>
                  <p:cNvPr id="357" name="Rectangle 103"/>
                  <p:cNvSpPr/>
                  <p:nvPr/>
                </p:nvSpPr>
                <p:spPr>
                  <a:xfrm>
                    <a:off x="11880" y="551124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Rectangle 104"/>
                  <p:cNvSpPr/>
                  <p:nvPr/>
                </p:nvSpPr>
                <p:spPr>
                  <a:xfrm>
                    <a:off x="11880" y="551124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59" name="Group 105"/>
              <p:cNvGrpSpPr/>
              <p:nvPr/>
            </p:nvGrpSpPr>
            <p:grpSpPr>
              <a:xfrm>
                <a:off x="1156680" y="5511240"/>
                <a:ext cx="7687080" cy="911520"/>
                <a:chOff x="1156680" y="5511240"/>
                <a:chExt cx="7687080" cy="911520"/>
              </a:xfrm>
            </p:grpSpPr>
            <p:sp>
              <p:nvSpPr>
                <p:cNvPr id="360" name="Rectangle 106"/>
                <p:cNvSpPr/>
                <p:nvPr/>
              </p:nvSpPr>
              <p:spPr>
                <a:xfrm>
                  <a:off x="1156680" y="551124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61" name="Group 107"/>
                <p:cNvGrpSpPr/>
                <p:nvPr/>
              </p:nvGrpSpPr>
              <p:grpSpPr>
                <a:xfrm>
                  <a:off x="1156680" y="5511240"/>
                  <a:ext cx="7686360" cy="911160"/>
                  <a:chOff x="1156680" y="5511240"/>
                  <a:chExt cx="7686360" cy="911160"/>
                </a:xfrm>
              </p:grpSpPr>
              <p:sp>
                <p:nvSpPr>
                  <p:cNvPr id="362" name="Rectangle 108"/>
                  <p:cNvSpPr/>
                  <p:nvPr/>
                </p:nvSpPr>
                <p:spPr>
                  <a:xfrm>
                    <a:off x="1156680" y="551124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cap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- Tiene tema en –I brev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3" name="Rectangle 109"/>
                  <p:cNvSpPr/>
                  <p:nvPr/>
                </p:nvSpPr>
                <p:spPr>
                  <a:xfrm>
                    <a:off x="1156680" y="551124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364" name="Rectangle 110"/>
            <p:cNvSpPr/>
            <p:nvPr/>
          </p:nvSpPr>
          <p:spPr>
            <a:xfrm>
              <a:off x="0" y="1857240"/>
              <a:ext cx="8857440" cy="4571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Rectangle 2"/>
          <p:cNvSpPr/>
          <p:nvPr/>
        </p:nvSpPr>
        <p:spPr>
          <a:xfrm>
            <a:off x="98100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L TEMA DE LAS CONJUGACIO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428760" y="1214280"/>
            <a:ext cx="816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s la letra última de la raíz de pres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57 Rectángulo"/>
          <p:cNvSpPr/>
          <p:nvPr/>
        </p:nvSpPr>
        <p:spPr>
          <a:xfrm>
            <a:off x="5079960" y="285768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fc5e"/>
                </a:solidFill>
                <a:latin typeface="Times New Roman"/>
              </a:rPr>
              <a:t>Tiene tema en -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06:54:13Z</dcterms:created>
  <dc:creator>w</dc:creator>
  <dc:description/>
  <dc:language>en-US</dc:language>
  <cp:lastModifiedBy>AUDIOLEASK</cp:lastModifiedBy>
  <dcterms:modified xsi:type="dcterms:W3CDTF">2012-12-03T15:04:22Z</dcterms:modified>
  <cp:revision>39</cp:revision>
  <dc:subject/>
  <dc:title>EL ANÁLISIS DE FORMAS VERBALES</dc:title>
</cp:coreProperties>
</file>