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AF1A-BD64-4867-B6C3-C9924CFAD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C600-1718-41C6-85FD-F4038854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431B-CA19-406F-A725-5DBA1403B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9519-455A-4F74-84CB-F40241D9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F442-7D8B-4FC0-8A14-0C7939543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E05D-1106-432C-86B9-11934E26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F4AF-5A07-4C1B-BD55-D4510C41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6C4D-D2D8-49AC-A966-13B49AE7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8EC0-1B1D-4DB5-86A7-9270BF14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97D0-117C-407E-B428-35324E09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A472-C565-489E-ADE5-58FA5146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F784-8D02-4E00-A558-EF2B7E89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3BFB-BB25-4099-95EC-EEFE7F61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1F58-5C0F-414A-90BD-372FD0E6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6F33-DBBA-4D17-A33B-C7E43D93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B5CA-4445-49C3-BD83-F9841E80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D281-FD1A-45A3-B957-AC770FB1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4314-AE4F-435A-8CFA-167276E7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DAE4-EB90-43CA-9891-35304D80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0A79-DD8C-43C3-9094-158F2D8C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3F31-FB2C-4F43-85A7-8C39281E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2359-181A-46FD-B076-2B923758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C227-E23D-4E13-9BCC-F102AFBD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9C16-8255-429C-9364-D5ABDB50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C869-5C4E-4945-B10A-67E784511A0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A3A3-77EA-46B5-9DCC-24C46811B30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164412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Verdana"/>
              </a:rPr>
              <a:t>DISTINGUIR LAS CONJUGACIONES</a:t>
            </a:r>
            <a:br>
              <a:rPr sz="2800"/>
            </a:br>
            <a:r>
              <a:rPr b="1" lang="es-ES_tradnl" sz="2800" spc="-1" strike="noStrike">
                <a:solidFill>
                  <a:srgbClr val="003366"/>
                </a:solidFill>
                <a:latin typeface="Verdana"/>
              </a:rPr>
              <a:t>Y LOS TEMAS DEL VERBO 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AutoShape 4">
            <a:hlinkClick r:id="" action="ppaction://hlinkshowjump?jump=nextslide"/>
          </p:cNvPr>
          <p:cNvSpPr/>
          <p:nvPr/>
        </p:nvSpPr>
        <p:spPr>
          <a:xfrm>
            <a:off x="7772400" y="4952880"/>
            <a:ext cx="762120" cy="662040"/>
          </a:xfrm>
          <a:custGeom>
            <a:avLst/>
            <a:gdLst>
              <a:gd name="textAreaLeft" fmla="*/ 42840 w 762120"/>
              <a:gd name="textAreaRight" fmla="*/ 719280 w 7621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863" h="21600">
                <a:moveTo>
                  <a:pt x="0" y="0"/>
                </a:moveTo>
                <a:lnTo>
                  <a:pt x="24863" y="0"/>
                </a:lnTo>
                <a:lnTo>
                  <a:pt x="24863" y="21600"/>
                </a:lnTo>
                <a:lnTo>
                  <a:pt x="0" y="21600"/>
                </a:lnTo>
                <a:close/>
              </a:path>
              <a:path fill="lightenLess" w="24863" h="21600">
                <a:moveTo>
                  <a:pt x="0" y="0"/>
                </a:moveTo>
                <a:lnTo>
                  <a:pt x="24863" y="0"/>
                </a:lnTo>
                <a:lnTo>
                  <a:pt x="23463" y="1400"/>
                </a:lnTo>
                <a:lnTo>
                  <a:pt x="1400" y="1400"/>
                </a:lnTo>
                <a:close/>
              </a:path>
              <a:path fill="darken" w="24863" h="21600">
                <a:moveTo>
                  <a:pt x="24863" y="0"/>
                </a:moveTo>
                <a:lnTo>
                  <a:pt x="24863" y="21600"/>
                </a:lnTo>
                <a:lnTo>
                  <a:pt x="23463" y="20200"/>
                </a:lnTo>
                <a:lnTo>
                  <a:pt x="23463" y="1400"/>
                </a:lnTo>
                <a:close/>
              </a:path>
              <a:path fill="darkenLess" w="24863" h="21600">
                <a:moveTo>
                  <a:pt x="248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63" y="20200"/>
                </a:lnTo>
                <a:close/>
              </a:path>
              <a:path fill="lighten" w="248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63" h="21600">
                <a:moveTo>
                  <a:pt x="5425" y="3794"/>
                </a:moveTo>
                <a:lnTo>
                  <a:pt x="19438" y="10800"/>
                </a:lnTo>
                <a:lnTo>
                  <a:pt x="5425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a0000"/>
                </a:solidFill>
                <a:latin typeface="Verdana"/>
              </a:rPr>
              <a:t>Para distinguir la conjugación del verbo debemos partir siempre del </a:t>
            </a:r>
            <a:r>
              <a:rPr b="1" lang="es-ES_tradnl" sz="1800" spc="-1" strike="noStrike">
                <a:solidFill>
                  <a:srgbClr val="9a0000"/>
                </a:solidFill>
                <a:latin typeface="Verdana"/>
              </a:rPr>
              <a:t>enunciado del verbo</a:t>
            </a:r>
            <a:r>
              <a:rPr b="0" lang="es-ES_tradnl" sz="1800" spc="-1" strike="noStrike">
                <a:solidFill>
                  <a:srgbClr val="9a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980640" y="671040"/>
            <a:ext cx="8163000" cy="4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Determinar la conjugación.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0" y="137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5" name="Group 58"/>
          <p:cNvGrpSpPr/>
          <p:nvPr/>
        </p:nvGrpSpPr>
        <p:grpSpPr>
          <a:xfrm>
            <a:off x="642960" y="3143160"/>
            <a:ext cx="8214480" cy="2546280"/>
            <a:chOff x="642960" y="3143160"/>
            <a:chExt cx="8214480" cy="2546280"/>
          </a:xfrm>
        </p:grpSpPr>
        <p:grpSp>
          <p:nvGrpSpPr>
            <p:cNvPr id="216" name="Group 59"/>
            <p:cNvGrpSpPr/>
            <p:nvPr/>
          </p:nvGrpSpPr>
          <p:grpSpPr>
            <a:xfrm>
              <a:off x="654120" y="3146040"/>
              <a:ext cx="8190720" cy="2540520"/>
              <a:chOff x="654120" y="3146040"/>
              <a:chExt cx="8190720" cy="2540520"/>
            </a:xfrm>
          </p:grpSpPr>
          <p:grpSp>
            <p:nvGrpSpPr>
              <p:cNvPr id="217" name="Group 60"/>
              <p:cNvGrpSpPr/>
              <p:nvPr/>
            </p:nvGrpSpPr>
            <p:grpSpPr>
              <a:xfrm>
                <a:off x="654120" y="3146040"/>
                <a:ext cx="1060920" cy="507960"/>
                <a:chOff x="654120" y="3146040"/>
                <a:chExt cx="1060920" cy="507960"/>
              </a:xfrm>
            </p:grpSpPr>
            <p:sp>
              <p:nvSpPr>
                <p:cNvPr id="218" name="Rectangle 61"/>
                <p:cNvSpPr/>
                <p:nvPr/>
              </p:nvSpPr>
              <p:spPr>
                <a:xfrm>
                  <a:off x="654120" y="3146040"/>
                  <a:ext cx="1060920" cy="50796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19" name="Group 62"/>
                <p:cNvGrpSpPr/>
                <p:nvPr/>
              </p:nvGrpSpPr>
              <p:grpSpPr>
                <a:xfrm>
                  <a:off x="654120" y="3146040"/>
                  <a:ext cx="1060200" cy="507960"/>
                  <a:chOff x="654120" y="3146040"/>
                  <a:chExt cx="1060200" cy="507960"/>
                </a:xfrm>
              </p:grpSpPr>
              <p:sp>
                <p:nvSpPr>
                  <p:cNvPr id="220" name="Rectangle 63"/>
                  <p:cNvSpPr/>
                  <p:nvPr/>
                </p:nvSpPr>
                <p:spPr>
                  <a:xfrm>
                    <a:off x="654120" y="3146040"/>
                    <a:ext cx="1060200" cy="5079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1ª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21" name="Rectangle 64"/>
                  <p:cNvSpPr/>
                  <p:nvPr/>
                </p:nvSpPr>
                <p:spPr>
                  <a:xfrm>
                    <a:off x="654120" y="3146040"/>
                    <a:ext cx="106020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22" name="Group 65"/>
              <p:cNvGrpSpPr/>
              <p:nvPr/>
            </p:nvGrpSpPr>
            <p:grpSpPr>
              <a:xfrm>
                <a:off x="1715760" y="3146040"/>
                <a:ext cx="7129080" cy="507960"/>
                <a:chOff x="1715760" y="3146040"/>
                <a:chExt cx="7129080" cy="507960"/>
              </a:xfrm>
            </p:grpSpPr>
            <p:sp>
              <p:nvSpPr>
                <p:cNvPr id="223" name="Rectangle 66"/>
                <p:cNvSpPr/>
                <p:nvPr/>
              </p:nvSpPr>
              <p:spPr>
                <a:xfrm>
                  <a:off x="1715760" y="3146040"/>
                  <a:ext cx="7129080" cy="507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24" name="Group 67"/>
                <p:cNvGrpSpPr/>
                <p:nvPr/>
              </p:nvGrpSpPr>
              <p:grpSpPr>
                <a:xfrm>
                  <a:off x="1715760" y="3146040"/>
                  <a:ext cx="7128360" cy="507960"/>
                  <a:chOff x="1715760" y="3146040"/>
                  <a:chExt cx="7128360" cy="507960"/>
                </a:xfrm>
              </p:grpSpPr>
              <p:sp>
                <p:nvSpPr>
                  <p:cNvPr id="225" name="Rectangle 68"/>
                  <p:cNvSpPr/>
                  <p:nvPr/>
                </p:nvSpPr>
                <p:spPr>
                  <a:xfrm>
                    <a:off x="1715760" y="3146040"/>
                    <a:ext cx="7128360" cy="5079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mo, am-</a:t>
                    </a:r>
                    <a:r>
                      <a:rPr b="1" lang="es-ES" sz="28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as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am-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are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amavi, amatum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26" name="Rectangle 69"/>
                  <p:cNvSpPr/>
                  <p:nvPr/>
                </p:nvSpPr>
                <p:spPr>
                  <a:xfrm>
                    <a:off x="1715760" y="3146040"/>
                    <a:ext cx="712836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27" name="Group 70"/>
              <p:cNvGrpSpPr/>
              <p:nvPr/>
            </p:nvGrpSpPr>
            <p:grpSpPr>
              <a:xfrm>
                <a:off x="654120" y="3654000"/>
                <a:ext cx="1060920" cy="507960"/>
                <a:chOff x="654120" y="3654000"/>
                <a:chExt cx="1060920" cy="507960"/>
              </a:xfrm>
            </p:grpSpPr>
            <p:sp>
              <p:nvSpPr>
                <p:cNvPr id="228" name="Rectangle 71"/>
                <p:cNvSpPr/>
                <p:nvPr/>
              </p:nvSpPr>
              <p:spPr>
                <a:xfrm>
                  <a:off x="654120" y="3654000"/>
                  <a:ext cx="1060920" cy="50796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29" name="Group 72"/>
                <p:cNvGrpSpPr/>
                <p:nvPr/>
              </p:nvGrpSpPr>
              <p:grpSpPr>
                <a:xfrm>
                  <a:off x="654120" y="3654000"/>
                  <a:ext cx="1060200" cy="507960"/>
                  <a:chOff x="654120" y="3654000"/>
                  <a:chExt cx="1060200" cy="507960"/>
                </a:xfrm>
              </p:grpSpPr>
              <p:sp>
                <p:nvSpPr>
                  <p:cNvPr id="230" name="Rectangle 73"/>
                  <p:cNvSpPr/>
                  <p:nvPr/>
                </p:nvSpPr>
                <p:spPr>
                  <a:xfrm>
                    <a:off x="654120" y="3654000"/>
                    <a:ext cx="1060200" cy="5079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2ª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31" name="Rectangle 74"/>
                  <p:cNvSpPr/>
                  <p:nvPr/>
                </p:nvSpPr>
                <p:spPr>
                  <a:xfrm>
                    <a:off x="654120" y="3654000"/>
                    <a:ext cx="106020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32" name="Group 75"/>
              <p:cNvGrpSpPr/>
              <p:nvPr/>
            </p:nvGrpSpPr>
            <p:grpSpPr>
              <a:xfrm>
                <a:off x="1715760" y="3654000"/>
                <a:ext cx="7129080" cy="507960"/>
                <a:chOff x="1715760" y="3654000"/>
                <a:chExt cx="7129080" cy="507960"/>
              </a:xfrm>
            </p:grpSpPr>
            <p:sp>
              <p:nvSpPr>
                <p:cNvPr id="233" name="Rectangle 76"/>
                <p:cNvSpPr/>
                <p:nvPr/>
              </p:nvSpPr>
              <p:spPr>
                <a:xfrm>
                  <a:off x="1715760" y="3654000"/>
                  <a:ext cx="7129080" cy="507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34" name="Group 77"/>
                <p:cNvGrpSpPr/>
                <p:nvPr/>
              </p:nvGrpSpPr>
              <p:grpSpPr>
                <a:xfrm>
                  <a:off x="1715760" y="3654000"/>
                  <a:ext cx="7128360" cy="507960"/>
                  <a:chOff x="1715760" y="3654000"/>
                  <a:chExt cx="7128360" cy="507960"/>
                </a:xfrm>
              </p:grpSpPr>
              <p:sp>
                <p:nvSpPr>
                  <p:cNvPr id="235" name="Rectangle 78"/>
                  <p:cNvSpPr/>
                  <p:nvPr/>
                </p:nvSpPr>
                <p:spPr>
                  <a:xfrm>
                    <a:off x="1715760" y="3654000"/>
                    <a:ext cx="7128360" cy="5079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hab</a:t>
                    </a:r>
                    <a:r>
                      <a:rPr b="1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o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hab-</a:t>
                    </a:r>
                    <a:r>
                      <a:rPr b="1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es, 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hab-</a:t>
                    </a:r>
                    <a:r>
                      <a:rPr b="1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ere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habui, habitum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36" name="Rectangle 79"/>
                  <p:cNvSpPr/>
                  <p:nvPr/>
                </p:nvSpPr>
                <p:spPr>
                  <a:xfrm>
                    <a:off x="1715760" y="3654000"/>
                    <a:ext cx="712836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37" name="Group 80"/>
              <p:cNvGrpSpPr/>
              <p:nvPr/>
            </p:nvGrpSpPr>
            <p:grpSpPr>
              <a:xfrm>
                <a:off x="654120" y="4161960"/>
                <a:ext cx="1060920" cy="507960"/>
                <a:chOff x="654120" y="4161960"/>
                <a:chExt cx="1060920" cy="507960"/>
              </a:xfrm>
            </p:grpSpPr>
            <p:sp>
              <p:nvSpPr>
                <p:cNvPr id="238" name="Rectangle 81"/>
                <p:cNvSpPr/>
                <p:nvPr/>
              </p:nvSpPr>
              <p:spPr>
                <a:xfrm>
                  <a:off x="654120" y="4161960"/>
                  <a:ext cx="1060920" cy="50796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39" name="Group 82"/>
                <p:cNvGrpSpPr/>
                <p:nvPr/>
              </p:nvGrpSpPr>
              <p:grpSpPr>
                <a:xfrm>
                  <a:off x="654120" y="4161960"/>
                  <a:ext cx="1060200" cy="507960"/>
                  <a:chOff x="654120" y="4161960"/>
                  <a:chExt cx="1060200" cy="507960"/>
                </a:xfrm>
              </p:grpSpPr>
              <p:sp>
                <p:nvSpPr>
                  <p:cNvPr id="240" name="Rectangle 83"/>
                  <p:cNvSpPr/>
                  <p:nvPr/>
                </p:nvSpPr>
                <p:spPr>
                  <a:xfrm>
                    <a:off x="654120" y="4161960"/>
                    <a:ext cx="1060200" cy="5079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3ª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1" name="Rectangle 84"/>
                  <p:cNvSpPr/>
                  <p:nvPr/>
                </p:nvSpPr>
                <p:spPr>
                  <a:xfrm>
                    <a:off x="654120" y="4161960"/>
                    <a:ext cx="106020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42" name="Group 85"/>
              <p:cNvGrpSpPr/>
              <p:nvPr/>
            </p:nvGrpSpPr>
            <p:grpSpPr>
              <a:xfrm>
                <a:off x="1715760" y="4161960"/>
                <a:ext cx="7129080" cy="507960"/>
                <a:chOff x="1715760" y="4161960"/>
                <a:chExt cx="7129080" cy="507960"/>
              </a:xfrm>
            </p:grpSpPr>
            <p:sp>
              <p:nvSpPr>
                <p:cNvPr id="243" name="Rectangle 86"/>
                <p:cNvSpPr/>
                <p:nvPr/>
              </p:nvSpPr>
              <p:spPr>
                <a:xfrm>
                  <a:off x="1715760" y="4161960"/>
                  <a:ext cx="7129080" cy="507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44" name="Group 87"/>
                <p:cNvGrpSpPr/>
                <p:nvPr/>
              </p:nvGrpSpPr>
              <p:grpSpPr>
                <a:xfrm>
                  <a:off x="1715760" y="4161960"/>
                  <a:ext cx="7128360" cy="507960"/>
                  <a:chOff x="1715760" y="4161960"/>
                  <a:chExt cx="7128360" cy="507960"/>
                </a:xfrm>
              </p:grpSpPr>
              <p:sp>
                <p:nvSpPr>
                  <p:cNvPr id="245" name="Rectangle 88"/>
                  <p:cNvSpPr/>
                  <p:nvPr/>
                </p:nvSpPr>
                <p:spPr>
                  <a:xfrm>
                    <a:off x="1715760" y="4161960"/>
                    <a:ext cx="7128360" cy="5079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rego, reg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-is, 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reg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-ere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rexi, rectum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6" name="Rectangle 89"/>
                  <p:cNvSpPr/>
                  <p:nvPr/>
                </p:nvSpPr>
                <p:spPr>
                  <a:xfrm>
                    <a:off x="1715760" y="4161960"/>
                    <a:ext cx="712836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47" name="Group 90"/>
              <p:cNvGrpSpPr/>
              <p:nvPr/>
            </p:nvGrpSpPr>
            <p:grpSpPr>
              <a:xfrm>
                <a:off x="654120" y="4670280"/>
                <a:ext cx="1060920" cy="507960"/>
                <a:chOff x="654120" y="4670280"/>
                <a:chExt cx="1060920" cy="507960"/>
              </a:xfrm>
            </p:grpSpPr>
            <p:sp>
              <p:nvSpPr>
                <p:cNvPr id="248" name="Rectangle 91"/>
                <p:cNvSpPr/>
                <p:nvPr/>
              </p:nvSpPr>
              <p:spPr>
                <a:xfrm>
                  <a:off x="654120" y="4670280"/>
                  <a:ext cx="1060920" cy="50796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49" name="Group 92"/>
                <p:cNvGrpSpPr/>
                <p:nvPr/>
              </p:nvGrpSpPr>
              <p:grpSpPr>
                <a:xfrm>
                  <a:off x="654120" y="4670280"/>
                  <a:ext cx="1060200" cy="507960"/>
                  <a:chOff x="654120" y="4670280"/>
                  <a:chExt cx="1060200" cy="507960"/>
                </a:xfrm>
              </p:grpSpPr>
              <p:sp>
                <p:nvSpPr>
                  <p:cNvPr id="250" name="Rectangle 93"/>
                  <p:cNvSpPr/>
                  <p:nvPr/>
                </p:nvSpPr>
                <p:spPr>
                  <a:xfrm>
                    <a:off x="654120" y="4670280"/>
                    <a:ext cx="1060200" cy="5079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4ª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51" name="Rectangle 94"/>
                  <p:cNvSpPr/>
                  <p:nvPr/>
                </p:nvSpPr>
                <p:spPr>
                  <a:xfrm>
                    <a:off x="654120" y="4670280"/>
                    <a:ext cx="106020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52" name="Group 95"/>
              <p:cNvGrpSpPr/>
              <p:nvPr/>
            </p:nvGrpSpPr>
            <p:grpSpPr>
              <a:xfrm>
                <a:off x="1715760" y="4670280"/>
                <a:ext cx="7129080" cy="507960"/>
                <a:chOff x="1715760" y="4670280"/>
                <a:chExt cx="7129080" cy="507960"/>
              </a:xfrm>
            </p:grpSpPr>
            <p:sp>
              <p:nvSpPr>
                <p:cNvPr id="253" name="Rectangle 96"/>
                <p:cNvSpPr/>
                <p:nvPr/>
              </p:nvSpPr>
              <p:spPr>
                <a:xfrm>
                  <a:off x="1715760" y="4670280"/>
                  <a:ext cx="7129080" cy="507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54" name="Group 97"/>
                <p:cNvGrpSpPr/>
                <p:nvPr/>
              </p:nvGrpSpPr>
              <p:grpSpPr>
                <a:xfrm>
                  <a:off x="1715760" y="4670280"/>
                  <a:ext cx="7128360" cy="507960"/>
                  <a:chOff x="1715760" y="4670280"/>
                  <a:chExt cx="7128360" cy="507960"/>
                </a:xfrm>
              </p:grpSpPr>
              <p:sp>
                <p:nvSpPr>
                  <p:cNvPr id="255" name="Rectangle 98"/>
                  <p:cNvSpPr/>
                  <p:nvPr/>
                </p:nvSpPr>
                <p:spPr>
                  <a:xfrm>
                    <a:off x="1715760" y="4670280"/>
                    <a:ext cx="7128360" cy="5079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ud</a:t>
                    </a:r>
                    <a:r>
                      <a:rPr b="0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io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aud</a:t>
                    </a:r>
                    <a:r>
                      <a:rPr b="1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-is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aud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-ire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audivi, auditum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56" name="Rectangle 99"/>
                  <p:cNvSpPr/>
                  <p:nvPr/>
                </p:nvSpPr>
                <p:spPr>
                  <a:xfrm>
                    <a:off x="1715760" y="4670280"/>
                    <a:ext cx="712836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57" name="Group 100"/>
              <p:cNvGrpSpPr/>
              <p:nvPr/>
            </p:nvGrpSpPr>
            <p:grpSpPr>
              <a:xfrm>
                <a:off x="654120" y="5178600"/>
                <a:ext cx="1060920" cy="507960"/>
                <a:chOff x="654120" y="5178600"/>
                <a:chExt cx="1060920" cy="507960"/>
              </a:xfrm>
            </p:grpSpPr>
            <p:sp>
              <p:nvSpPr>
                <p:cNvPr id="258" name="Rectangle 101"/>
                <p:cNvSpPr/>
                <p:nvPr/>
              </p:nvSpPr>
              <p:spPr>
                <a:xfrm>
                  <a:off x="654120" y="5178600"/>
                  <a:ext cx="1060920" cy="50796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59" name="Group 102"/>
                <p:cNvGrpSpPr/>
                <p:nvPr/>
              </p:nvGrpSpPr>
              <p:grpSpPr>
                <a:xfrm>
                  <a:off x="654120" y="5178600"/>
                  <a:ext cx="1060200" cy="507960"/>
                  <a:chOff x="654120" y="5178600"/>
                  <a:chExt cx="1060200" cy="507960"/>
                </a:xfrm>
              </p:grpSpPr>
              <p:sp>
                <p:nvSpPr>
                  <p:cNvPr id="260" name="Rectangle 103"/>
                  <p:cNvSpPr/>
                  <p:nvPr/>
                </p:nvSpPr>
                <p:spPr>
                  <a:xfrm>
                    <a:off x="654120" y="5178600"/>
                    <a:ext cx="1060200" cy="5079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3ª</a:t>
                    </a:r>
                    <a:r>
                      <a:rPr b="0" lang="es-ES" sz="1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mixt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1" name="Rectangle 104"/>
                  <p:cNvSpPr/>
                  <p:nvPr/>
                </p:nvSpPr>
                <p:spPr>
                  <a:xfrm>
                    <a:off x="654120" y="5178600"/>
                    <a:ext cx="106020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62" name="Group 105"/>
              <p:cNvGrpSpPr/>
              <p:nvPr/>
            </p:nvGrpSpPr>
            <p:grpSpPr>
              <a:xfrm>
                <a:off x="1715760" y="5178600"/>
                <a:ext cx="7129080" cy="507960"/>
                <a:chOff x="1715760" y="5178600"/>
                <a:chExt cx="7129080" cy="507960"/>
              </a:xfrm>
            </p:grpSpPr>
            <p:sp>
              <p:nvSpPr>
                <p:cNvPr id="263" name="Rectangle 106"/>
                <p:cNvSpPr/>
                <p:nvPr/>
              </p:nvSpPr>
              <p:spPr>
                <a:xfrm>
                  <a:off x="1715760" y="5178600"/>
                  <a:ext cx="7129080" cy="507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64" name="Group 107"/>
                <p:cNvGrpSpPr/>
                <p:nvPr/>
              </p:nvGrpSpPr>
              <p:grpSpPr>
                <a:xfrm>
                  <a:off x="1715760" y="5178600"/>
                  <a:ext cx="7128360" cy="507960"/>
                  <a:chOff x="1715760" y="5178600"/>
                  <a:chExt cx="7128360" cy="507960"/>
                </a:xfrm>
              </p:grpSpPr>
              <p:sp>
                <p:nvSpPr>
                  <p:cNvPr id="265" name="Rectangle 108"/>
                  <p:cNvSpPr/>
                  <p:nvPr/>
                </p:nvSpPr>
                <p:spPr>
                  <a:xfrm>
                    <a:off x="1715760" y="5178600"/>
                    <a:ext cx="7128360" cy="5079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ap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io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cap</a:t>
                    </a:r>
                    <a:r>
                      <a:rPr b="1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-is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cap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-ere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cepi, captum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6" name="Rectangle 109"/>
                  <p:cNvSpPr/>
                  <p:nvPr/>
                </p:nvSpPr>
                <p:spPr>
                  <a:xfrm>
                    <a:off x="1715760" y="5178600"/>
                    <a:ext cx="712836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267" name="Rectangle 110"/>
            <p:cNvSpPr/>
            <p:nvPr/>
          </p:nvSpPr>
          <p:spPr>
            <a:xfrm>
              <a:off x="642960" y="3143160"/>
              <a:ext cx="8214480" cy="25462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8" name="Group 114"/>
          <p:cNvGrpSpPr/>
          <p:nvPr/>
        </p:nvGrpSpPr>
        <p:grpSpPr>
          <a:xfrm>
            <a:off x="7010280" y="5867280"/>
            <a:ext cx="1652760" cy="662040"/>
            <a:chOff x="7010280" y="5867280"/>
            <a:chExt cx="1652760" cy="662040"/>
          </a:xfrm>
        </p:grpSpPr>
        <p:sp>
          <p:nvSpPr>
            <p:cNvPr id="269" name="AutoShape 112">
              <a:hlinkClick r:id="" action="ppaction://hlinkshowjump?jump=nextslide"/>
            </p:cNvPr>
            <p:cNvSpPr/>
            <p:nvPr/>
          </p:nvSpPr>
          <p:spPr>
            <a:xfrm>
              <a:off x="7924680" y="5867280"/>
              <a:ext cx="738360" cy="662040"/>
            </a:xfrm>
            <a:custGeom>
              <a:avLst/>
              <a:gdLst>
                <a:gd name="textAreaLeft" fmla="*/ 42840 w 738360"/>
                <a:gd name="textAreaRight" fmla="*/ 695520 w 738360"/>
                <a:gd name="textAreaTop" fmla="*/ 42840 h 662040"/>
                <a:gd name="textAreaBottom" fmla="*/ 619200 h 662040"/>
              </a:gdLst>
              <a:ahLst/>
              <a:rect l="textAreaLeft" t="textAreaTop" r="textAreaRight" b="textAreaBottom"/>
              <a:pathLst>
                <a:path w="24089" h="21600">
                  <a:moveTo>
                    <a:pt x="0" y="0"/>
                  </a:moveTo>
                  <a:lnTo>
                    <a:pt x="24089" y="0"/>
                  </a:lnTo>
                  <a:lnTo>
                    <a:pt x="24089" y="21600"/>
                  </a:lnTo>
                  <a:lnTo>
                    <a:pt x="0" y="21600"/>
                  </a:lnTo>
                  <a:close/>
                </a:path>
                <a:path fill="lightenLess" w="24089" h="21600">
                  <a:moveTo>
                    <a:pt x="0" y="0"/>
                  </a:moveTo>
                  <a:lnTo>
                    <a:pt x="24089" y="0"/>
                  </a:lnTo>
                  <a:lnTo>
                    <a:pt x="22689" y="1400"/>
                  </a:lnTo>
                  <a:lnTo>
                    <a:pt x="1400" y="1400"/>
                  </a:lnTo>
                  <a:close/>
                </a:path>
                <a:path fill="darken" w="24089" h="21600">
                  <a:moveTo>
                    <a:pt x="24089" y="0"/>
                  </a:moveTo>
                  <a:lnTo>
                    <a:pt x="24089" y="21600"/>
                  </a:lnTo>
                  <a:lnTo>
                    <a:pt x="22689" y="20200"/>
                  </a:lnTo>
                  <a:lnTo>
                    <a:pt x="22689" y="1400"/>
                  </a:lnTo>
                  <a:close/>
                </a:path>
                <a:path fill="darkenLess" w="24089" h="21600">
                  <a:moveTo>
                    <a:pt x="2408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689" y="20200"/>
                  </a:lnTo>
                  <a:close/>
                </a:path>
                <a:path fill="lighten" w="2408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4089" h="21600">
                  <a:moveTo>
                    <a:pt x="5038" y="3794"/>
                  </a:moveTo>
                  <a:lnTo>
                    <a:pt x="19051" y="10800"/>
                  </a:lnTo>
                  <a:lnTo>
                    <a:pt x="5038" y="17806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AutoShape 113">
              <a:hlinkClick r:id="" action="ppaction://hlinkshowjump?jump=previousslide"/>
            </p:cNvPr>
            <p:cNvSpPr/>
            <p:nvPr/>
          </p:nvSpPr>
          <p:spPr>
            <a:xfrm>
              <a:off x="7010280" y="5867280"/>
              <a:ext cx="662040" cy="662040"/>
            </a:xfrm>
            <a:custGeom>
              <a:avLst/>
              <a:gdLst>
                <a:gd name="textAreaLeft" fmla="*/ 42840 w 662040"/>
                <a:gd name="textAreaRight" fmla="*/ 619200 w 662040"/>
                <a:gd name="textAreaTop" fmla="*/ 42840 h 662040"/>
                <a:gd name="textAreaBottom" fmla="*/ 619200 h 66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1" name="Text Box 111"/>
          <p:cNvSpPr/>
          <p:nvPr/>
        </p:nvSpPr>
        <p:spPr>
          <a:xfrm>
            <a:off x="1000080" y="2500200"/>
            <a:ext cx="7467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a0000"/>
                </a:solidFill>
                <a:latin typeface="Verdana"/>
              </a:rPr>
              <a:t>Tendremos en cuenta las formas que aparecen en color amarillo en cada enunciad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5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80640" y="60948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Sacar la raíz.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a0000"/>
                </a:solidFill>
                <a:latin typeface="Verdana"/>
              </a:rPr>
              <a:t>El </a:t>
            </a:r>
            <a:r>
              <a:rPr b="1" lang="es-ES_tradnl" sz="1800" spc="-1" strike="noStrike">
                <a:solidFill>
                  <a:srgbClr val="9a0000"/>
                </a:solidFill>
                <a:latin typeface="Verdana"/>
              </a:rPr>
              <a:t> verbo tiene tres raíces temáticas o tema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5" name="Group 37"/>
          <p:cNvGrpSpPr/>
          <p:nvPr/>
        </p:nvGrpSpPr>
        <p:grpSpPr>
          <a:xfrm>
            <a:off x="285840" y="2714760"/>
            <a:ext cx="8571960" cy="2927880"/>
            <a:chOff x="285840" y="2714760"/>
            <a:chExt cx="8571960" cy="2927880"/>
          </a:xfrm>
        </p:grpSpPr>
        <p:grpSp>
          <p:nvGrpSpPr>
            <p:cNvPr id="276" name="Group 35"/>
            <p:cNvGrpSpPr/>
            <p:nvPr/>
          </p:nvGrpSpPr>
          <p:grpSpPr>
            <a:xfrm>
              <a:off x="291240" y="2730960"/>
              <a:ext cx="8560440" cy="2892600"/>
              <a:chOff x="291240" y="2730960"/>
              <a:chExt cx="8560440" cy="2892600"/>
            </a:xfrm>
          </p:grpSpPr>
          <p:grpSp>
            <p:nvGrpSpPr>
              <p:cNvPr id="277" name="Group 14"/>
              <p:cNvGrpSpPr/>
              <p:nvPr/>
            </p:nvGrpSpPr>
            <p:grpSpPr>
              <a:xfrm>
                <a:off x="291240" y="2730960"/>
                <a:ext cx="2138040" cy="963360"/>
                <a:chOff x="291240" y="2730960"/>
                <a:chExt cx="2138040" cy="963360"/>
              </a:xfrm>
            </p:grpSpPr>
            <p:sp>
              <p:nvSpPr>
                <p:cNvPr id="278" name="Rectangle 13"/>
                <p:cNvSpPr/>
                <p:nvPr/>
              </p:nvSpPr>
              <p:spPr>
                <a:xfrm>
                  <a:off x="291240" y="2730960"/>
                  <a:ext cx="2138040" cy="96336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79" name="Group 12"/>
                <p:cNvGrpSpPr/>
                <p:nvPr/>
              </p:nvGrpSpPr>
              <p:grpSpPr>
                <a:xfrm>
                  <a:off x="291240" y="2730960"/>
                  <a:ext cx="2137680" cy="962280"/>
                  <a:chOff x="291240" y="2730960"/>
                  <a:chExt cx="2137680" cy="962280"/>
                </a:xfrm>
              </p:grpSpPr>
              <p:sp>
                <p:nvSpPr>
                  <p:cNvPr id="280" name="Rectangle 5"/>
                  <p:cNvSpPr/>
                  <p:nvPr/>
                </p:nvSpPr>
                <p:spPr>
                  <a:xfrm>
                    <a:off x="291240" y="2730960"/>
                    <a:ext cx="2137680" cy="96228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Tema de present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81" name="Rectangle 11"/>
                  <p:cNvSpPr/>
                  <p:nvPr/>
                </p:nvSpPr>
                <p:spPr>
                  <a:xfrm>
                    <a:off x="291240" y="2730960"/>
                    <a:ext cx="2137680" cy="962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82" name="Group 18"/>
              <p:cNvGrpSpPr/>
              <p:nvPr/>
            </p:nvGrpSpPr>
            <p:grpSpPr>
              <a:xfrm>
                <a:off x="2429640" y="2730960"/>
                <a:ext cx="6422040" cy="963360"/>
                <a:chOff x="2429640" y="2730960"/>
                <a:chExt cx="6422040" cy="963360"/>
              </a:xfrm>
            </p:grpSpPr>
            <p:sp>
              <p:nvSpPr>
                <p:cNvPr id="283" name="Rectangle 17"/>
                <p:cNvSpPr/>
                <p:nvPr/>
              </p:nvSpPr>
              <p:spPr>
                <a:xfrm>
                  <a:off x="2429640" y="2730960"/>
                  <a:ext cx="6422040" cy="96336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84" name="Group 16"/>
                <p:cNvGrpSpPr/>
                <p:nvPr/>
              </p:nvGrpSpPr>
              <p:grpSpPr>
                <a:xfrm>
                  <a:off x="2429640" y="2730960"/>
                  <a:ext cx="6421680" cy="962280"/>
                  <a:chOff x="2429640" y="2730960"/>
                  <a:chExt cx="6421680" cy="962280"/>
                </a:xfrm>
              </p:grpSpPr>
              <p:sp>
                <p:nvSpPr>
                  <p:cNvPr id="285" name="Rectangle 6"/>
                  <p:cNvSpPr/>
                  <p:nvPr/>
                </p:nvSpPr>
                <p:spPr>
                  <a:xfrm>
                    <a:off x="2429640" y="2730960"/>
                    <a:ext cx="6421680" cy="96228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Quitamos la terminación </a:t>
                    </a:r>
                    <a:r>
                      <a:rPr b="1" i="1" lang="es-ES" sz="1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-o </a:t>
                    </a:r>
                    <a:r>
                      <a:rPr b="0" lang="es-ES" sz="1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a la 1ª forma menos en la 1ªconjugación que quitamos la </a:t>
                    </a:r>
                    <a:r>
                      <a:rPr b="1" i="1" lang="es-ES" sz="1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–s</a:t>
                    </a:r>
                    <a:r>
                      <a:rPr b="0" lang="es-ES" sz="1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 a la 2ª forma Ej.: </a:t>
                    </a:r>
                    <a:r>
                      <a:rPr b="1" lang="es-ES" sz="1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ama-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86" name="Rectangle 15"/>
                  <p:cNvSpPr/>
                  <p:nvPr/>
                </p:nvSpPr>
                <p:spPr>
                  <a:xfrm>
                    <a:off x="2429640" y="2730960"/>
                    <a:ext cx="6421680" cy="962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87" name="Group 22"/>
              <p:cNvGrpSpPr/>
              <p:nvPr/>
            </p:nvGrpSpPr>
            <p:grpSpPr>
              <a:xfrm>
                <a:off x="291240" y="3695400"/>
                <a:ext cx="2138040" cy="963360"/>
                <a:chOff x="291240" y="3695400"/>
                <a:chExt cx="2138040" cy="963360"/>
              </a:xfrm>
            </p:grpSpPr>
            <p:sp>
              <p:nvSpPr>
                <p:cNvPr id="288" name="Rectangle 21"/>
                <p:cNvSpPr/>
                <p:nvPr/>
              </p:nvSpPr>
              <p:spPr>
                <a:xfrm>
                  <a:off x="291240" y="3695400"/>
                  <a:ext cx="2138040" cy="963360"/>
                </a:xfrm>
                <a:prstGeom prst="rect">
                  <a:avLst/>
                </a:prstGeom>
                <a:solidFill>
                  <a:srgbClr val="ffdb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89" name="Group 20"/>
                <p:cNvGrpSpPr/>
                <p:nvPr/>
              </p:nvGrpSpPr>
              <p:grpSpPr>
                <a:xfrm>
                  <a:off x="291240" y="3695400"/>
                  <a:ext cx="2137680" cy="962280"/>
                  <a:chOff x="291240" y="3695400"/>
                  <a:chExt cx="2137680" cy="962280"/>
                </a:xfrm>
              </p:grpSpPr>
              <p:sp>
                <p:nvSpPr>
                  <p:cNvPr id="290" name="Rectangle 7"/>
                  <p:cNvSpPr/>
                  <p:nvPr/>
                </p:nvSpPr>
                <p:spPr>
                  <a:xfrm>
                    <a:off x="291240" y="3695400"/>
                    <a:ext cx="2137680" cy="962280"/>
                  </a:xfrm>
                  <a:prstGeom prst="rect">
                    <a:avLst/>
                  </a:prstGeom>
                  <a:solidFill>
                    <a:srgbClr val="ffdb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800" spc="-1" strike="noStrike">
                        <a:solidFill>
                          <a:srgbClr val="000080"/>
                        </a:solidFill>
                        <a:latin typeface="Times New Roman"/>
                      </a:rPr>
                      <a:t>Tema de perfect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91" name="Rectangle 19"/>
                  <p:cNvSpPr/>
                  <p:nvPr/>
                </p:nvSpPr>
                <p:spPr>
                  <a:xfrm>
                    <a:off x="291240" y="3695400"/>
                    <a:ext cx="2137680" cy="962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92" name="Group 26"/>
              <p:cNvGrpSpPr/>
              <p:nvPr/>
            </p:nvGrpSpPr>
            <p:grpSpPr>
              <a:xfrm>
                <a:off x="2429640" y="3695400"/>
                <a:ext cx="6422040" cy="963360"/>
                <a:chOff x="2429640" y="3695400"/>
                <a:chExt cx="6422040" cy="963360"/>
              </a:xfrm>
            </p:grpSpPr>
            <p:sp>
              <p:nvSpPr>
                <p:cNvPr id="293" name="Rectangle 25"/>
                <p:cNvSpPr/>
                <p:nvPr/>
              </p:nvSpPr>
              <p:spPr>
                <a:xfrm>
                  <a:off x="2429640" y="3695400"/>
                  <a:ext cx="6422040" cy="963360"/>
                </a:xfrm>
                <a:prstGeom prst="rect">
                  <a:avLst/>
                </a:prstGeom>
                <a:solidFill>
                  <a:srgbClr val="ffdb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94" name="Group 24"/>
                <p:cNvGrpSpPr/>
                <p:nvPr/>
              </p:nvGrpSpPr>
              <p:grpSpPr>
                <a:xfrm>
                  <a:off x="2429640" y="3695400"/>
                  <a:ext cx="6421680" cy="962280"/>
                  <a:chOff x="2429640" y="3695400"/>
                  <a:chExt cx="6421680" cy="962280"/>
                </a:xfrm>
              </p:grpSpPr>
              <p:sp>
                <p:nvSpPr>
                  <p:cNvPr id="295" name="Rectangle 8"/>
                  <p:cNvSpPr/>
                  <p:nvPr/>
                </p:nvSpPr>
                <p:spPr>
                  <a:xfrm>
                    <a:off x="2429640" y="3695400"/>
                    <a:ext cx="6421680" cy="962280"/>
                  </a:xfrm>
                  <a:prstGeom prst="rect">
                    <a:avLst/>
                  </a:prstGeom>
                  <a:solidFill>
                    <a:srgbClr val="ffdb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000080"/>
                        </a:solidFill>
                        <a:latin typeface="Times New Roman"/>
                      </a:rPr>
                      <a:t>Quitamos la desinencia </a:t>
                    </a:r>
                    <a:r>
                      <a:rPr b="1" i="1" lang="es-ES" sz="1800" spc="-1" strike="noStrike">
                        <a:solidFill>
                          <a:srgbClr val="000080"/>
                        </a:solidFill>
                        <a:latin typeface="Times New Roman"/>
                      </a:rPr>
                      <a:t>-i</a:t>
                    </a:r>
                    <a:r>
                      <a:rPr b="0" lang="es-ES" sz="1800" spc="-1" strike="noStrike">
                        <a:solidFill>
                          <a:srgbClr val="000080"/>
                        </a:solidFill>
                        <a:latin typeface="Times New Roman"/>
                      </a:rPr>
                      <a:t> al perfecto de indicativo. Ej.: </a:t>
                    </a:r>
                    <a:r>
                      <a:rPr b="1" lang="es-ES" sz="1800" spc="-1" strike="noStrike">
                        <a:solidFill>
                          <a:srgbClr val="000080"/>
                        </a:solidFill>
                        <a:latin typeface="Times New Roman"/>
                      </a:rPr>
                      <a:t>amav-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96" name="Rectangle 23"/>
                  <p:cNvSpPr/>
                  <p:nvPr/>
                </p:nvSpPr>
                <p:spPr>
                  <a:xfrm>
                    <a:off x="2429640" y="3695400"/>
                    <a:ext cx="6421680" cy="962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97" name="Group 30"/>
              <p:cNvGrpSpPr/>
              <p:nvPr/>
            </p:nvGrpSpPr>
            <p:grpSpPr>
              <a:xfrm>
                <a:off x="291240" y="4660200"/>
                <a:ext cx="2138040" cy="963360"/>
                <a:chOff x="291240" y="4660200"/>
                <a:chExt cx="2138040" cy="963360"/>
              </a:xfrm>
            </p:grpSpPr>
            <p:sp>
              <p:nvSpPr>
                <p:cNvPr id="298" name="Rectangle 29"/>
                <p:cNvSpPr/>
                <p:nvPr/>
              </p:nvSpPr>
              <p:spPr>
                <a:xfrm>
                  <a:off x="291240" y="4660200"/>
                  <a:ext cx="2138040" cy="963360"/>
                </a:xfrm>
                <a:prstGeom prst="rect">
                  <a:avLst/>
                </a:prstGeom>
                <a:solidFill>
                  <a:srgbClr val="ccd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99" name="Group 28"/>
                <p:cNvGrpSpPr/>
                <p:nvPr/>
              </p:nvGrpSpPr>
              <p:grpSpPr>
                <a:xfrm>
                  <a:off x="291240" y="4660200"/>
                  <a:ext cx="2137680" cy="962280"/>
                  <a:chOff x="291240" y="4660200"/>
                  <a:chExt cx="2137680" cy="962280"/>
                </a:xfrm>
              </p:grpSpPr>
              <p:sp>
                <p:nvSpPr>
                  <p:cNvPr id="300" name="Rectangle 9"/>
                  <p:cNvSpPr/>
                  <p:nvPr/>
                </p:nvSpPr>
                <p:spPr>
                  <a:xfrm>
                    <a:off x="291240" y="4660200"/>
                    <a:ext cx="2137680" cy="962280"/>
                  </a:xfrm>
                  <a:prstGeom prst="rect">
                    <a:avLst/>
                  </a:prstGeom>
                  <a:solidFill>
                    <a:srgbClr val="ccd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8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Tema de supin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01" name="Rectangle 27"/>
                  <p:cNvSpPr/>
                  <p:nvPr/>
                </p:nvSpPr>
                <p:spPr>
                  <a:xfrm>
                    <a:off x="291240" y="4660200"/>
                    <a:ext cx="2137680" cy="962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02" name="Group 34"/>
              <p:cNvGrpSpPr/>
              <p:nvPr/>
            </p:nvGrpSpPr>
            <p:grpSpPr>
              <a:xfrm>
                <a:off x="2429640" y="4660200"/>
                <a:ext cx="6422040" cy="963360"/>
                <a:chOff x="2429640" y="4660200"/>
                <a:chExt cx="6422040" cy="963360"/>
              </a:xfrm>
            </p:grpSpPr>
            <p:sp>
              <p:nvSpPr>
                <p:cNvPr id="303" name="Rectangle 33"/>
                <p:cNvSpPr/>
                <p:nvPr/>
              </p:nvSpPr>
              <p:spPr>
                <a:xfrm>
                  <a:off x="2429640" y="4660200"/>
                  <a:ext cx="6422040" cy="963360"/>
                </a:xfrm>
                <a:prstGeom prst="rect">
                  <a:avLst/>
                </a:prstGeom>
                <a:solidFill>
                  <a:srgbClr val="ccd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04" name="Group 32"/>
                <p:cNvGrpSpPr/>
                <p:nvPr/>
              </p:nvGrpSpPr>
              <p:grpSpPr>
                <a:xfrm>
                  <a:off x="2429640" y="4660200"/>
                  <a:ext cx="6421680" cy="962280"/>
                  <a:chOff x="2429640" y="4660200"/>
                  <a:chExt cx="6421680" cy="962280"/>
                </a:xfrm>
              </p:grpSpPr>
              <p:sp>
                <p:nvSpPr>
                  <p:cNvPr id="305" name="Rectangle 10"/>
                  <p:cNvSpPr/>
                  <p:nvPr/>
                </p:nvSpPr>
                <p:spPr>
                  <a:xfrm>
                    <a:off x="2429640" y="4660200"/>
                    <a:ext cx="6421680" cy="962280"/>
                  </a:xfrm>
                  <a:prstGeom prst="rect">
                    <a:avLst/>
                  </a:prstGeom>
                  <a:solidFill>
                    <a:srgbClr val="ccd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Quitamos la terminación </a:t>
                    </a:r>
                    <a:r>
                      <a:rPr b="1" i="1" lang="es-ES" sz="18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-um</a:t>
                    </a:r>
                    <a:r>
                      <a:rPr b="0" lang="es-ES" sz="18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 al supino. Ej.: </a:t>
                    </a:r>
                    <a:r>
                      <a:rPr b="1" lang="es-ES" sz="18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amat-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06" name="Rectangle 31"/>
                  <p:cNvSpPr/>
                  <p:nvPr/>
                </p:nvSpPr>
                <p:spPr>
                  <a:xfrm>
                    <a:off x="2429640" y="4660200"/>
                    <a:ext cx="6421680" cy="962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307" name="Rectangle 36"/>
            <p:cNvSpPr/>
            <p:nvPr/>
          </p:nvSpPr>
          <p:spPr>
            <a:xfrm>
              <a:off x="285840" y="2714760"/>
              <a:ext cx="8571960" cy="29278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8" name="Group 42"/>
          <p:cNvGrpSpPr/>
          <p:nvPr/>
        </p:nvGrpSpPr>
        <p:grpSpPr>
          <a:xfrm>
            <a:off x="6705720" y="5791320"/>
            <a:ext cx="2109600" cy="738000"/>
            <a:chOff x="6705720" y="5791320"/>
            <a:chExt cx="2109600" cy="738000"/>
          </a:xfrm>
        </p:grpSpPr>
        <p:sp>
          <p:nvSpPr>
            <p:cNvPr id="309" name="AutoShape 39">
              <a:hlinkClick r:id="" action="ppaction://hlinkshowjump?jump=nextslide"/>
            </p:cNvPr>
            <p:cNvSpPr/>
            <p:nvPr/>
          </p:nvSpPr>
          <p:spPr>
            <a:xfrm>
              <a:off x="8196840" y="5791320"/>
              <a:ext cx="618480" cy="738000"/>
            </a:xfrm>
            <a:custGeom>
              <a:avLst/>
              <a:gdLst>
                <a:gd name="textAreaLeft" fmla="*/ 39960 w 618480"/>
                <a:gd name="textAreaRight" fmla="*/ 578520 w 618480"/>
                <a:gd name="textAreaTop" fmla="*/ 39960 h 738000"/>
                <a:gd name="textAreaBottom" fmla="*/ 698040 h 738000"/>
              </a:gdLst>
              <a:ahLst/>
              <a:rect l="textAreaLeft" t="textAreaTop" r="textAreaRight" b="textAreaBottom"/>
              <a:pathLst>
                <a:path w="21600" h="25772">
                  <a:moveTo>
                    <a:pt x="0" y="0"/>
                  </a:moveTo>
                  <a:lnTo>
                    <a:pt x="21600" y="0"/>
                  </a:lnTo>
                  <a:lnTo>
                    <a:pt x="21600" y="25772"/>
                  </a:lnTo>
                  <a:lnTo>
                    <a:pt x="0" y="25772"/>
                  </a:lnTo>
                  <a:close/>
                </a:path>
                <a:path fill="lightenLess" w="21600" h="2577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5772">
                  <a:moveTo>
                    <a:pt x="21600" y="0"/>
                  </a:moveTo>
                  <a:lnTo>
                    <a:pt x="21600" y="25772"/>
                  </a:lnTo>
                  <a:lnTo>
                    <a:pt x="20200" y="24372"/>
                  </a:lnTo>
                  <a:lnTo>
                    <a:pt x="20200" y="1400"/>
                  </a:lnTo>
                  <a:close/>
                </a:path>
                <a:path fill="darkenLess" w="21600" h="25772">
                  <a:moveTo>
                    <a:pt x="21600" y="25772"/>
                  </a:moveTo>
                  <a:lnTo>
                    <a:pt x="0" y="25772"/>
                  </a:lnTo>
                  <a:lnTo>
                    <a:pt x="1400" y="24372"/>
                  </a:lnTo>
                  <a:lnTo>
                    <a:pt x="20200" y="24372"/>
                  </a:lnTo>
                  <a:close/>
                </a:path>
                <a:path fill="lighten" w="21600" h="25772">
                  <a:moveTo>
                    <a:pt x="0" y="2577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4372"/>
                  </a:lnTo>
                  <a:close/>
                </a:path>
                <a:path fill="darken" w="21600" h="25772">
                  <a:moveTo>
                    <a:pt x="3794" y="5879"/>
                  </a:moveTo>
                  <a:lnTo>
                    <a:pt x="17806" y="12886"/>
                  </a:lnTo>
                  <a:lnTo>
                    <a:pt x="3794" y="19892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AutoShape 40">
              <a:hlinkClick r:id="" action="ppaction://hlinkshowjump?jump=firstslide"/>
            </p:cNvPr>
            <p:cNvSpPr/>
            <p:nvPr/>
          </p:nvSpPr>
          <p:spPr>
            <a:xfrm>
              <a:off x="7473600" y="5791320"/>
              <a:ext cx="618480" cy="738000"/>
            </a:xfrm>
            <a:custGeom>
              <a:avLst/>
              <a:gdLst>
                <a:gd name="textAreaLeft" fmla="*/ 39960 w 618480"/>
                <a:gd name="textAreaRight" fmla="*/ 578520 w 618480"/>
                <a:gd name="textAreaTop" fmla="*/ 39960 h 738000"/>
                <a:gd name="textAreaBottom" fmla="*/ 698040 h 738000"/>
              </a:gdLst>
              <a:ahLst/>
              <a:rect l="textAreaLeft" t="textAreaTop" r="textAreaRight" b="textAreaBottom"/>
              <a:pathLst>
                <a:path w="21600" h="25772">
                  <a:moveTo>
                    <a:pt x="0" y="0"/>
                  </a:moveTo>
                  <a:lnTo>
                    <a:pt x="21600" y="0"/>
                  </a:lnTo>
                  <a:lnTo>
                    <a:pt x="21600" y="25772"/>
                  </a:lnTo>
                  <a:lnTo>
                    <a:pt x="0" y="25772"/>
                  </a:lnTo>
                  <a:close/>
                </a:path>
                <a:path fill="lightenLess" w="21600" h="2577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5772">
                  <a:moveTo>
                    <a:pt x="21600" y="0"/>
                  </a:moveTo>
                  <a:lnTo>
                    <a:pt x="21600" y="25772"/>
                  </a:lnTo>
                  <a:lnTo>
                    <a:pt x="20200" y="24372"/>
                  </a:lnTo>
                  <a:lnTo>
                    <a:pt x="20200" y="1400"/>
                  </a:lnTo>
                  <a:close/>
                </a:path>
                <a:path fill="darkenLess" w="21600" h="25772">
                  <a:moveTo>
                    <a:pt x="21600" y="25772"/>
                  </a:moveTo>
                  <a:lnTo>
                    <a:pt x="0" y="25772"/>
                  </a:lnTo>
                  <a:lnTo>
                    <a:pt x="1400" y="24372"/>
                  </a:lnTo>
                  <a:lnTo>
                    <a:pt x="20200" y="24372"/>
                  </a:lnTo>
                  <a:close/>
                </a:path>
                <a:path fill="lighten" w="21600" h="25772">
                  <a:moveTo>
                    <a:pt x="0" y="2577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4372"/>
                  </a:lnTo>
                  <a:close/>
                </a:path>
                <a:path fill="darken" w="21600" h="25772">
                  <a:moveTo>
                    <a:pt x="10800" y="5923"/>
                  </a:moveTo>
                  <a:lnTo>
                    <a:pt x="13376" y="8534"/>
                  </a:lnTo>
                  <a:lnTo>
                    <a:pt x="13376" y="6793"/>
                  </a:lnTo>
                  <a:lnTo>
                    <a:pt x="15152" y="6793"/>
                  </a:lnTo>
                  <a:lnTo>
                    <a:pt x="15152" y="10310"/>
                  </a:lnTo>
                  <a:lnTo>
                    <a:pt x="17763" y="12886"/>
                  </a:lnTo>
                  <a:lnTo>
                    <a:pt x="16109" y="12886"/>
                  </a:lnTo>
                  <a:lnTo>
                    <a:pt x="16109" y="20075"/>
                  </a:lnTo>
                  <a:lnTo>
                    <a:pt x="5491" y="20075"/>
                  </a:lnTo>
                  <a:lnTo>
                    <a:pt x="5491" y="12886"/>
                  </a:lnTo>
                  <a:lnTo>
                    <a:pt x="3837" y="12886"/>
                  </a:lnTo>
                  <a:close/>
                </a:path>
                <a:path fill="darkenLess" w="21600" h="25772">
                  <a:moveTo>
                    <a:pt x="13376" y="8534"/>
                  </a:moveTo>
                  <a:lnTo>
                    <a:pt x="13376" y="6793"/>
                  </a:lnTo>
                  <a:lnTo>
                    <a:pt x="15152" y="6793"/>
                  </a:lnTo>
                  <a:lnTo>
                    <a:pt x="15152" y="10310"/>
                  </a:lnTo>
                  <a:close/>
                </a:path>
                <a:path fill="darkenLess" w="21600" h="25772">
                  <a:moveTo>
                    <a:pt x="9877" y="16385"/>
                  </a:moveTo>
                  <a:lnTo>
                    <a:pt x="11723" y="16385"/>
                  </a:lnTo>
                  <a:lnTo>
                    <a:pt x="11723" y="20075"/>
                  </a:lnTo>
                  <a:lnTo>
                    <a:pt x="16109" y="20075"/>
                  </a:lnTo>
                  <a:lnTo>
                    <a:pt x="16109" y="12886"/>
                  </a:lnTo>
                  <a:lnTo>
                    <a:pt x="5491" y="12886"/>
                  </a:lnTo>
                  <a:lnTo>
                    <a:pt x="5491" y="20075"/>
                  </a:lnTo>
                  <a:lnTo>
                    <a:pt x="9877" y="20075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AutoShape 41">
              <a:hlinkClick r:id="" action="ppaction://hlinkshowjump?jump=previousslide"/>
            </p:cNvPr>
            <p:cNvSpPr/>
            <p:nvPr/>
          </p:nvSpPr>
          <p:spPr>
            <a:xfrm>
              <a:off x="6705720" y="5791320"/>
              <a:ext cx="618480" cy="738000"/>
            </a:xfrm>
            <a:custGeom>
              <a:avLst/>
              <a:gdLst>
                <a:gd name="textAreaLeft" fmla="*/ 39960 w 618480"/>
                <a:gd name="textAreaRight" fmla="*/ 578520 w 618480"/>
                <a:gd name="textAreaTop" fmla="*/ 39960 h 738000"/>
                <a:gd name="textAreaBottom" fmla="*/ 698040 h 738000"/>
              </a:gdLst>
              <a:ahLst/>
              <a:rect l="textAreaLeft" t="textAreaTop" r="textAreaRight" b="textAreaBottom"/>
              <a:pathLst>
                <a:path w="21600" h="25772">
                  <a:moveTo>
                    <a:pt x="0" y="0"/>
                  </a:moveTo>
                  <a:lnTo>
                    <a:pt x="21600" y="0"/>
                  </a:lnTo>
                  <a:lnTo>
                    <a:pt x="21600" y="25772"/>
                  </a:lnTo>
                  <a:lnTo>
                    <a:pt x="0" y="25772"/>
                  </a:lnTo>
                  <a:close/>
                </a:path>
                <a:path fill="lightenLess" w="21600" h="2577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5772">
                  <a:moveTo>
                    <a:pt x="21600" y="0"/>
                  </a:moveTo>
                  <a:lnTo>
                    <a:pt x="21600" y="25772"/>
                  </a:lnTo>
                  <a:lnTo>
                    <a:pt x="20200" y="24372"/>
                  </a:lnTo>
                  <a:lnTo>
                    <a:pt x="20200" y="1400"/>
                  </a:lnTo>
                  <a:close/>
                </a:path>
                <a:path fill="darkenLess" w="21600" h="25772">
                  <a:moveTo>
                    <a:pt x="21600" y="25772"/>
                  </a:moveTo>
                  <a:lnTo>
                    <a:pt x="0" y="25772"/>
                  </a:lnTo>
                  <a:lnTo>
                    <a:pt x="1400" y="24372"/>
                  </a:lnTo>
                  <a:lnTo>
                    <a:pt x="20200" y="24372"/>
                  </a:lnTo>
                  <a:close/>
                </a:path>
                <a:path fill="lighten" w="21600" h="25772">
                  <a:moveTo>
                    <a:pt x="0" y="2577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4372"/>
                  </a:lnTo>
                  <a:close/>
                </a:path>
                <a:path fill="darken" w="21600" h="25772">
                  <a:moveTo>
                    <a:pt x="3794" y="12886"/>
                  </a:moveTo>
                  <a:lnTo>
                    <a:pt x="17806" y="5879"/>
                  </a:lnTo>
                  <a:lnTo>
                    <a:pt x="17806" y="19892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5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58"/>
          <p:cNvGrpSpPr/>
          <p:nvPr/>
        </p:nvGrpSpPr>
        <p:grpSpPr>
          <a:xfrm>
            <a:off x="0" y="1857240"/>
            <a:ext cx="8857440" cy="4571640"/>
            <a:chOff x="0" y="1857240"/>
            <a:chExt cx="8857440" cy="4571640"/>
          </a:xfrm>
        </p:grpSpPr>
        <p:grpSp>
          <p:nvGrpSpPr>
            <p:cNvPr id="313" name="Group 59"/>
            <p:cNvGrpSpPr/>
            <p:nvPr/>
          </p:nvGrpSpPr>
          <p:grpSpPr>
            <a:xfrm>
              <a:off x="11880" y="1862280"/>
              <a:ext cx="8831880" cy="4560480"/>
              <a:chOff x="11880" y="1862280"/>
              <a:chExt cx="8831880" cy="4560480"/>
            </a:xfrm>
          </p:grpSpPr>
          <p:grpSp>
            <p:nvGrpSpPr>
              <p:cNvPr id="314" name="Group 60"/>
              <p:cNvGrpSpPr/>
              <p:nvPr/>
            </p:nvGrpSpPr>
            <p:grpSpPr>
              <a:xfrm>
                <a:off x="11880" y="1862280"/>
                <a:ext cx="1144080" cy="911520"/>
                <a:chOff x="11880" y="1862280"/>
                <a:chExt cx="1144080" cy="911520"/>
              </a:xfrm>
            </p:grpSpPr>
            <p:sp>
              <p:nvSpPr>
                <p:cNvPr id="315" name="Rectangle 61"/>
                <p:cNvSpPr/>
                <p:nvPr/>
              </p:nvSpPr>
              <p:spPr>
                <a:xfrm>
                  <a:off x="11880" y="1862280"/>
                  <a:ext cx="1144080" cy="91152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16" name="Group 62"/>
                <p:cNvGrpSpPr/>
                <p:nvPr/>
              </p:nvGrpSpPr>
              <p:grpSpPr>
                <a:xfrm>
                  <a:off x="11880" y="1862280"/>
                  <a:ext cx="1143360" cy="911160"/>
                  <a:chOff x="11880" y="1862280"/>
                  <a:chExt cx="1143360" cy="911160"/>
                </a:xfrm>
              </p:grpSpPr>
              <p:sp>
                <p:nvSpPr>
                  <p:cNvPr id="317" name="Rectangle 63"/>
                  <p:cNvSpPr/>
                  <p:nvPr/>
                </p:nvSpPr>
                <p:spPr>
                  <a:xfrm>
                    <a:off x="11880" y="1862280"/>
                    <a:ext cx="1143360" cy="9111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1ªconj.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18" name="Rectangle 64"/>
                  <p:cNvSpPr/>
                  <p:nvPr/>
                </p:nvSpPr>
                <p:spPr>
                  <a:xfrm>
                    <a:off x="11880" y="1862280"/>
                    <a:ext cx="1143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19" name="Group 65"/>
              <p:cNvGrpSpPr/>
              <p:nvPr/>
            </p:nvGrpSpPr>
            <p:grpSpPr>
              <a:xfrm>
                <a:off x="1156680" y="1862280"/>
                <a:ext cx="7687080" cy="911520"/>
                <a:chOff x="1156680" y="1862280"/>
                <a:chExt cx="7687080" cy="911520"/>
              </a:xfrm>
            </p:grpSpPr>
            <p:sp>
              <p:nvSpPr>
                <p:cNvPr id="320" name="Rectangle 66"/>
                <p:cNvSpPr/>
                <p:nvPr/>
              </p:nvSpPr>
              <p:spPr>
                <a:xfrm>
                  <a:off x="1156680" y="1862280"/>
                  <a:ext cx="7687080" cy="91152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21" name="Group 67"/>
                <p:cNvGrpSpPr/>
                <p:nvPr/>
              </p:nvGrpSpPr>
              <p:grpSpPr>
                <a:xfrm>
                  <a:off x="1156680" y="1862280"/>
                  <a:ext cx="7686360" cy="911160"/>
                  <a:chOff x="1156680" y="1862280"/>
                  <a:chExt cx="7686360" cy="911160"/>
                </a:xfrm>
              </p:grpSpPr>
              <p:sp>
                <p:nvSpPr>
                  <p:cNvPr id="322" name="Rectangle 68"/>
                  <p:cNvSpPr/>
                  <p:nvPr/>
                </p:nvSpPr>
                <p:spPr>
                  <a:xfrm>
                    <a:off x="1156680" y="1862280"/>
                    <a:ext cx="7686360" cy="9111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l tema de presente   es   am-</a:t>
                    </a:r>
                    <a:r>
                      <a:rPr b="1" lang="es-ES" sz="28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a-Tiene tema en -A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23" name="Rectangle 69"/>
                  <p:cNvSpPr/>
                  <p:nvPr/>
                </p:nvSpPr>
                <p:spPr>
                  <a:xfrm>
                    <a:off x="1156680" y="1862280"/>
                    <a:ext cx="7686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24" name="Group 70"/>
              <p:cNvGrpSpPr/>
              <p:nvPr/>
            </p:nvGrpSpPr>
            <p:grpSpPr>
              <a:xfrm>
                <a:off x="11880" y="2774160"/>
                <a:ext cx="1144080" cy="911520"/>
                <a:chOff x="11880" y="2774160"/>
                <a:chExt cx="1144080" cy="911520"/>
              </a:xfrm>
            </p:grpSpPr>
            <p:sp>
              <p:nvSpPr>
                <p:cNvPr id="325" name="Rectangle 71"/>
                <p:cNvSpPr/>
                <p:nvPr/>
              </p:nvSpPr>
              <p:spPr>
                <a:xfrm>
                  <a:off x="11880" y="2774160"/>
                  <a:ext cx="1144080" cy="91152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26" name="Group 72"/>
                <p:cNvGrpSpPr/>
                <p:nvPr/>
              </p:nvGrpSpPr>
              <p:grpSpPr>
                <a:xfrm>
                  <a:off x="11880" y="2774160"/>
                  <a:ext cx="1143360" cy="911160"/>
                  <a:chOff x="11880" y="2774160"/>
                  <a:chExt cx="1143360" cy="911160"/>
                </a:xfrm>
              </p:grpSpPr>
              <p:sp>
                <p:nvSpPr>
                  <p:cNvPr id="327" name="Rectangle 73"/>
                  <p:cNvSpPr/>
                  <p:nvPr/>
                </p:nvSpPr>
                <p:spPr>
                  <a:xfrm>
                    <a:off x="11880" y="2774160"/>
                    <a:ext cx="1143360" cy="9111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2ª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28" name="Rectangle 74"/>
                  <p:cNvSpPr/>
                  <p:nvPr/>
                </p:nvSpPr>
                <p:spPr>
                  <a:xfrm>
                    <a:off x="11880" y="2774160"/>
                    <a:ext cx="1143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29" name="Group 75"/>
              <p:cNvGrpSpPr/>
              <p:nvPr/>
            </p:nvGrpSpPr>
            <p:grpSpPr>
              <a:xfrm>
                <a:off x="1156680" y="2774160"/>
                <a:ext cx="7687080" cy="911520"/>
                <a:chOff x="1156680" y="2774160"/>
                <a:chExt cx="7687080" cy="911520"/>
              </a:xfrm>
            </p:grpSpPr>
            <p:sp>
              <p:nvSpPr>
                <p:cNvPr id="330" name="Rectangle 76"/>
                <p:cNvSpPr/>
                <p:nvPr/>
              </p:nvSpPr>
              <p:spPr>
                <a:xfrm>
                  <a:off x="1156680" y="2774160"/>
                  <a:ext cx="7687080" cy="91152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31" name="Group 77"/>
                <p:cNvGrpSpPr/>
                <p:nvPr/>
              </p:nvGrpSpPr>
              <p:grpSpPr>
                <a:xfrm>
                  <a:off x="1156680" y="2774160"/>
                  <a:ext cx="7686360" cy="911160"/>
                  <a:chOff x="1156680" y="2774160"/>
                  <a:chExt cx="7686360" cy="911160"/>
                </a:xfrm>
              </p:grpSpPr>
              <p:sp>
                <p:nvSpPr>
                  <p:cNvPr id="332" name="Rectangle 78"/>
                  <p:cNvSpPr/>
                  <p:nvPr/>
                </p:nvSpPr>
                <p:spPr>
                  <a:xfrm>
                    <a:off x="1156680" y="2774160"/>
                    <a:ext cx="7686360" cy="9111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l tema de presente es  hab-</a:t>
                    </a:r>
                    <a:r>
                      <a:rPr b="1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e-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33" name="Rectangle 79"/>
                  <p:cNvSpPr/>
                  <p:nvPr/>
                </p:nvSpPr>
                <p:spPr>
                  <a:xfrm>
                    <a:off x="1156680" y="2774160"/>
                    <a:ext cx="7686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34" name="Group 80"/>
              <p:cNvGrpSpPr/>
              <p:nvPr/>
            </p:nvGrpSpPr>
            <p:grpSpPr>
              <a:xfrm>
                <a:off x="11880" y="3686400"/>
                <a:ext cx="1144080" cy="912240"/>
                <a:chOff x="11880" y="3686400"/>
                <a:chExt cx="1144080" cy="912240"/>
              </a:xfrm>
            </p:grpSpPr>
            <p:sp>
              <p:nvSpPr>
                <p:cNvPr id="335" name="Rectangle 81"/>
                <p:cNvSpPr/>
                <p:nvPr/>
              </p:nvSpPr>
              <p:spPr>
                <a:xfrm>
                  <a:off x="11880" y="3686400"/>
                  <a:ext cx="1144080" cy="91224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36" name="Group 82"/>
                <p:cNvGrpSpPr/>
                <p:nvPr/>
              </p:nvGrpSpPr>
              <p:grpSpPr>
                <a:xfrm>
                  <a:off x="11880" y="3686400"/>
                  <a:ext cx="1143360" cy="911880"/>
                  <a:chOff x="11880" y="3686400"/>
                  <a:chExt cx="1143360" cy="911880"/>
                </a:xfrm>
              </p:grpSpPr>
              <p:sp>
                <p:nvSpPr>
                  <p:cNvPr id="337" name="Rectangle 83"/>
                  <p:cNvSpPr/>
                  <p:nvPr/>
                </p:nvSpPr>
                <p:spPr>
                  <a:xfrm>
                    <a:off x="11880" y="3686400"/>
                    <a:ext cx="1143360" cy="91188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3ª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38" name="Rectangle 84"/>
                  <p:cNvSpPr/>
                  <p:nvPr/>
                </p:nvSpPr>
                <p:spPr>
                  <a:xfrm>
                    <a:off x="11880" y="3686400"/>
                    <a:ext cx="1143360" cy="911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39" name="Group 85"/>
              <p:cNvGrpSpPr/>
              <p:nvPr/>
            </p:nvGrpSpPr>
            <p:grpSpPr>
              <a:xfrm>
                <a:off x="1156680" y="3686400"/>
                <a:ext cx="7687080" cy="912240"/>
                <a:chOff x="1156680" y="3686400"/>
                <a:chExt cx="7687080" cy="912240"/>
              </a:xfrm>
            </p:grpSpPr>
            <p:sp>
              <p:nvSpPr>
                <p:cNvPr id="340" name="Rectangle 86"/>
                <p:cNvSpPr/>
                <p:nvPr/>
              </p:nvSpPr>
              <p:spPr>
                <a:xfrm>
                  <a:off x="1156680" y="3686400"/>
                  <a:ext cx="7687080" cy="91224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41" name="Group 87"/>
                <p:cNvGrpSpPr/>
                <p:nvPr/>
              </p:nvGrpSpPr>
              <p:grpSpPr>
                <a:xfrm>
                  <a:off x="1156680" y="3686400"/>
                  <a:ext cx="7686360" cy="911880"/>
                  <a:chOff x="1156680" y="3686400"/>
                  <a:chExt cx="7686360" cy="911880"/>
                </a:xfrm>
              </p:grpSpPr>
              <p:sp>
                <p:nvSpPr>
                  <p:cNvPr id="342" name="Rectangle 88"/>
                  <p:cNvSpPr/>
                  <p:nvPr/>
                </p:nvSpPr>
                <p:spPr>
                  <a:xfrm>
                    <a:off x="1156680" y="3686400"/>
                    <a:ext cx="7686360" cy="9118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l tema de presente   es   reg</a:t>
                    </a:r>
                    <a:r>
                      <a:rPr b="1" lang="es-ES" sz="28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-Tiene tema consonante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3" name="Rectangle 89"/>
                  <p:cNvSpPr/>
                  <p:nvPr/>
                </p:nvSpPr>
                <p:spPr>
                  <a:xfrm>
                    <a:off x="1156680" y="3686400"/>
                    <a:ext cx="7686360" cy="911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44" name="Group 90"/>
              <p:cNvGrpSpPr/>
              <p:nvPr/>
            </p:nvGrpSpPr>
            <p:grpSpPr>
              <a:xfrm>
                <a:off x="11880" y="4599000"/>
                <a:ext cx="1144080" cy="911520"/>
                <a:chOff x="11880" y="4599000"/>
                <a:chExt cx="1144080" cy="911520"/>
              </a:xfrm>
            </p:grpSpPr>
            <p:sp>
              <p:nvSpPr>
                <p:cNvPr id="345" name="Rectangle 91"/>
                <p:cNvSpPr/>
                <p:nvPr/>
              </p:nvSpPr>
              <p:spPr>
                <a:xfrm>
                  <a:off x="11880" y="4599000"/>
                  <a:ext cx="1144080" cy="91152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46" name="Group 92"/>
                <p:cNvGrpSpPr/>
                <p:nvPr/>
              </p:nvGrpSpPr>
              <p:grpSpPr>
                <a:xfrm>
                  <a:off x="11880" y="4599000"/>
                  <a:ext cx="1143360" cy="911160"/>
                  <a:chOff x="11880" y="4599000"/>
                  <a:chExt cx="1143360" cy="911160"/>
                </a:xfrm>
              </p:grpSpPr>
              <p:sp>
                <p:nvSpPr>
                  <p:cNvPr id="347" name="Rectangle 93"/>
                  <p:cNvSpPr/>
                  <p:nvPr/>
                </p:nvSpPr>
                <p:spPr>
                  <a:xfrm>
                    <a:off x="11880" y="4599000"/>
                    <a:ext cx="1143360" cy="9111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4ª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8" name="Rectangle 94"/>
                  <p:cNvSpPr/>
                  <p:nvPr/>
                </p:nvSpPr>
                <p:spPr>
                  <a:xfrm>
                    <a:off x="11880" y="4599000"/>
                    <a:ext cx="1143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49" name="Group 95"/>
              <p:cNvGrpSpPr/>
              <p:nvPr/>
            </p:nvGrpSpPr>
            <p:grpSpPr>
              <a:xfrm>
                <a:off x="1156680" y="4599000"/>
                <a:ext cx="7687080" cy="911520"/>
                <a:chOff x="1156680" y="4599000"/>
                <a:chExt cx="7687080" cy="911520"/>
              </a:xfrm>
            </p:grpSpPr>
            <p:sp>
              <p:nvSpPr>
                <p:cNvPr id="350" name="Rectangle 96"/>
                <p:cNvSpPr/>
                <p:nvPr/>
              </p:nvSpPr>
              <p:spPr>
                <a:xfrm>
                  <a:off x="1156680" y="4599000"/>
                  <a:ext cx="7687080" cy="91152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51" name="Group 97"/>
                <p:cNvGrpSpPr/>
                <p:nvPr/>
              </p:nvGrpSpPr>
              <p:grpSpPr>
                <a:xfrm>
                  <a:off x="1156680" y="4599000"/>
                  <a:ext cx="7686360" cy="911160"/>
                  <a:chOff x="1156680" y="4599000"/>
                  <a:chExt cx="7686360" cy="911160"/>
                </a:xfrm>
              </p:grpSpPr>
              <p:sp>
                <p:nvSpPr>
                  <p:cNvPr id="352" name="Rectangle 98"/>
                  <p:cNvSpPr/>
                  <p:nvPr/>
                </p:nvSpPr>
                <p:spPr>
                  <a:xfrm>
                    <a:off x="1156680" y="4599000"/>
                    <a:ext cx="7686360" cy="9111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l tema de presente   es   aud-</a:t>
                    </a:r>
                    <a:r>
                      <a:rPr b="1" lang="es-ES" sz="28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i-Tiene tema en –I larga 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3" name="Rectangle 99"/>
                  <p:cNvSpPr/>
                  <p:nvPr/>
                </p:nvSpPr>
                <p:spPr>
                  <a:xfrm>
                    <a:off x="1156680" y="4599000"/>
                    <a:ext cx="7686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54" name="Group 100"/>
              <p:cNvGrpSpPr/>
              <p:nvPr/>
            </p:nvGrpSpPr>
            <p:grpSpPr>
              <a:xfrm>
                <a:off x="11880" y="5511240"/>
                <a:ext cx="1144080" cy="911520"/>
                <a:chOff x="11880" y="5511240"/>
                <a:chExt cx="1144080" cy="911520"/>
              </a:xfrm>
            </p:grpSpPr>
            <p:sp>
              <p:nvSpPr>
                <p:cNvPr id="355" name="Rectangle 101"/>
                <p:cNvSpPr/>
                <p:nvPr/>
              </p:nvSpPr>
              <p:spPr>
                <a:xfrm>
                  <a:off x="11880" y="5511240"/>
                  <a:ext cx="1144080" cy="91152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56" name="Group 102"/>
                <p:cNvGrpSpPr/>
                <p:nvPr/>
              </p:nvGrpSpPr>
              <p:grpSpPr>
                <a:xfrm>
                  <a:off x="11880" y="5511240"/>
                  <a:ext cx="1143360" cy="911160"/>
                  <a:chOff x="11880" y="5511240"/>
                  <a:chExt cx="1143360" cy="911160"/>
                </a:xfrm>
              </p:grpSpPr>
              <p:sp>
                <p:nvSpPr>
                  <p:cNvPr id="357" name="Rectangle 103"/>
                  <p:cNvSpPr/>
                  <p:nvPr/>
                </p:nvSpPr>
                <p:spPr>
                  <a:xfrm>
                    <a:off x="11880" y="5511240"/>
                    <a:ext cx="1143360" cy="9111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3ª</a:t>
                    </a:r>
                    <a:r>
                      <a:rPr b="0" lang="es-ES" sz="1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mixt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8" name="Rectangle 104"/>
                  <p:cNvSpPr/>
                  <p:nvPr/>
                </p:nvSpPr>
                <p:spPr>
                  <a:xfrm>
                    <a:off x="11880" y="5511240"/>
                    <a:ext cx="1143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59" name="Group 105"/>
              <p:cNvGrpSpPr/>
              <p:nvPr/>
            </p:nvGrpSpPr>
            <p:grpSpPr>
              <a:xfrm>
                <a:off x="1156680" y="5511240"/>
                <a:ext cx="7687080" cy="911520"/>
                <a:chOff x="1156680" y="5511240"/>
                <a:chExt cx="7687080" cy="911520"/>
              </a:xfrm>
            </p:grpSpPr>
            <p:sp>
              <p:nvSpPr>
                <p:cNvPr id="360" name="Rectangle 106"/>
                <p:cNvSpPr/>
                <p:nvPr/>
              </p:nvSpPr>
              <p:spPr>
                <a:xfrm>
                  <a:off x="1156680" y="5511240"/>
                  <a:ext cx="7687080" cy="91152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61" name="Group 107"/>
                <p:cNvGrpSpPr/>
                <p:nvPr/>
              </p:nvGrpSpPr>
              <p:grpSpPr>
                <a:xfrm>
                  <a:off x="1156680" y="5511240"/>
                  <a:ext cx="7686360" cy="911160"/>
                  <a:chOff x="1156680" y="5511240"/>
                  <a:chExt cx="7686360" cy="911160"/>
                </a:xfrm>
              </p:grpSpPr>
              <p:sp>
                <p:nvSpPr>
                  <p:cNvPr id="362" name="Rectangle 108"/>
                  <p:cNvSpPr/>
                  <p:nvPr/>
                </p:nvSpPr>
                <p:spPr>
                  <a:xfrm>
                    <a:off x="1156680" y="5511240"/>
                    <a:ext cx="7686360" cy="9111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l tema de presente   es   cap-</a:t>
                    </a:r>
                    <a:r>
                      <a:rPr b="1" lang="es-ES" sz="28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i- Tiene tema en –I breve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3" name="Rectangle 109"/>
                  <p:cNvSpPr/>
                  <p:nvPr/>
                </p:nvSpPr>
                <p:spPr>
                  <a:xfrm>
                    <a:off x="1156680" y="5511240"/>
                    <a:ext cx="7686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364" name="Rectangle 110"/>
            <p:cNvSpPr/>
            <p:nvPr/>
          </p:nvSpPr>
          <p:spPr>
            <a:xfrm>
              <a:off x="0" y="1857240"/>
              <a:ext cx="8857440" cy="45716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5" name="Rectangle 2"/>
          <p:cNvSpPr/>
          <p:nvPr/>
        </p:nvSpPr>
        <p:spPr>
          <a:xfrm>
            <a:off x="981000" y="609480"/>
            <a:ext cx="8163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EL TEMA DE LAS CONJUGACION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428760" y="1214280"/>
            <a:ext cx="8162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Es la letra última de la raíz de pres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57 Rectángulo"/>
          <p:cNvSpPr/>
          <p:nvPr/>
        </p:nvSpPr>
        <p:spPr>
          <a:xfrm>
            <a:off x="5079960" y="2857680"/>
            <a:ext cx="23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cfc5e"/>
                </a:solidFill>
                <a:latin typeface="Times New Roman"/>
              </a:rPr>
              <a:t>Tiene tema en -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06:54:13Z</dcterms:created>
  <dc:creator>w</dc:creator>
  <dc:description/>
  <dc:language>en-US</dc:language>
  <cp:lastModifiedBy>AUDIOLEASK</cp:lastModifiedBy>
  <dcterms:modified xsi:type="dcterms:W3CDTF">2012-12-03T15:04:22Z</dcterms:modified>
  <cp:revision>39</cp:revision>
  <dc:subject/>
  <dc:title>EL ANÁLISIS DE FORMAS VERBALES</dc:title>
</cp:coreProperties>
</file>