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3F67-56A0-4941-A3E8-959DF41E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8ECB-FA22-4546-B329-3D5FCF39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E308-8FD1-4B99-BBFB-EF5F7440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4A41-8066-4477-959B-0D4E6593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F3EA-27EC-4A87-9061-FCC66D35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8563-107E-49CD-BEF4-583229B0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BE27-B258-4982-B537-0DFB0E59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7599-6305-4F2A-A4E2-8C26F483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0D98-5AF3-4FCF-B952-FA8BDC48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4F52-B9DD-4A20-9471-713C1F98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1F86-3DEE-43F3-8A03-15BCCB3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AD35-4DBB-4102-8034-FC452FEF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4D85-BDC5-4ED9-8359-23AFCC00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57E4-B6F3-4CE3-A2ED-C18CC9A3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55DE-9B78-41EB-8501-68990950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C122-BB7A-4439-BEFD-EE60B573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61A0-5905-4AE4-92C1-287388EC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B790-50A3-4EA2-845D-983D7C84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E2DC-B8AD-4410-B872-C8F1415F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40A6-4E2A-49E9-AED0-1219F5EC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0017-FDA2-42A7-834E-FDC70635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A8C7-6E77-4142-9340-289FE8F2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3D66-8382-4301-A44B-31610FC9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9699-A3EE-457E-91A3-498E4E67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B2F-1D68-4174-B5D5-7157CEC1A9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8335-1AD6-4959-9B1D-C2B73E1C663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515" name="AutoShape 3"/>
            <p:cNvSpPr/>
            <p:nvPr/>
          </p:nvSpPr>
          <p:spPr>
            <a:xfrm>
              <a:off x="0" y="0"/>
              <a:ext cx="913572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4"/>
            <p:cNvSpPr/>
            <p:nvPr/>
          </p:nvSpPr>
          <p:spPr>
            <a:xfrm>
              <a:off x="933840" y="1180440"/>
              <a:ext cx="2734920" cy="169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Group 5"/>
            <p:cNvGrpSpPr/>
            <p:nvPr/>
          </p:nvGrpSpPr>
          <p:grpSpPr>
            <a:xfrm>
              <a:off x="1814400" y="0"/>
              <a:ext cx="7328880" cy="5499000"/>
              <a:chOff x="1814400" y="0"/>
              <a:chExt cx="7328880" cy="5499000"/>
            </a:xfrm>
          </p:grpSpPr>
          <p:sp>
            <p:nvSpPr>
              <p:cNvPr id="518" name="Freeform 6"/>
              <p:cNvSpPr/>
              <p:nvPr/>
            </p:nvSpPr>
            <p:spPr>
              <a:xfrm>
                <a:off x="1924200" y="36000"/>
                <a:ext cx="7160040" cy="54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1814400" y="0"/>
                <a:ext cx="7328880" cy="54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8"/>
            <p:cNvGrpSpPr/>
            <p:nvPr/>
          </p:nvGrpSpPr>
          <p:grpSpPr>
            <a:xfrm>
              <a:off x="5400" y="1062360"/>
              <a:ext cx="2790000" cy="5794920"/>
              <a:chOff x="5400" y="1062360"/>
              <a:chExt cx="2790000" cy="5794920"/>
            </a:xfrm>
          </p:grpSpPr>
          <p:sp>
            <p:nvSpPr>
              <p:cNvPr id="521" name="Freeform 9"/>
              <p:cNvSpPr/>
              <p:nvPr/>
            </p:nvSpPr>
            <p:spPr>
              <a:xfrm>
                <a:off x="5400" y="1062360"/>
                <a:ext cx="1591920" cy="125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0"/>
              <p:cNvSpPr/>
              <p:nvPr/>
            </p:nvSpPr>
            <p:spPr>
              <a:xfrm>
                <a:off x="572400" y="2513520"/>
                <a:ext cx="1294560" cy="197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1"/>
              <p:cNvSpPr/>
              <p:nvPr/>
            </p:nvSpPr>
            <p:spPr>
              <a:xfrm>
                <a:off x="813240" y="2402280"/>
                <a:ext cx="1982160" cy="1505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12"/>
              <p:cNvSpPr/>
              <p:nvPr/>
            </p:nvSpPr>
            <p:spPr>
              <a:xfrm>
                <a:off x="1313280" y="4077000"/>
                <a:ext cx="1383120" cy="248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13"/>
              <p:cNvSpPr/>
              <p:nvPr/>
            </p:nvSpPr>
            <p:spPr>
              <a:xfrm>
                <a:off x="542880" y="4061160"/>
                <a:ext cx="843120" cy="2796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Freeform 14"/>
            <p:cNvSpPr/>
            <p:nvPr/>
          </p:nvSpPr>
          <p:spPr>
            <a:xfrm>
              <a:off x="3232440" y="1212480"/>
              <a:ext cx="492480" cy="40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5"/>
          <p:cNvSpPr/>
          <p:nvPr/>
        </p:nvSpPr>
        <p:spPr>
          <a:xfrm>
            <a:off x="3000240" y="2428920"/>
            <a:ext cx="50720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EL LATÍ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LENGUA FLEX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3780000" y="907920"/>
            <a:ext cx="4392360" cy="106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NOMINAl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flexionan los sustantiv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ad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ronomb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42920" y="260280"/>
            <a:ext cx="4357800" cy="398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L LATÍ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ngua flex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572000" y="40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5076720" y="260280"/>
            <a:ext cx="406728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En latín se flexionan nombres y verb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250920" y="1579680"/>
            <a:ext cx="3384360" cy="1728720"/>
            <a:chOff x="250920" y="1579680"/>
            <a:chExt cx="3384360" cy="1728720"/>
          </a:xfrm>
        </p:grpSpPr>
        <p:sp>
          <p:nvSpPr>
            <p:cNvPr id="534" name="Text Box 8"/>
            <p:cNvSpPr/>
            <p:nvPr/>
          </p:nvSpPr>
          <p:spPr>
            <a:xfrm>
              <a:off x="250920" y="2300400"/>
              <a:ext cx="237636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lases de flex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2987640" y="1579680"/>
              <a:ext cx="0" cy="172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10"/>
            <p:cNvSpPr/>
            <p:nvPr/>
          </p:nvSpPr>
          <p:spPr>
            <a:xfrm>
              <a:off x="2987640" y="157968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11"/>
            <p:cNvSpPr/>
            <p:nvPr/>
          </p:nvSpPr>
          <p:spPr>
            <a:xfrm>
              <a:off x="2987640" y="330840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12"/>
            <p:cNvSpPr/>
            <p:nvPr/>
          </p:nvSpPr>
          <p:spPr>
            <a:xfrm>
              <a:off x="2627280" y="251640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0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4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6" name="Text Box 2" descr=""/>
          <p:cNvPicPr/>
          <p:nvPr/>
        </p:nvPicPr>
        <p:blipFill>
          <a:blip r:embed="rId1"/>
          <a:stretch/>
        </p:blipFill>
        <p:spPr>
          <a:xfrm>
            <a:off x="-115920" y="-60480"/>
            <a:ext cx="9309240" cy="77724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4"/>
          <p:cNvSpPr/>
          <p:nvPr/>
        </p:nvSpPr>
        <p:spPr>
          <a:xfrm>
            <a:off x="5072040" y="1214280"/>
            <a:ext cx="2214720" cy="78552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IN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2643120" y="1785960"/>
            <a:ext cx="17859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2928960" y="1285920"/>
            <a:ext cx="1774800" cy="357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15"/>
          <p:cNvSpPr/>
          <p:nvPr/>
        </p:nvSpPr>
        <p:spPr>
          <a:xfrm flipV="1">
            <a:off x="2928960" y="1857240"/>
            <a:ext cx="1857240" cy="571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 flipV="1">
            <a:off x="2571840" y="3071880"/>
            <a:ext cx="20001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5072040" y="2643120"/>
            <a:ext cx="2286000" cy="105984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JUG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57:20Z</dcterms:created>
  <dc:creator>Alumno</dc:creator>
  <dc:description/>
  <dc:language>en-US</dc:language>
  <cp:lastModifiedBy>AUDIOLEASK</cp:lastModifiedBy>
  <dcterms:modified xsi:type="dcterms:W3CDTF">2012-12-14T21:48:23Z</dcterms:modified>
  <cp:revision>14</cp:revision>
  <dc:subject/>
  <dc:title>Diapositiva 1</dc:title>
</cp:coreProperties>
</file>