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2604-04AE-471A-AED5-A6D50E70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300E-CDF8-4498-9D99-9B8B9CC8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4E5C-A04D-40D2-83F5-8F9A63D7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62B0-58DC-4EA8-AB7D-68A70A1C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9F21-C04B-4A25-828C-F60ED0AF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E35F-8629-4217-94C2-39B0DCA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1EB8-0F78-4463-9094-75989318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FFD7-EE37-4D04-8DC1-C4FA5288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3355-01A9-4C00-8B14-350F1427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F4BF-22C2-4292-B783-64EAF6F1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8796-4E5A-446A-8B88-2C944BE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87B9-F1E1-451C-8183-201DB78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B4AA-4F1B-4385-82CC-87EB39C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46E-E23C-4778-8A4F-941043C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545-1453-4108-9A3A-E0180F6B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B3BD-6F3D-4CC2-8D3B-204767CB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68C-F1DC-4515-8957-2914C5E1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D0BC-6968-4B64-8CEB-94744E0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8624-E099-4644-AF37-32D19418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ADA0-A5C7-466D-BD37-7380E091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41BB-2948-457A-95D0-A8EFFFD0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DF6E-9DF3-4032-B181-87A502AA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60C6-F651-4947-80BC-6AC3F74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4D1F-9586-4463-A356-B958BB5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5BF6-A617-4095-88E6-88126CBF0D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072-1C4A-446A-A77C-ACD220D028E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515" name="AutoShape 3"/>
            <p:cNvSpPr/>
            <p:nvPr/>
          </p:nvSpPr>
          <p:spPr>
            <a:xfrm>
              <a:off x="0" y="0"/>
              <a:ext cx="913572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4"/>
            <p:cNvSpPr/>
            <p:nvPr/>
          </p:nvSpPr>
          <p:spPr>
            <a:xfrm>
              <a:off x="933840" y="1180440"/>
              <a:ext cx="2734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1814400" y="0"/>
              <a:ext cx="7328880" cy="5499000"/>
              <a:chOff x="1814400" y="0"/>
              <a:chExt cx="7328880" cy="5499000"/>
            </a:xfrm>
          </p:grpSpPr>
          <p:sp>
            <p:nvSpPr>
              <p:cNvPr id="518" name="Freeform 6"/>
              <p:cNvSpPr/>
              <p:nvPr/>
            </p:nvSpPr>
            <p:spPr>
              <a:xfrm>
                <a:off x="1924200" y="36000"/>
                <a:ext cx="716004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1814400" y="0"/>
                <a:ext cx="73288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5400" y="1062360"/>
              <a:ext cx="2790000" cy="5794920"/>
              <a:chOff x="5400" y="1062360"/>
              <a:chExt cx="2790000" cy="5794920"/>
            </a:xfrm>
          </p:grpSpPr>
          <p:sp>
            <p:nvSpPr>
              <p:cNvPr id="521" name="Freeform 9"/>
              <p:cNvSpPr/>
              <p:nvPr/>
            </p:nvSpPr>
            <p:spPr>
              <a:xfrm>
                <a:off x="5400" y="1062360"/>
                <a:ext cx="159192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572400" y="2513520"/>
                <a:ext cx="129456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813240" y="2402280"/>
                <a:ext cx="198216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1313280" y="4077000"/>
                <a:ext cx="1383120" cy="248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542880" y="4061160"/>
                <a:ext cx="84312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Freeform 14"/>
            <p:cNvSpPr/>
            <p:nvPr/>
          </p:nvSpPr>
          <p:spPr>
            <a:xfrm>
              <a:off x="3232440" y="1212480"/>
              <a:ext cx="49248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5"/>
          <p:cNvSpPr/>
          <p:nvPr/>
        </p:nvSpPr>
        <p:spPr>
          <a:xfrm>
            <a:off x="3000240" y="2428920"/>
            <a:ext cx="50720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EL LATÍ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LENGUA 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3780000" y="907920"/>
            <a:ext cx="4392360" cy="106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NOMINA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lexionan los sustant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nomb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42920" y="260280"/>
            <a:ext cx="435780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L LATÍ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ngua flex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076720" y="260280"/>
            <a:ext cx="406728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n latín se flexionan nombres y 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250920" y="1579680"/>
            <a:ext cx="3384360" cy="1728720"/>
            <a:chOff x="250920" y="1579680"/>
            <a:chExt cx="3384360" cy="1728720"/>
          </a:xfrm>
        </p:grpSpPr>
        <p:sp>
          <p:nvSpPr>
            <p:cNvPr id="534" name="Text Box 8"/>
            <p:cNvSpPr/>
            <p:nvPr/>
          </p:nvSpPr>
          <p:spPr>
            <a:xfrm>
              <a:off x="250920" y="2300400"/>
              <a:ext cx="237636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lases de flex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987640" y="157968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987640" y="157968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987640" y="33084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627280" y="25164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0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4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Text Box 2" descr=""/>
          <p:cNvPicPr/>
          <p:nvPr/>
        </p:nvPicPr>
        <p:blipFill>
          <a:blip r:embed="rId1"/>
          <a:stretch/>
        </p:blipFill>
        <p:spPr>
          <a:xfrm>
            <a:off x="-115920" y="-60480"/>
            <a:ext cx="9309240" cy="777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4"/>
          <p:cNvSpPr/>
          <p:nvPr/>
        </p:nvSpPr>
        <p:spPr>
          <a:xfrm>
            <a:off x="5072040" y="1214280"/>
            <a:ext cx="2214720" cy="78552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IN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2643120" y="1785960"/>
            <a:ext cx="17859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2928960" y="1285920"/>
            <a:ext cx="177480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 flipV="1">
            <a:off x="2928960" y="1857240"/>
            <a:ext cx="1857240" cy="571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2571840" y="3071880"/>
            <a:ext cx="20001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072040" y="2643120"/>
            <a:ext cx="2286000" cy="105984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JUG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57:20Z</dcterms:created>
  <dc:creator>Alumno</dc:creator>
  <dc:description/>
  <dc:language>en-US</dc:language>
  <cp:lastModifiedBy>AUDIOLEASK</cp:lastModifiedBy>
  <dcterms:modified xsi:type="dcterms:W3CDTF">2012-12-14T21:48:23Z</dcterms:modified>
  <cp:revision>14</cp:revision>
  <dc:subject/>
  <dc:title>Diapositiva 1</dc:title>
</cp:coreProperties>
</file>