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E487-7B44-4A92-AA84-CCC879B0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94038-20E9-4086-9F87-4F1B6B6F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069B-4213-46CD-9852-E089E8DA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94CF8-E878-4434-B6DA-8C4AE20D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93C4-D432-49B9-96D3-0F6856EA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383C-0A0B-4B07-8C06-365A1D9B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AEFA-420F-48A0-BC03-D0F08923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F4E0-D79C-4261-A27E-332F0695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08DD-AB37-4DD9-964A-9D697FE5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ACAA-0024-4465-9A30-9F911F33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9370-DE9B-4648-AD15-FD34571A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4414-8D19-43AF-A3D9-EEC6E1B1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E297-9EBC-4AA5-8422-6BC0579C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5BBC-0FD8-4230-96F0-91EAF8EC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78D6-EE84-4DD1-A535-295635CB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F7EE-F2EB-4009-8AA0-34359883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2EB6-46E6-4FDA-B9CA-5875E53F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3E18-1F0C-44A2-99CC-7B1B2462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BF69-0F1D-43DD-B917-9DD9F6EB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92CDF-8AB9-4F68-9299-E6DBE596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956E-DA72-4667-BB02-4DE5411C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78A5-0532-4EAF-8DA5-02014206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4857-7210-4A0C-A8D5-40325268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A96D-E745-444D-8703-6D0013C1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BDE0-151C-46D9-A5CD-3B8DA2D273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D268-8B0B-4B7C-9D0B-BC3F9542C8D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515" name="AutoShape 3"/>
            <p:cNvSpPr/>
            <p:nvPr/>
          </p:nvSpPr>
          <p:spPr>
            <a:xfrm>
              <a:off x="0" y="0"/>
              <a:ext cx="9135720" cy="68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4"/>
            <p:cNvSpPr/>
            <p:nvPr/>
          </p:nvSpPr>
          <p:spPr>
            <a:xfrm>
              <a:off x="933840" y="1180440"/>
              <a:ext cx="2734920" cy="1694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7" name="Group 5"/>
            <p:cNvGrpSpPr/>
            <p:nvPr/>
          </p:nvGrpSpPr>
          <p:grpSpPr>
            <a:xfrm>
              <a:off x="1814400" y="0"/>
              <a:ext cx="7328880" cy="5499000"/>
              <a:chOff x="1814400" y="0"/>
              <a:chExt cx="7328880" cy="5499000"/>
            </a:xfrm>
          </p:grpSpPr>
          <p:sp>
            <p:nvSpPr>
              <p:cNvPr id="518" name="Freeform 6"/>
              <p:cNvSpPr/>
              <p:nvPr/>
            </p:nvSpPr>
            <p:spPr>
              <a:xfrm>
                <a:off x="1924200" y="36000"/>
                <a:ext cx="7160040" cy="5445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7"/>
              <p:cNvSpPr/>
              <p:nvPr/>
            </p:nvSpPr>
            <p:spPr>
              <a:xfrm>
                <a:off x="1814400" y="0"/>
                <a:ext cx="7328880" cy="549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8"/>
            <p:cNvGrpSpPr/>
            <p:nvPr/>
          </p:nvGrpSpPr>
          <p:grpSpPr>
            <a:xfrm>
              <a:off x="5400" y="1062360"/>
              <a:ext cx="2790000" cy="5794920"/>
              <a:chOff x="5400" y="1062360"/>
              <a:chExt cx="2790000" cy="5794920"/>
            </a:xfrm>
          </p:grpSpPr>
          <p:sp>
            <p:nvSpPr>
              <p:cNvPr id="521" name="Freeform 9"/>
              <p:cNvSpPr/>
              <p:nvPr/>
            </p:nvSpPr>
            <p:spPr>
              <a:xfrm>
                <a:off x="5400" y="1062360"/>
                <a:ext cx="1591920" cy="1251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10"/>
              <p:cNvSpPr/>
              <p:nvPr/>
            </p:nvSpPr>
            <p:spPr>
              <a:xfrm>
                <a:off x="572400" y="2513520"/>
                <a:ext cx="1294560" cy="1972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11"/>
              <p:cNvSpPr/>
              <p:nvPr/>
            </p:nvSpPr>
            <p:spPr>
              <a:xfrm>
                <a:off x="813240" y="2402280"/>
                <a:ext cx="1982160" cy="1505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12"/>
              <p:cNvSpPr/>
              <p:nvPr/>
            </p:nvSpPr>
            <p:spPr>
              <a:xfrm>
                <a:off x="1313280" y="4077000"/>
                <a:ext cx="1383120" cy="2484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13"/>
              <p:cNvSpPr/>
              <p:nvPr/>
            </p:nvSpPr>
            <p:spPr>
              <a:xfrm>
                <a:off x="542880" y="4061160"/>
                <a:ext cx="843120" cy="2796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6" name="Freeform 14"/>
            <p:cNvSpPr/>
            <p:nvPr/>
          </p:nvSpPr>
          <p:spPr>
            <a:xfrm>
              <a:off x="3232440" y="1212480"/>
              <a:ext cx="492480" cy="402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Text Box 15"/>
          <p:cNvSpPr/>
          <p:nvPr/>
        </p:nvSpPr>
        <p:spPr>
          <a:xfrm>
            <a:off x="3000240" y="2428920"/>
            <a:ext cx="50720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Arial"/>
              </a:rPr>
              <a:t>EL LATÍ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Arial"/>
              </a:rPr>
              <a:t>LENGUA FLEX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3780000" y="907920"/>
            <a:ext cx="4392360" cy="106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FLEXIÓN NOMINAl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flexionan los sustantiv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adje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ronomb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142920" y="260280"/>
            <a:ext cx="4357800" cy="3988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EL LATÍ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lengua flex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4572000" y="40464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5076720" y="260280"/>
            <a:ext cx="4067280" cy="3373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En latín se flexionan nombres y verb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3780000" y="2997360"/>
            <a:ext cx="4392360" cy="6343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FLEXIÓN VERBAL</a:t>
            </a: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e flexionan los verbos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Group 7"/>
          <p:cNvGrpSpPr/>
          <p:nvPr/>
        </p:nvGrpSpPr>
        <p:grpSpPr>
          <a:xfrm>
            <a:off x="250920" y="1579680"/>
            <a:ext cx="3384360" cy="1728720"/>
            <a:chOff x="250920" y="1579680"/>
            <a:chExt cx="3384360" cy="1728720"/>
          </a:xfrm>
        </p:grpSpPr>
        <p:sp>
          <p:nvSpPr>
            <p:cNvPr id="534" name="Text Box 8"/>
            <p:cNvSpPr/>
            <p:nvPr/>
          </p:nvSpPr>
          <p:spPr>
            <a:xfrm>
              <a:off x="250920" y="2300400"/>
              <a:ext cx="237636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lases de flex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9"/>
            <p:cNvSpPr/>
            <p:nvPr/>
          </p:nvSpPr>
          <p:spPr>
            <a:xfrm>
              <a:off x="2987640" y="1579680"/>
              <a:ext cx="0" cy="172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10"/>
            <p:cNvSpPr/>
            <p:nvPr/>
          </p:nvSpPr>
          <p:spPr>
            <a:xfrm>
              <a:off x="2987640" y="1579680"/>
              <a:ext cx="647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11"/>
            <p:cNvSpPr/>
            <p:nvPr/>
          </p:nvSpPr>
          <p:spPr>
            <a:xfrm>
              <a:off x="2987640" y="3308400"/>
              <a:ext cx="647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12"/>
            <p:cNvSpPr/>
            <p:nvPr/>
          </p:nvSpPr>
          <p:spPr>
            <a:xfrm>
              <a:off x="2627280" y="251640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Group 13"/>
          <p:cNvGrpSpPr/>
          <p:nvPr/>
        </p:nvGrpSpPr>
        <p:grpSpPr>
          <a:xfrm>
            <a:off x="3214800" y="3929040"/>
            <a:ext cx="4968720" cy="2451960"/>
            <a:chOff x="3214800" y="3929040"/>
            <a:chExt cx="4968720" cy="2451960"/>
          </a:xfrm>
        </p:grpSpPr>
        <p:sp>
          <p:nvSpPr>
            <p:cNvPr id="540" name="Text Box 14"/>
            <p:cNvSpPr/>
            <p:nvPr/>
          </p:nvSpPr>
          <p:spPr>
            <a:xfrm>
              <a:off x="3214800" y="3929040"/>
              <a:ext cx="489708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Palabras no flexib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15"/>
            <p:cNvSpPr/>
            <p:nvPr/>
          </p:nvSpPr>
          <p:spPr>
            <a:xfrm>
              <a:off x="3214800" y="4357800"/>
              <a:ext cx="4968720" cy="202320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NO SE FLEXION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INTERJECCION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OS ADVERBI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CONJUN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PREPOSI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6"/>
          <p:cNvSpPr/>
          <p:nvPr/>
        </p:nvSpPr>
        <p:spPr>
          <a:xfrm>
            <a:off x="3780000" y="2997360"/>
            <a:ext cx="4392360" cy="6343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FLEXIÓN VERBAL</a:t>
            </a: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e flexionan los verbos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Group 13"/>
          <p:cNvGrpSpPr/>
          <p:nvPr/>
        </p:nvGrpSpPr>
        <p:grpSpPr>
          <a:xfrm>
            <a:off x="3214800" y="3929040"/>
            <a:ext cx="4968720" cy="2451960"/>
            <a:chOff x="3214800" y="3929040"/>
            <a:chExt cx="4968720" cy="2451960"/>
          </a:xfrm>
        </p:grpSpPr>
        <p:sp>
          <p:nvSpPr>
            <p:cNvPr id="544" name="Text Box 14"/>
            <p:cNvSpPr/>
            <p:nvPr/>
          </p:nvSpPr>
          <p:spPr>
            <a:xfrm>
              <a:off x="3214800" y="3929040"/>
              <a:ext cx="489708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Palabras no flexib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5"/>
            <p:cNvSpPr/>
            <p:nvPr/>
          </p:nvSpPr>
          <p:spPr>
            <a:xfrm>
              <a:off x="3214800" y="4357800"/>
              <a:ext cx="4968720" cy="202320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NO SE FLEXION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INTERJECCION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OS ADVERBI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CONJUN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PREPOSI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6" name="Text Box 2" descr=""/>
          <p:cNvPicPr/>
          <p:nvPr/>
        </p:nvPicPr>
        <p:blipFill>
          <a:blip r:embed="rId1"/>
          <a:stretch/>
        </p:blipFill>
        <p:spPr>
          <a:xfrm>
            <a:off x="-115920" y="-60480"/>
            <a:ext cx="9309240" cy="77724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14"/>
          <p:cNvSpPr/>
          <p:nvPr/>
        </p:nvSpPr>
        <p:spPr>
          <a:xfrm>
            <a:off x="5072040" y="1214280"/>
            <a:ext cx="2214720" cy="78552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CLINACIÓ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15"/>
          <p:cNvSpPr/>
          <p:nvPr/>
        </p:nvSpPr>
        <p:spPr>
          <a:xfrm flipV="1">
            <a:off x="2643120" y="1785960"/>
            <a:ext cx="1785960" cy="71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15"/>
          <p:cNvSpPr/>
          <p:nvPr/>
        </p:nvSpPr>
        <p:spPr>
          <a:xfrm>
            <a:off x="2928960" y="1285920"/>
            <a:ext cx="1774800" cy="357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15"/>
          <p:cNvSpPr/>
          <p:nvPr/>
        </p:nvSpPr>
        <p:spPr>
          <a:xfrm flipV="1">
            <a:off x="2928960" y="1857240"/>
            <a:ext cx="1857240" cy="571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15"/>
          <p:cNvSpPr/>
          <p:nvPr/>
        </p:nvSpPr>
        <p:spPr>
          <a:xfrm flipV="1">
            <a:off x="2571840" y="3071880"/>
            <a:ext cx="2000160" cy="71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5072040" y="2643120"/>
            <a:ext cx="2286000" cy="105984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JUGACIÓ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6:57:20Z</dcterms:created>
  <dc:creator>Alumno</dc:creator>
  <dc:description/>
  <dc:language>en-US</dc:language>
  <cp:lastModifiedBy>AUDIOLEASK</cp:lastModifiedBy>
  <dcterms:modified xsi:type="dcterms:W3CDTF">2012-12-14T21:48:23Z</dcterms:modified>
  <cp:revision>14</cp:revision>
  <dc:subject/>
  <dc:title>Diapositiva 1</dc:title>
</cp:coreProperties>
</file>