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B639-EC93-4AA6-8190-D5D80D97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C86D-777F-4977-BEBE-2311E036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CC0B-9749-4F62-9799-A678E538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EDDA-2099-445C-9B63-5C5A2E1D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308C-5332-4D18-96F7-89B0926C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C6C3-16C0-4A01-98A4-EBAD76B0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B037-1D5E-455C-B679-DA8299F3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538D-5BA4-4CAD-B09C-58279FAD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B277-5939-48B9-BC3B-1B520079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DD45-4B56-48B9-9096-DC28282A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B4C-0480-4EF0-8DA3-0A11775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A641-CF45-4714-9FA2-C1389981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D0B-0F97-434C-B17F-740E805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F719-B081-4CB2-9512-034584F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6FDB-A879-446E-AEA3-05C86AC7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A31A-D8D0-4EC2-A75F-E6E2BE84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430A-8D8C-4BDC-9279-07B5C04B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B61F-8698-41CA-8912-3F5ACBCB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0F2B-BDF8-4F6F-8A46-10B711C5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C58F-DB92-4663-BA75-B1026725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BC7C-CF85-47E7-84B6-C7364C60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0A54-87B7-4E41-A77F-066E2F9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43E5-CCF4-4AED-B8E2-D087DDD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BCA1-91A8-4EF9-967B-11A1B5D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91C8-ACB9-436F-9F75-5F633C7EDE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F07E-27ED-4091-9881-6203415BC10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515" name="AutoShape 3"/>
            <p:cNvSpPr/>
            <p:nvPr/>
          </p:nvSpPr>
          <p:spPr>
            <a:xfrm>
              <a:off x="0" y="0"/>
              <a:ext cx="913572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4"/>
            <p:cNvSpPr/>
            <p:nvPr/>
          </p:nvSpPr>
          <p:spPr>
            <a:xfrm>
              <a:off x="933840" y="1180440"/>
              <a:ext cx="2734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1814400" y="0"/>
              <a:ext cx="7328880" cy="5499000"/>
              <a:chOff x="1814400" y="0"/>
              <a:chExt cx="7328880" cy="5499000"/>
            </a:xfrm>
          </p:grpSpPr>
          <p:sp>
            <p:nvSpPr>
              <p:cNvPr id="518" name="Freeform 6"/>
              <p:cNvSpPr/>
              <p:nvPr/>
            </p:nvSpPr>
            <p:spPr>
              <a:xfrm>
                <a:off x="1924200" y="36000"/>
                <a:ext cx="716004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1814400" y="0"/>
                <a:ext cx="73288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5400" y="1062360"/>
              <a:ext cx="2790000" cy="5794920"/>
              <a:chOff x="5400" y="1062360"/>
              <a:chExt cx="2790000" cy="5794920"/>
            </a:xfrm>
          </p:grpSpPr>
          <p:sp>
            <p:nvSpPr>
              <p:cNvPr id="521" name="Freeform 9"/>
              <p:cNvSpPr/>
              <p:nvPr/>
            </p:nvSpPr>
            <p:spPr>
              <a:xfrm>
                <a:off x="5400" y="1062360"/>
                <a:ext cx="159192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0"/>
              <p:cNvSpPr/>
              <p:nvPr/>
            </p:nvSpPr>
            <p:spPr>
              <a:xfrm>
                <a:off x="572400" y="2513520"/>
                <a:ext cx="129456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1"/>
              <p:cNvSpPr/>
              <p:nvPr/>
            </p:nvSpPr>
            <p:spPr>
              <a:xfrm>
                <a:off x="813240" y="2402280"/>
                <a:ext cx="198216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>
                <a:off x="1313280" y="4077000"/>
                <a:ext cx="1383120" cy="248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>
                <a:off x="542880" y="4061160"/>
                <a:ext cx="84312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Freeform 14"/>
            <p:cNvSpPr/>
            <p:nvPr/>
          </p:nvSpPr>
          <p:spPr>
            <a:xfrm>
              <a:off x="3232440" y="1212480"/>
              <a:ext cx="49248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5"/>
          <p:cNvSpPr/>
          <p:nvPr/>
        </p:nvSpPr>
        <p:spPr>
          <a:xfrm>
            <a:off x="3000240" y="2428920"/>
            <a:ext cx="50720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EL LATÍ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LENGUA 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3780000" y="907920"/>
            <a:ext cx="4392360" cy="106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NOMINAl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lexionan los sustantiv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nomb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42920" y="260280"/>
            <a:ext cx="435780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L LATÍ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ngua flex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5076720" y="260280"/>
            <a:ext cx="406728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n latín se flexionan nombres y 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250920" y="1579680"/>
            <a:ext cx="3384360" cy="1728720"/>
            <a:chOff x="250920" y="1579680"/>
            <a:chExt cx="3384360" cy="1728720"/>
          </a:xfrm>
        </p:grpSpPr>
        <p:sp>
          <p:nvSpPr>
            <p:cNvPr id="534" name="Text Box 8"/>
            <p:cNvSpPr/>
            <p:nvPr/>
          </p:nvSpPr>
          <p:spPr>
            <a:xfrm>
              <a:off x="250920" y="2300400"/>
              <a:ext cx="237636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lases de flex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987640" y="157968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987640" y="157968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987640" y="33084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627280" y="25164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0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4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Text Box 2" descr=""/>
          <p:cNvPicPr/>
          <p:nvPr/>
        </p:nvPicPr>
        <p:blipFill>
          <a:blip r:embed="rId1"/>
          <a:stretch/>
        </p:blipFill>
        <p:spPr>
          <a:xfrm>
            <a:off x="-115920" y="-60480"/>
            <a:ext cx="9309240" cy="777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4"/>
          <p:cNvSpPr/>
          <p:nvPr/>
        </p:nvSpPr>
        <p:spPr>
          <a:xfrm>
            <a:off x="5072040" y="1214280"/>
            <a:ext cx="2214720" cy="78552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IN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2643120" y="1785960"/>
            <a:ext cx="17859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2928960" y="1285920"/>
            <a:ext cx="177480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 flipV="1">
            <a:off x="2928960" y="1857240"/>
            <a:ext cx="1857240" cy="571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V="1">
            <a:off x="2571840" y="3071880"/>
            <a:ext cx="20001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072040" y="2643120"/>
            <a:ext cx="2286000" cy="105984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JUG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57:20Z</dcterms:created>
  <dc:creator>Alumno</dc:creator>
  <dc:description/>
  <dc:language>en-US</dc:language>
  <cp:lastModifiedBy>AUDIOLEASK</cp:lastModifiedBy>
  <dcterms:modified xsi:type="dcterms:W3CDTF">2012-12-14T21:48:23Z</dcterms:modified>
  <cp:revision>14</cp:revision>
  <dc:subject/>
  <dc:title>Diapositiva 1</dc:title>
</cp:coreProperties>
</file>