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0BA3-DDCC-4D20-83DA-60A0F9A3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F741-946D-431B-9E28-582E0F8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5263-AE39-44F0-B603-ECD0BCB8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7C31-C87A-4B6E-8CEF-833B5B11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6A1B-555E-42C8-A867-4A0AC381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4796-8A59-4BCA-B265-22C46C50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0E22-7FEC-478E-B0B0-78119EB1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D384-82C8-4D21-BA50-A97D9C7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339-E85B-496F-B3CB-898C3B80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B73-AC66-475C-862F-E2DC4CA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2F80-A941-4F37-AE4B-E2C7CDE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50CC-689B-4A86-91BB-5CDB15F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08BC-5DD7-4679-A3D8-A0F3907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274-14A4-4AF7-BDB0-2304E9F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4348-9C47-4B38-8DB8-A65A5D0C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970-21AB-49A2-B98C-1CB2F5B3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5FAC-3ACD-42B7-816E-39AC7FE9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A559-EC2B-47FF-9E79-F560823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4D67-7ACC-497C-AE60-EBCFD4F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B60E-3C11-4B8E-8C89-D22C1107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28D9-0171-4A23-B9D5-A12045D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05BE-A1C0-42E5-9C0F-EBE807A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945A-7B81-481C-9008-092B156F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E8AD-85D8-4F54-A65E-70660CAD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B6E-D1F0-4ACE-A85D-E07ACC4CCF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F73-FE7C-40F6-97A8-8BBA512694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515" name="AutoShape 3"/>
            <p:cNvSpPr/>
            <p:nvPr/>
          </p:nvSpPr>
          <p:spPr>
            <a:xfrm>
              <a:off x="0" y="0"/>
              <a:ext cx="913572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4"/>
            <p:cNvSpPr/>
            <p:nvPr/>
          </p:nvSpPr>
          <p:spPr>
            <a:xfrm>
              <a:off x="933840" y="1180440"/>
              <a:ext cx="2734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5"/>
            <p:cNvGrpSpPr/>
            <p:nvPr/>
          </p:nvGrpSpPr>
          <p:grpSpPr>
            <a:xfrm>
              <a:off x="1814400" y="0"/>
              <a:ext cx="7328880" cy="5499000"/>
              <a:chOff x="1814400" y="0"/>
              <a:chExt cx="7328880" cy="5499000"/>
            </a:xfrm>
          </p:grpSpPr>
          <p:sp>
            <p:nvSpPr>
              <p:cNvPr id="518" name="Freeform 6"/>
              <p:cNvSpPr/>
              <p:nvPr/>
            </p:nvSpPr>
            <p:spPr>
              <a:xfrm>
                <a:off x="1924200" y="36000"/>
                <a:ext cx="716004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1814400" y="0"/>
                <a:ext cx="73288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"/>
            <p:cNvGrpSpPr/>
            <p:nvPr/>
          </p:nvGrpSpPr>
          <p:grpSpPr>
            <a:xfrm>
              <a:off x="5400" y="1062360"/>
              <a:ext cx="2790000" cy="5794920"/>
              <a:chOff x="5400" y="1062360"/>
              <a:chExt cx="2790000" cy="5794920"/>
            </a:xfrm>
          </p:grpSpPr>
          <p:sp>
            <p:nvSpPr>
              <p:cNvPr id="521" name="Freeform 9"/>
              <p:cNvSpPr/>
              <p:nvPr/>
            </p:nvSpPr>
            <p:spPr>
              <a:xfrm>
                <a:off x="5400" y="1062360"/>
                <a:ext cx="159192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572400" y="2513520"/>
                <a:ext cx="129456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813240" y="2402280"/>
                <a:ext cx="198216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1313280" y="4077000"/>
                <a:ext cx="1383120" cy="248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542880" y="4061160"/>
                <a:ext cx="84312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Freeform 14"/>
            <p:cNvSpPr/>
            <p:nvPr/>
          </p:nvSpPr>
          <p:spPr>
            <a:xfrm>
              <a:off x="3232440" y="1212480"/>
              <a:ext cx="49248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5"/>
          <p:cNvSpPr/>
          <p:nvPr/>
        </p:nvSpPr>
        <p:spPr>
          <a:xfrm>
            <a:off x="3000240" y="2428920"/>
            <a:ext cx="50720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EL LATÍ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Arial"/>
              </a:rPr>
              <a:t>LENGUA 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3780000" y="907920"/>
            <a:ext cx="4392360" cy="106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NOMINA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lexionan los sustant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nomb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42920" y="260280"/>
            <a:ext cx="4357800" cy="398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L LATÍ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ngua flex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5076720" y="260280"/>
            <a:ext cx="406728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n latín se flexionan nombres y 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250920" y="1579680"/>
            <a:ext cx="3384360" cy="1728720"/>
            <a:chOff x="250920" y="1579680"/>
            <a:chExt cx="3384360" cy="1728720"/>
          </a:xfrm>
        </p:grpSpPr>
        <p:sp>
          <p:nvSpPr>
            <p:cNvPr id="534" name="Text Box 8"/>
            <p:cNvSpPr/>
            <p:nvPr/>
          </p:nvSpPr>
          <p:spPr>
            <a:xfrm>
              <a:off x="250920" y="2300400"/>
              <a:ext cx="237636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lases de flex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987640" y="157968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987640" y="157968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987640" y="33084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627280" y="25164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0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780000" y="2997360"/>
            <a:ext cx="4392360" cy="6343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FLEXIÓN VERBAL</a:t>
            </a: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flexionan los verb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3214800" y="3929040"/>
            <a:ext cx="4968720" cy="2451960"/>
            <a:chOff x="3214800" y="3929040"/>
            <a:chExt cx="4968720" cy="2451960"/>
          </a:xfrm>
        </p:grpSpPr>
        <p:sp>
          <p:nvSpPr>
            <p:cNvPr id="544" name="Text Box 14"/>
            <p:cNvSpPr/>
            <p:nvPr/>
          </p:nvSpPr>
          <p:spPr>
            <a:xfrm>
              <a:off x="3214800" y="3929040"/>
              <a:ext cx="489708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alabras no flexi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5"/>
            <p:cNvSpPr/>
            <p:nvPr/>
          </p:nvSpPr>
          <p:spPr>
            <a:xfrm>
              <a:off x="3214800" y="4357800"/>
              <a:ext cx="4968720" cy="20232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NO SE FLEXION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INTERJEC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OS ADVERB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CONJUN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1250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cc"/>
                  </a:solidFill>
                  <a:latin typeface="Arial"/>
                </a:rPr>
                <a:t>LAS PREPOSI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Text Box 2" descr=""/>
          <p:cNvPicPr/>
          <p:nvPr/>
        </p:nvPicPr>
        <p:blipFill>
          <a:blip r:embed="rId1"/>
          <a:stretch/>
        </p:blipFill>
        <p:spPr>
          <a:xfrm>
            <a:off x="-115920" y="-60480"/>
            <a:ext cx="9309240" cy="777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4"/>
          <p:cNvSpPr/>
          <p:nvPr/>
        </p:nvSpPr>
        <p:spPr>
          <a:xfrm>
            <a:off x="5072040" y="1214280"/>
            <a:ext cx="2214720" cy="78552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IN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2643120" y="1785960"/>
            <a:ext cx="17859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2928960" y="1285920"/>
            <a:ext cx="177480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5"/>
          <p:cNvSpPr/>
          <p:nvPr/>
        </p:nvSpPr>
        <p:spPr>
          <a:xfrm flipV="1">
            <a:off x="2928960" y="1857240"/>
            <a:ext cx="1857240" cy="571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V="1">
            <a:off x="2571840" y="3071880"/>
            <a:ext cx="200016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072040" y="2643120"/>
            <a:ext cx="2286000" cy="105984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JUGACIÓ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57:20Z</dcterms:created>
  <dc:creator>Alumno</dc:creator>
  <dc:description/>
  <dc:language>en-US</dc:language>
  <cp:lastModifiedBy>AUDIOLEASK</cp:lastModifiedBy>
  <dcterms:modified xsi:type="dcterms:W3CDTF">2012-12-14T21:48:23Z</dcterms:modified>
  <cp:revision>14</cp:revision>
  <dc:subject/>
  <dc:title>Diapositiva 1</dc:title>
</cp:coreProperties>
</file>