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933-7F08-4025-A8E8-0C23BE4D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B25-0AF2-44C6-8246-B0CF4DE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36C-9D44-49F9-A64A-4227ACA5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CD5-2A04-4598-BE3E-544DBC11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FD73-B9E6-4767-BC9E-3AC78451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2171-2C66-4DCF-8595-D239A960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2443-92F4-420F-98FC-427AAE2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A131-5FAC-4DC4-BFAE-6047A417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C0E8-1A4C-4C5D-B208-F89AC89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2882-2FF4-48BB-B851-E2A8C32A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B50C-F097-497A-86CF-1A02F0A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95C-C871-4895-AF23-F444D69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C651-AA11-4447-BF57-522B836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44D7-9CC8-42B5-8D52-4314D04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6A3-257F-4F6A-A532-21DF156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A88-187F-4EA7-B705-14F30C7E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B201-13B2-4950-AC33-C44B41F6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F76-C218-4A06-8343-818AED8E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CCA-B1C5-47B4-BF9E-5501DFA5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670-B781-4200-A858-9FAEC5DB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0C1-96F8-45F6-8417-B8B0D364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929-C0AD-431D-A313-54F412D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027-A918-4617-9980-31A1DB1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FFE-1D2D-4889-8ADF-5E04A1A4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B6C2-7E6B-4B16-8475-D3358D112C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2A4-9D12-492A-8093-6380011511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de latí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abajo realizado por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tela Leonor Puerta Muñiz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e tipo de decoración solía revestir el suelo de las casas privadas y edificios públicos. Su durabilidad ha permitido que muchos mosaicos hayan llegado hasta hoy en muy buen esta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035080" cy="29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816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rte romano fue heredero del griego, pero los romanos  supieron desarrollar un estilo propio que ha perdurado a través de los sigl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382428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originalidad de la arquitectura romana radica en la reinterpretación de los modelos griegos y en la introducción de importantes innovaciones técnicas que permitieron la creación de nuevas estructuras y el uso de nuevos mater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52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romanos introdujeron un nuevo sistema de construcción : la arquitectura above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ía soportar cargas mayores que los sistemas de columnas y vi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rco de medio punto o semicir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de cañ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bóveda circular o cúp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ro de los hallazgos fue la introducción de nuevos materiales de constru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 arte romano : nuevas estructuras y materia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92580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610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s principales edific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edificio público romano por excelencia es el templo, cuya función era albergar las estatuas de los dioses a los que estaban consag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2562120" cy="276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32000" y="420372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os romanos, al igual que los griegos , destacaron en esta disciplina artística, aunque su modo de concebirla fue distinto. Frente a la idealización de las figuras griegas, los romanos buscaron una representación má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realist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relieve. Mediante esta técnica se decoraban sarcófagos y monumentos (arcos, columnas conmemorativos, altares, et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4267080"/>
            <a:ext cx="3313440" cy="220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rte romano: escul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1677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 y el mosaic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pintura y el mosaico son las dos disciplinas artísticas más característicamente romanas, ya que , aunque conocidas en Grecia, alcanzaron en Roma un gran desarrol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392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intur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decoración pictórica era la solución ideal para revestir los muros realizados con materiales pobres, como el hormigón o el ladrillo. La técnica era muy sencilla : se revestía la pared con una capa de estuco y sobre ella se aplicaban los col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37228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9:31:19Z</dcterms:created>
  <dc:creator>MARIA BELEN</dc:creator>
  <dc:description/>
  <dc:language>en-US</dc:language>
  <cp:lastModifiedBy>MARIA BELEN</cp:lastModifiedBy>
  <dcterms:modified xsi:type="dcterms:W3CDTF">2013-03-20T21:11:38Z</dcterms:modified>
  <cp:revision>2</cp:revision>
  <dc:subject/>
  <dc:title>Trabajo de latín</dc:title>
</cp:coreProperties>
</file>