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E674-5BDB-4656-B714-C69123890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8824-46EA-4E3C-BEAA-79057C365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BBAC-5B5A-49F9-B287-A6DE1DFE1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1B55-8FA1-45FA-9940-57096CB08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ABB40-10BC-4590-A1FC-7527DEA23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2D777-D115-4107-AB8E-01B1CDFA2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35EB6-70CE-404D-9B74-A04A9CF47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2007A-FBE8-42F9-8B02-4497C500F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04978-C21D-46EA-B1E8-F2EB0E0DB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23AEA-215D-4078-B724-96739D614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AA2BB-1B7B-4549-903F-B36768EE4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D815-6A02-4EAD-9049-30D12F99C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7790E-49FD-4AAB-9E49-4A66A353B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1AE0E-6D9D-4E6F-985A-60CE36FA2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E1F10-9231-4120-9618-B072AC367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488A7-586E-4240-9630-DBD76AD50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BDDBD-F367-4788-9B04-613DF1696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2674-6A99-4E1A-B075-DFAF5A428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F0C7-E923-4131-BE26-C629F3485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147D-ADD6-42C8-A528-483D5B3AB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CE92-752E-454D-87C4-EA3EF2602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D67C-9099-40E9-9476-1A2222AD1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199B-5EEE-4DC3-9679-C6EB032A0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3C79-7DF9-4D02-997E-32802A124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5324E-772F-460F-891F-1125A9A1A36D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161A5-08EF-452B-88EA-A8D925223855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Trabajo de latín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Trabajo realizado por :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Estela Leonor Puerta Muñiz.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l mosaico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26920" y="234936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Este tipo de decoración solía revestir el suelo de las casas privadas y edificios públicos. Su durabilidad ha permitido que muchos mosaicos hayan llegado hasta hoy en muy buen estado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6300720" y="3573360"/>
            <a:ext cx="2035080" cy="29163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900000" y="4005360"/>
            <a:ext cx="3816360" cy="25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l arte romano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l arte romano fue heredero del griego, pero los romanos  supieron desarrollar un estilo propio que ha perdurado a través de los siglo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851280" y="3824280"/>
            <a:ext cx="338472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l arte romano: arquitectur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a originalidad de la arquitectura romana radica en la reinterpretación de los modelos griegos y en la introducción de importantes innovaciones técnicas que permitieron la creación de nuevas estructuras y el uso de nuevos materiale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332000" y="4365720"/>
            <a:ext cx="3095640" cy="23209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364000" y="4076640"/>
            <a:ext cx="35244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El arte romano: nuevas estructuras y materiales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os romanos introdujeron un nuevo sistema de construcción : la arquitectura abovedada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ermitía soportar cargas mayores que los sistemas de columnas y viga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l arco de medio punto o semicircular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a bóveda de cañón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a bóveda circular o cúpula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tro de los hallazgos fue la introducción de nuevos materiales de construcción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El arte romano : nuevas estructuras y materiales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755640" y="2708280"/>
            <a:ext cx="3925800" cy="26193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5003640" y="2492280"/>
            <a:ext cx="3961080" cy="28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os principales edificios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l edificio público romano por excelencia es el templo, cuya función era albergar las estatuas de los dioses a los que estaban consagrado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580000" y="3789360"/>
            <a:ext cx="2562120" cy="27608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332000" y="4203720"/>
            <a:ext cx="3529080" cy="26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Los romanos, al igual que los griegos , destacaron en esta disciplina artística, aunque su modo de concebirla fue distinto. Frente a la idealización de las figuras griegas, los romanos buscaron una representación más </a:t>
            </a:r>
            <a:r>
              <a:rPr b="0" lang="es-ES" sz="1800" spc="-1" strike="noStrike" u="sng">
                <a:solidFill>
                  <a:srgbClr val="003366"/>
                </a:solidFill>
                <a:uFillTx/>
                <a:latin typeface="Arial"/>
              </a:rPr>
              <a:t>realista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El relieve. Mediante esta técnica se decoraban sarcófagos y monumentos (arcos, columnas conmemorativos, altares, etc)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187280" y="4267080"/>
            <a:ext cx="3313440" cy="2205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l arte romano: escultura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940360" y="4221000"/>
            <a:ext cx="1677960" cy="24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a pintura y el mosaico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a pintura y el mosaico son las dos disciplinas artísticas más característicamente romanas, ya que , aunque conocidas en Grecia, alcanzaron en Roma un gran desarrollo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826920" y="3500280"/>
            <a:ext cx="2808360" cy="28083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3995640" y="3716280"/>
            <a:ext cx="4392720" cy="21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a pintura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a decoración pictórica era la solución ideal para revestir los muros realizados con materiales pobres, como el hormigón o el ladrillo. La técnica era muy sencilla : se revestía la pared con una capa de estuco y sobre ella se aplicaban los colore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050920" y="3860640"/>
            <a:ext cx="5372280" cy="24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0T19:31:19Z</dcterms:created>
  <dc:creator>MARIA BELEN</dc:creator>
  <dc:description/>
  <dc:language>en-US</dc:language>
  <cp:lastModifiedBy>MARIA BELEN</cp:lastModifiedBy>
  <dcterms:modified xsi:type="dcterms:W3CDTF">2013-03-20T21:11:38Z</dcterms:modified>
  <cp:revision>2</cp:revision>
  <dc:subject/>
  <dc:title>Trabajo de latín</dc:title>
</cp:coreProperties>
</file>