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0E7-B737-41B4-BFB4-2FBD4BA5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D63-8CA4-44CA-95FC-75298957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B50-7741-4792-A73C-DDA93AB1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2D8-CDA4-448B-85C4-9B559966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DC7F-ACE9-4745-B74C-C70B571C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8AA2-D7EF-4C90-BF1E-F8C87211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5D75-1AA2-47C3-80AE-592C3F6E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9CF7-5A92-498D-A203-633DA007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3716-38DF-4854-BED6-585141D4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7DEA-3E74-4F04-88A9-A0FB8990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0329-1476-4607-A3D1-51590E90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DB6-CF1E-4C70-B083-298F605A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AA4D-A2FC-42CA-B77D-0CF88984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22E0-38A8-49A7-BECF-CC3DF1B5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08B7-726F-4351-92AB-F6F12000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4B0B-6CA1-44B7-8E66-0BC0EE49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DE0D-A03C-41D5-9A29-F403B77F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7B5-FEF1-4B87-8337-E68838DA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803-41B8-4606-9114-35EE25A8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D61-07F7-4994-9C75-837A6AEC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604-5290-403D-AA31-70300384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C9D-7617-4A75-B507-A2E76BDB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300-F0C3-44ED-A2D7-0713CCBA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28A9-EB30-4A86-A646-6F919C2B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FF4E-1543-42C8-A598-F7971D76F36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700E-CA9A-4473-ACB6-25DC800D3D7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abajo de latí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abajo realizado por 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tela Leonor Puerta Muñiz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mosaic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e tipo de decoración solía revestir el suelo de las casas privadas y edificios públicos. Su durabilidad ha permitido que muchos mosaicos hayan llegado hasta hoy en muy buen estad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00720" y="3573360"/>
            <a:ext cx="2035080" cy="29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8163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arte romano fue heredero del griego, pero los romanos  supieron desarrollar un estilo propio que ha perdurado a través de los sigl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1280" y="3824280"/>
            <a:ext cx="3384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: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originalidad de la arquitectura romana radica en la reinterpretación de los modelos griegos y en la introducción de importantes innovaciones técnicas que permitieron la creación de nuevas estructuras y el uso de nuevos materi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436572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3524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 arte romano: nuevas estructuras y materia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s romanos introdujeron un nuevo sistema de construcción : la arquitectura aboved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itía soportar cargas mayores que los sistemas de columnas y vig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arco de medio punto o semicircul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bóveda de cañ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bóveda circular o cúpu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ro de los hallazgos fue la introducción de nuevos materiales de construc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 arte romano : nuevas estructuras y materia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392580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9610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s principales edificio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edificio público romano por excelencia es el templo, cuya función era albergar las estatuas de los dioses a los que estaban consagrad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80000" y="3789360"/>
            <a:ext cx="2562120" cy="276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332000" y="4203720"/>
            <a:ext cx="35290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os romanos, al igual que los griegos , destacaron en esta disciplina artística, aunque su modo de concebirla fue distinto. Frente a la idealización de las figuras griegas, los romanos buscaron una representación más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</a:rPr>
              <a:t>realista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l relieve. Mediante esta técnica se decoraban sarcófagos y monumentos (arcos, columnas conmemorativos, altares, et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7280" y="4267080"/>
            <a:ext cx="3313440" cy="220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: escultur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940360" y="4221000"/>
            <a:ext cx="16779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intura y el mosaic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pintura y el mosaico son las dos disciplinas artísticas más característicamente romanas, ya que , aunque conocidas en Grecia, alcanzaron en Roma un gran desarroll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95640" y="3716280"/>
            <a:ext cx="4392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intur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decoración pictórica era la solución ideal para revestir los muros realizados con materiales pobres, como el hormigón o el ladrillo. La técnica era muy sencilla : se revestía la pared con una capa de estuco y sobre ella se aplicaban los color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5372280" cy="24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9:31:19Z</dcterms:created>
  <dc:creator>MARIA BELEN</dc:creator>
  <dc:description/>
  <dc:language>en-US</dc:language>
  <cp:lastModifiedBy>MARIA BELEN</cp:lastModifiedBy>
  <dcterms:modified xsi:type="dcterms:W3CDTF">2013-03-20T21:11:38Z</dcterms:modified>
  <cp:revision>2</cp:revision>
  <dc:subject/>
  <dc:title>Trabajo de latín</dc:title>
</cp:coreProperties>
</file>