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AE0-7CE1-40D4-8E39-C98EB6D8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601-8D06-4D34-8DFD-C24CC191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A77-5662-43E1-800A-0EAC7A0B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F4E-ACFC-46FD-ACA3-B4A8F8D4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0D00-557A-44FC-9BA1-43F627D6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D762-F47B-402F-ACD5-272E214C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E2FF-0A62-4E2E-937C-50E28DC7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1437-6747-47DD-B6EB-5CB72078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18F0-6321-47EB-9C9A-94C4BF81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B0A7-F653-4CDF-A2B8-3E098BD1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E693-DF68-4849-AE3A-BBCD7494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3F6-2B79-46C6-8F62-B880C0B9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2CB3-168F-48B1-BB10-4CB36FE8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A626-E953-49A4-96A1-B411A59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226E-DA3B-40E5-8EEF-14E3DA22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7C66-062F-4DF6-9DCA-46FB171C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9467-D9DD-49B1-8DF3-B67175E5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2FEC-7836-4B96-91D4-3E3DFD2F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2FFAA-2991-4E66-9599-AC26FC2A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6AECF-4D89-4EBB-96C4-0B8685B7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4DBD1-3461-430E-91FB-F09A675B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9884-452F-4760-9718-8A1086D1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80F-BC9A-4ADA-87E3-06C6FD33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1924D-FCA0-46B9-9974-ABB675A6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E9AC-8279-4554-AC72-786AFE39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07905-C9A5-4713-B8A1-B4860B19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941B-84CF-460A-ABE6-9EC9646C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D644-CE6A-4859-9356-65FDAE36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0E7B-2BB1-45B2-8E5A-CD6A589B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05F10-B05C-413F-96FF-ACF08474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410FA-FC3C-4D67-BD94-56C35AA4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0B527-6239-44E2-A655-CDB3B6E7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87FC-4D0E-431F-BADA-97FA04A6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91F-DB2A-465E-9219-7CBB3A19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C5365-C77A-41E0-BBBE-A0848E37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E302-8849-4E25-9BEB-E17F049F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DB812-E6C4-48B3-B07F-4612A0F3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7CC78-DD29-49F6-ADAD-BCC6BC4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9CE5-A8E7-47CE-86F3-CF90F91B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39B50-A516-46A9-A281-26FF6139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51095-F131-4C36-B8C7-9C4195A5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FA052-A20C-48A4-913F-462D8852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A36C-2D36-4D1D-A0E4-3F09C2E1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6F978-7D7E-4007-9475-FDF3DE35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A57-014D-4E0D-8C23-CAB1126B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DD77-9433-4A33-BA6B-4ECF8896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B1FB4-D516-449C-8A7E-17002E47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607D4-A311-4783-A316-7A3D8E84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4950-A804-4638-B87B-F4FD456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6103-276E-491A-BAB3-D803C0FF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6094B-AA18-4836-81C7-0960E512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97938-BD8E-42E1-AC58-49FB4E70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545F0-FBE2-48A3-A627-5F3ED1BF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C332F-D2AA-47F3-A616-F7A37E4C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FE56E-C190-4D5E-A6F3-CF9A0277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340-C135-4271-BDA7-7CC21DBD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3E994-8341-465C-8AE9-E27C3359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DF574-D955-414F-AD51-DC1DE3DB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B9BB-DF74-4EDF-8E73-A8D2383E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2B0AC-D8E5-4350-8A02-6A115DC7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57106-2000-4784-A9C1-482DFD62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5A1E7-7B3E-4365-AF4D-4BA1D07E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5CCFB-8993-43A4-B202-98BDCE77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F7479-89A7-475D-9DA1-11CF18B4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46394-8324-4C86-994C-F8FC5B51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903F6-8EFE-4FDD-B520-3911152F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20C-2DFB-4166-9DD5-D2E9F1BE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1808-1783-4F15-9F08-2F70F966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01B65-BE57-433D-B450-D9FD9AD0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9C0A5-50C0-437E-8652-0A71E821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63E34-EA35-4470-9AC0-ADB8E950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FEAC2-0DF6-44F0-AEA8-202DD5D6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245B2-22C6-4853-9EC2-BA4CA92E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40FD9-C782-4556-A4FE-4F6284EB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5965C-2B9F-4EB2-9047-9038EB77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52A45-CC31-4517-AB57-9109D705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3F595-3B77-400D-A957-A5F78C4C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FD8-F291-490B-9FD6-6F4DD69F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D6A3F-B914-4EB4-B3BE-DBE9E93C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FDF6A-943F-49E4-A822-EAE508F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8E92D-49B3-4473-A6DE-D66AB103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377BE-C0D4-4458-891E-87DC7DFE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E7069-F578-44C7-A5E5-7327CACE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4B1-4F06-46D1-9F3E-2CD31F5A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72C6-72AD-4481-AA9B-6F23F89BA8A5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C668-8EB1-4A9D-BB6B-98DF464D00DE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24DD-4F2D-46B2-8EB8-C5D7718CBEAB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CF70-BE2E-4884-81AB-1571DC9D5891}" type="slidenum">
              <a:rPr b="0" lang="es-E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0E87-747A-4321-8033-AA6ED7A8C85D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4A8C-4A25-4447-8A67-0A89D7FE754E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77B2-F70E-4CB5-8CEA-696FB59F9814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13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402920" y="1483920"/>
            <a:ext cx="4884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LL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l-l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CE, CI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KE, K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QU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k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GE, GI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gue, gui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CH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TH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PH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851280" y="1557000"/>
            <a:ext cx="3618000" cy="44974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0"/>
          <p:cNvSpPr/>
          <p:nvPr/>
        </p:nvSpPr>
        <p:spPr>
          <a:xfrm>
            <a:off x="4427640" y="1628640"/>
            <a:ext cx="266544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10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47640" y="1628280"/>
            <a:ext cx="3672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rebuchet MS"/>
              </a:rPr>
              <a:t>PRONUNCIA ESTAS PALABRAS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Bellum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Duce-facio 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Navi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Quam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Gero,fugio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Choru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Thesauro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Philosophi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rebuchet MS"/>
              </a:rPr>
              <a:t>Y HAZ CLIC SOBRE EL ICONO</a:t>
            </a:r>
            <a:r>
              <a:rPr b="0" lang="es-ES" sz="2000" spc="-1" strike="noStrike">
                <a:solidFill>
                  <a:srgbClr val="80808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24360" y="2421000"/>
            <a:ext cx="36180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4859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745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263520" y="1598760"/>
            <a:ext cx="738648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b83d68"/>
                </a:solidFill>
                <a:latin typeface="Trebuchet MS"/>
              </a:rPr>
              <a:t>Para separar sílabas tendremos en cuenta qu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Los diptongos (ae, oe, au) van  en la misma sílaba: ej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i="1" lang="es-ES" sz="1400" spc="-1" strike="noStrike">
                <a:solidFill>
                  <a:srgbClr val="000000"/>
                </a:solidFill>
                <a:latin typeface="Trebuchet MS"/>
              </a:rPr>
              <a:t>ae-ter-num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La </a:t>
            </a:r>
            <a:r>
              <a:rPr b="0" i="1" lang="es-ES" sz="1400" spc="-1" strike="noStrike">
                <a:solidFill>
                  <a:srgbClr val="b13f9a"/>
                </a:solidFill>
                <a:latin typeface="Trebuchet MS"/>
              </a:rPr>
              <a:t>i consonántica </a:t>
            </a: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forma sílaba con la vocal siguiente: ej. </a:t>
            </a:r>
            <a:r>
              <a:rPr b="0" i="1" lang="es-ES" sz="1400" spc="-1" strike="noStrike">
                <a:solidFill>
                  <a:srgbClr val="000000"/>
                </a:solidFill>
                <a:latin typeface="Trebuchet MS"/>
              </a:rPr>
              <a:t>iu-ris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Los demás grupos vocálicos van en distintas sílabas: ej. </a:t>
            </a:r>
            <a:r>
              <a:rPr b="0" i="1" lang="es-ES" sz="1400" spc="-1" strike="noStrike">
                <a:solidFill>
                  <a:srgbClr val="000000"/>
                </a:solidFill>
                <a:latin typeface="Trebuchet MS"/>
              </a:rPr>
              <a:t>ius-ti-ti-a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108880" y="4456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de66"/>
                </a:solidFill>
                <a:latin typeface="Arial"/>
              </a:rPr>
              <a:t>RECUER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95280" y="5013360"/>
            <a:ext cx="64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 consonán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á 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icial seguida de otra vocal. Ej. </a:t>
            </a:r>
            <a:r>
              <a:rPr b="0" lang="es-ES" sz="1800" spc="-1" strike="noStrike">
                <a:solidFill>
                  <a:srgbClr val="ffde66"/>
                </a:solidFill>
                <a:latin typeface="Arial"/>
              </a:rPr>
              <a:t>i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 vocales en interior. Ej. </a:t>
            </a:r>
            <a:r>
              <a:rPr b="0" lang="es-ES" sz="1800" spc="-1" strike="noStrike">
                <a:solidFill>
                  <a:srgbClr val="ffde66"/>
                </a:solidFill>
                <a:latin typeface="Arial"/>
              </a:rPr>
              <a:t>Troi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j0229389"/>
          <p:cNvPicPr/>
          <p:nvPr/>
        </p:nvPicPr>
        <p:blipFill>
          <a:blip r:embed="rId2"/>
          <a:stretch/>
        </p:blipFill>
        <p:spPr>
          <a:xfrm>
            <a:off x="1042920" y="5445000"/>
            <a:ext cx="249480" cy="262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j0229389"/>
          <p:cNvPicPr/>
          <p:nvPr/>
        </p:nvPicPr>
        <p:blipFill>
          <a:blip r:embed="rId3"/>
          <a:stretch/>
        </p:blipFill>
        <p:spPr>
          <a:xfrm>
            <a:off x="1042920" y="5877000"/>
            <a:ext cx="250920" cy="26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937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No se ponen tildes en latí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No hay aguda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Son llanas todas las bisílab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Las polisílabas so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Llanas, si la penúltima es larga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Esdrújulas , si la penúltima es breve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	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937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b13f9a"/>
                </a:solidFill>
                <a:latin typeface="Trebuchet MS"/>
              </a:rPr>
              <a:t>SÍLABA LARG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contiene una vocal larga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Rom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āno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contiene u diptongo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Thes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āurus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termina en consonante y le sigue otra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am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ānte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b13f9a"/>
                </a:solidFill>
                <a:latin typeface="Trebuchet MS"/>
              </a:rPr>
              <a:t>SÍLABA BREV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contiene una vocal breve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cal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ĭdus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termina en vocal y le sigue otra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Fil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ĭ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8:59:41Z</dcterms:created>
  <dc:creator>App</dc:creator>
  <dc:description/>
  <dc:language>en-US</dc:language>
  <cp:lastModifiedBy>AUDIOLEASK</cp:lastModifiedBy>
  <dcterms:modified xsi:type="dcterms:W3CDTF">2012-12-08T21:26:35Z</dcterms:modified>
  <cp:revision>3</cp:revision>
  <dc:subject/>
  <dc:title>Diapositiva 1</dc:title>
</cp:coreProperties>
</file>