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86E0-7C67-4AAD-AF3F-92E28CBF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A6D5-5F14-44FC-9850-69922479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74B2-8B0D-420E-B41F-39D356C4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7031-6AAF-4501-BE74-65529A3C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47DC-2AAC-4770-86E3-9A92A6A1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8674-0C1E-47C3-BE0C-F2BFD101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1CF9-BC59-489F-B7C9-59878816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E5D3-1801-49E1-B568-6829A742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C90B-291E-4984-9A1D-F82BF6F9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6EBD-0281-4944-B301-EC987AAB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36A5-FF3B-4EA2-8E7A-30F5FE47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3B20-C7E1-49D9-9C6F-68495554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2A48-27ED-4504-A8FD-361A622E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E0AE-4FB3-4099-9ACF-D8400AE4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508D-0315-49E7-96BF-0CE45BF8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00A9-F4D2-4DB7-AAF5-8C6C9377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0A9B-803A-4786-8566-5AC946BA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254C7-A066-4D09-950E-C224B3A2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A3B31-BC15-4682-814C-833AA2C5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5DB7F-F380-4B7B-959F-0DEFDF12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C8803-A30F-4CD4-B55D-D363F4E2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64A55-E8F3-446D-810C-690C01E2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0749-C6CA-4FC9-BD09-EA54588D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6F508-8583-4CE0-A761-3E30E75A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8E817-16FF-4421-84BE-C7B4B4A4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0782C-D9AE-45C1-8472-127B27A2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D8A37-4D8C-4278-9DDF-159EA1C2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E9B69-8CB2-4C61-BDF5-9D760083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E92A2-7303-424C-B38C-AC61DF48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646B1-F5D0-4ABE-A6E8-34F9F1B1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F1EDB-F186-4DFC-BB17-0E6351DD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255E2-6E7E-4438-9EED-792FF9E5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8F5E5-D6A8-476D-B107-2C7ADF42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02C9-C500-40F8-B993-54CF2BFC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E47D9-946E-4E15-962F-2EB10BBB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E9262-D27A-4812-B892-09743936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47C75-6E73-4AEF-971B-A0E7F232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6F6CC-0F93-4EED-BCFD-CA4645C7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1CE53-013C-458F-A7AA-049B7A1D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1B57B-A1B6-4B71-AF01-E3A00CCF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30DC8-354D-4435-AD22-88FBFEEE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768A8-B5BD-4493-B31A-07A4B7BF2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04788-BC06-4A66-9C45-78DEDB31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3B95F-A638-435E-879B-E6E31AEE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5409-8D15-45DF-98C3-66942270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9804E-3672-4314-9258-8CED9888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5B54A-3963-4C83-8E53-338ECFA5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D4D64-D3C2-4974-97B3-1803AF74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DE110-8866-4E63-A8BB-D037D451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4D1CC-CE99-4C2D-B5C7-5BA3CACF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C0D48-6E0E-4381-917F-68BF4631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762E8-BC3B-4DEB-8488-4D57BF92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3475D-F846-47B0-9D3E-E14B6B4F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AEA66-1B2A-4502-8937-3B5C2B1B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7E0D5-0630-4920-A153-A875A94D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53E0-6103-4AF9-9F22-0DDD69FC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1144F-8E8C-49D4-AA94-85DA8FB0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374A1-B0AA-4C86-88E8-EF5DF767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EF79C-F512-4F32-A7D7-D65C35C1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59653-3711-4455-9966-AA9454C7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C2123-9386-4FDD-9CD4-2AE3E215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BDA5A-F39B-45A5-A19E-C56F49A2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ED01F-8A02-41F3-9B04-B297A094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F9FA6-C305-4DFD-8B26-4DAA1D87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1EECA-FD92-49EC-8DDB-AF2AA271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CBE2E-948D-4FAB-9DBB-B4A6DFF7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C371-4C76-4F6B-928B-8BABDD43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022BF-00C9-43D9-81D8-B56C16A4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294BA-E122-4C8B-A142-555F0128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E2EE9-7FE8-4246-B2D1-521792D5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21676-7658-4646-BC46-CA8A8B82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C49BF-702C-4BF7-B0F3-241F10D1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18981-6331-4ED3-8433-61E614EF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2D8A0-BE7C-4095-8E4D-AC9E6782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1C925-E505-46B2-910E-3DCBAE14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D8E25-764D-4620-A1C0-2BADA8A3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902A3-3C8C-4160-9D20-F8430638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5F2A-BF05-4946-9E43-7B5DEF07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F0EC1-BF33-4832-A35D-399A1D62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FB014-8DDC-4DA8-B9F8-5F1EC4CE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6743B-5D2D-4567-844B-2DE632C2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61A4F-006D-4EAA-B3A6-14C5F998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86EC0-0F6A-4D37-A818-491A5071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4749-EBCE-45FF-877D-F2BD974A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33FD-6D49-49C2-804E-F1201A4BC17F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ctángulo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7 Rectángulo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9 Conector recto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60C3-1973-4F91-9524-2F793724EF36}" type="slidenum">
              <a:rPr b="0" lang="es-E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B655-D921-4009-AC67-BEF52E24788C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Rectángulo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CEE2-0482-4CD4-B3F8-06828BE8175C}" type="slidenum">
              <a:rPr b="0" lang="es-E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97D4-8BC3-4BCF-914B-3514197FBDF8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7C70-76D5-472D-9B46-A37894ADF53E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65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4A26-B296-4285-865E-5061BED37DB8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13" descr=""/>
          <p:cNvPicPr/>
          <p:nvPr/>
        </p:nvPicPr>
        <p:blipFill>
          <a:blip r:embed="rId1"/>
          <a:stretch/>
        </p:blipFill>
        <p:spPr>
          <a:xfrm>
            <a:off x="212760" y="21924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1402920" y="1483920"/>
            <a:ext cx="4884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LL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suena </a:t>
            </a: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l-l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CE, CI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suena </a:t>
            </a: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KE, K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V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suena </a:t>
            </a: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QU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suena </a:t>
            </a: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ku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GE, GI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suena </a:t>
            </a: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gue, gui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CH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suena </a:t>
            </a: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TH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suena </a:t>
            </a: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PH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suena </a:t>
            </a: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3851280" y="1557000"/>
            <a:ext cx="3618000" cy="449748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20"/>
          <p:cNvSpPr/>
          <p:nvPr/>
        </p:nvSpPr>
        <p:spPr>
          <a:xfrm>
            <a:off x="4427640" y="1628640"/>
            <a:ext cx="266544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10" descr=""/>
          <p:cNvPicPr/>
          <p:nvPr/>
        </p:nvPicPr>
        <p:blipFill>
          <a:blip r:embed="rId1"/>
          <a:stretch/>
        </p:blipFill>
        <p:spPr>
          <a:xfrm>
            <a:off x="212760" y="21924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47640" y="1628280"/>
            <a:ext cx="3672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Trebuchet MS"/>
              </a:rPr>
              <a:t>PRONUNCIA ESTAS PALABRAS: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6600"/>
                </a:solidFill>
                <a:latin typeface="Trebuchet MS"/>
              </a:rPr>
              <a:t>Bellum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6600"/>
                </a:solidFill>
                <a:latin typeface="Trebuchet MS"/>
              </a:rPr>
              <a:t>Duce-facio 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6600"/>
                </a:solidFill>
                <a:latin typeface="Trebuchet MS"/>
              </a:rPr>
              <a:t>Navis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6600"/>
                </a:solidFill>
                <a:latin typeface="Trebuchet MS"/>
              </a:rPr>
              <a:t>Quam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6600"/>
                </a:solidFill>
                <a:latin typeface="Trebuchet MS"/>
              </a:rPr>
              <a:t>Gero,fugio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6600"/>
                </a:solidFill>
                <a:latin typeface="Trebuchet MS"/>
              </a:rPr>
              <a:t>Chorus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6600"/>
                </a:solidFill>
                <a:latin typeface="Trebuchet MS"/>
              </a:rPr>
              <a:t>Thesauro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6600"/>
                </a:solidFill>
                <a:latin typeface="Trebuchet MS"/>
              </a:rPr>
              <a:t>Philosophia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Trebuchet MS"/>
              </a:rPr>
              <a:t>Y HAZ CLIC SOBRE EL ICONO</a:t>
            </a:r>
            <a:r>
              <a:rPr b="0" lang="es-ES" sz="2000" spc="-1" strike="noStrike">
                <a:solidFill>
                  <a:srgbClr val="80808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24360" y="2421000"/>
            <a:ext cx="36180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5" name="Picture 5" descr=""/>
          <p:cNvPicPr/>
          <p:nvPr/>
        </p:nvPicPr>
        <p:blipFill>
          <a:blip r:embed="rId2"/>
          <a:stretch/>
        </p:blipFill>
        <p:spPr>
          <a:xfrm>
            <a:off x="485928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4745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263520" y="1598760"/>
            <a:ext cx="738648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b83d68"/>
                </a:solidFill>
                <a:latin typeface="Trebuchet MS"/>
              </a:rPr>
              <a:t>Para separar sílabas tendremos en cuenta que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b13f9a"/>
                </a:solidFill>
                <a:latin typeface="Trebuchet MS"/>
              </a:rPr>
              <a:t>Los diptongos (ae, oe, au) van  en la misma sílaba: ej</a:t>
            </a: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i="1" lang="es-ES" sz="1400" spc="-1" strike="noStrike">
                <a:solidFill>
                  <a:srgbClr val="000000"/>
                </a:solidFill>
                <a:latin typeface="Trebuchet MS"/>
              </a:rPr>
              <a:t>ae-ter-num</a:t>
            </a:r>
            <a:endParaRPr b="0" lang="en-US" sz="1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b13f9a"/>
                </a:solidFill>
                <a:latin typeface="Trebuchet MS"/>
              </a:rPr>
              <a:t>La </a:t>
            </a:r>
            <a:r>
              <a:rPr b="0" i="1" lang="es-ES" sz="1400" spc="-1" strike="noStrike">
                <a:solidFill>
                  <a:srgbClr val="b13f9a"/>
                </a:solidFill>
                <a:latin typeface="Trebuchet MS"/>
              </a:rPr>
              <a:t>i consonántica </a:t>
            </a:r>
            <a:r>
              <a:rPr b="0" lang="es-ES" sz="1400" spc="-1" strike="noStrike">
                <a:solidFill>
                  <a:srgbClr val="b13f9a"/>
                </a:solidFill>
                <a:latin typeface="Trebuchet MS"/>
              </a:rPr>
              <a:t>forma sílaba con la vocal siguiente: ej. </a:t>
            </a:r>
            <a:r>
              <a:rPr b="0" i="1" lang="es-ES" sz="1400" spc="-1" strike="noStrike">
                <a:solidFill>
                  <a:srgbClr val="000000"/>
                </a:solidFill>
                <a:latin typeface="Trebuchet MS"/>
              </a:rPr>
              <a:t>iu-ris</a:t>
            </a:r>
            <a:endParaRPr b="0" lang="en-US" sz="1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b13f9a"/>
                </a:solidFill>
                <a:latin typeface="Trebuchet MS"/>
              </a:rPr>
              <a:t>Los demás grupos vocálicos van en distintas sílabas: ej. </a:t>
            </a:r>
            <a:r>
              <a:rPr b="0" i="1" lang="es-ES" sz="1400" spc="-1" strike="noStrike">
                <a:solidFill>
                  <a:srgbClr val="000000"/>
                </a:solidFill>
                <a:latin typeface="Trebuchet MS"/>
              </a:rPr>
              <a:t>ius-ti-ti-a</a:t>
            </a:r>
            <a:endParaRPr b="0" lang="en-US" sz="14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108880" y="44560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de66"/>
                </a:solidFill>
                <a:latin typeface="Arial"/>
              </a:rPr>
              <a:t>RECUER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395280" y="5013360"/>
            <a:ext cx="640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 consonánt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tá e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icial seguida de otra vocal. Ej. </a:t>
            </a:r>
            <a:r>
              <a:rPr b="0" lang="es-ES" sz="1800" spc="-1" strike="noStrike">
                <a:solidFill>
                  <a:srgbClr val="ffde66"/>
                </a:solidFill>
                <a:latin typeface="Arial"/>
              </a:rPr>
              <a:t>iu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re vocales en interior. Ej. </a:t>
            </a:r>
            <a:r>
              <a:rPr b="0" lang="es-ES" sz="1800" spc="-1" strike="noStrike">
                <a:solidFill>
                  <a:srgbClr val="ffde66"/>
                </a:solidFill>
                <a:latin typeface="Arial"/>
              </a:rPr>
              <a:t>Troi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7" descr="j0229389"/>
          <p:cNvPicPr/>
          <p:nvPr/>
        </p:nvPicPr>
        <p:blipFill>
          <a:blip r:embed="rId2"/>
          <a:stretch/>
        </p:blipFill>
        <p:spPr>
          <a:xfrm>
            <a:off x="1042920" y="5445000"/>
            <a:ext cx="249480" cy="2620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j0229389"/>
          <p:cNvPicPr/>
          <p:nvPr/>
        </p:nvPicPr>
        <p:blipFill>
          <a:blip r:embed="rId3"/>
          <a:stretch/>
        </p:blipFill>
        <p:spPr>
          <a:xfrm>
            <a:off x="1042920" y="5877000"/>
            <a:ext cx="250920" cy="264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937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b13f9a"/>
                </a:solidFill>
                <a:latin typeface="Trebuchet MS"/>
              </a:rPr>
              <a:t>No se ponen tildes en latí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b13f9a"/>
                </a:solidFill>
                <a:latin typeface="Trebuchet MS"/>
              </a:rPr>
              <a:t>No hay aguda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b13f9a"/>
                </a:solidFill>
                <a:latin typeface="Trebuchet MS"/>
              </a:rPr>
              <a:t>Son llanas todas las bisílaba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b13f9a"/>
                </a:solidFill>
                <a:latin typeface="Trebuchet MS"/>
              </a:rPr>
              <a:t>Las polisílabas son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b13f9a"/>
                </a:solidFill>
                <a:latin typeface="Trebuchet MS"/>
              </a:rPr>
              <a:t>Llanas, si la penúltima es larga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b13f9a"/>
                </a:solidFill>
                <a:latin typeface="Trebuchet MS"/>
              </a:rPr>
              <a:t>Esdrújulas , si la penúltima es breve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es-ES" sz="23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es-ES" sz="2300" spc="-1" strike="noStrike">
                <a:solidFill>
                  <a:srgbClr val="b13f9a"/>
                </a:solidFill>
                <a:latin typeface="Trebuchet MS"/>
              </a:rPr>
              <a:t>	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937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b13f9a"/>
                </a:solidFill>
                <a:latin typeface="Trebuchet MS"/>
              </a:rPr>
              <a:t>SÍLABA LARGA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bc191"/>
                </a:solidFill>
                <a:latin typeface="Trebuchet MS"/>
              </a:rPr>
              <a:t>Cuando contiene una vocal larga. </a:t>
            </a:r>
            <a:r>
              <a:rPr b="1" lang="es-ES" sz="1800" spc="-1" strike="noStrike">
                <a:solidFill>
                  <a:srgbClr val="6c6c6c"/>
                </a:solidFill>
                <a:latin typeface="Trebuchet MS"/>
              </a:rPr>
              <a:t>Ej. Rom</a:t>
            </a:r>
            <a:r>
              <a:rPr b="1" lang="en-US" sz="1800" spc="-1" strike="noStrike">
                <a:solidFill>
                  <a:srgbClr val="6c6c6c"/>
                </a:solidFill>
                <a:latin typeface="Trebuchet MS"/>
                <a:ea typeface="Arial"/>
              </a:rPr>
              <a:t>āno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bc191"/>
                </a:solidFill>
                <a:latin typeface="Trebuchet MS"/>
              </a:rPr>
              <a:t>Cuando contiene u diptongo. </a:t>
            </a:r>
            <a:r>
              <a:rPr b="1" lang="es-ES" sz="1800" spc="-1" strike="noStrike">
                <a:solidFill>
                  <a:srgbClr val="6c6c6c"/>
                </a:solidFill>
                <a:latin typeface="Trebuchet MS"/>
              </a:rPr>
              <a:t>Ej. Thes</a:t>
            </a:r>
            <a:r>
              <a:rPr b="1" lang="en-US" sz="1800" spc="-1" strike="noStrike">
                <a:solidFill>
                  <a:srgbClr val="6c6c6c"/>
                </a:solidFill>
                <a:latin typeface="Trebuchet MS"/>
                <a:ea typeface="Arial"/>
              </a:rPr>
              <a:t>āurus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bc191"/>
                </a:solidFill>
                <a:latin typeface="Trebuchet MS"/>
              </a:rPr>
              <a:t>Cuando termina en consonante y le sigue otra. </a:t>
            </a:r>
            <a:r>
              <a:rPr b="1" lang="es-ES" sz="1800" spc="-1" strike="noStrike">
                <a:solidFill>
                  <a:srgbClr val="6c6c6c"/>
                </a:solidFill>
                <a:latin typeface="Trebuchet MS"/>
              </a:rPr>
              <a:t>Ej. am</a:t>
            </a:r>
            <a:r>
              <a:rPr b="1" lang="en-US" sz="1800" spc="-1" strike="noStrike">
                <a:solidFill>
                  <a:srgbClr val="6c6c6c"/>
                </a:solidFill>
                <a:latin typeface="Trebuchet MS"/>
                <a:ea typeface="Arial"/>
              </a:rPr>
              <a:t>ānte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b13f9a"/>
                </a:solidFill>
                <a:latin typeface="Trebuchet MS"/>
              </a:rPr>
              <a:t>SÍLABA BREV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bc191"/>
                </a:solidFill>
                <a:latin typeface="Trebuchet MS"/>
              </a:rPr>
              <a:t>Cuando contiene una vocal breve. </a:t>
            </a:r>
            <a:r>
              <a:rPr b="1" lang="es-ES" sz="1800" spc="-1" strike="noStrike">
                <a:solidFill>
                  <a:srgbClr val="6c6c6c"/>
                </a:solidFill>
                <a:latin typeface="Trebuchet MS"/>
              </a:rPr>
              <a:t>Ej. cal</a:t>
            </a:r>
            <a:r>
              <a:rPr b="1" lang="en-US" sz="1800" spc="-1" strike="noStrike">
                <a:solidFill>
                  <a:srgbClr val="6c6c6c"/>
                </a:solidFill>
                <a:latin typeface="Trebuchet MS"/>
                <a:ea typeface="Arial"/>
              </a:rPr>
              <a:t>ĭdus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bc191"/>
                </a:solidFill>
                <a:latin typeface="Trebuchet MS"/>
              </a:rPr>
              <a:t>Cuando termina en vocal y le sigue otra. </a:t>
            </a:r>
            <a:r>
              <a:rPr b="1" lang="es-ES" sz="1800" spc="-1" strike="noStrike">
                <a:solidFill>
                  <a:srgbClr val="6c6c6c"/>
                </a:solidFill>
                <a:latin typeface="Trebuchet MS"/>
              </a:rPr>
              <a:t>Ej. Fil</a:t>
            </a:r>
            <a:r>
              <a:rPr b="1" lang="en-US" sz="1800" spc="-1" strike="noStrike">
                <a:solidFill>
                  <a:srgbClr val="6c6c6c"/>
                </a:solidFill>
                <a:latin typeface="Trebuchet MS"/>
                <a:ea typeface="Arial"/>
              </a:rPr>
              <a:t>ĭ</a:t>
            </a:r>
            <a:r>
              <a:rPr b="1" lang="es-ES" sz="1800" spc="-1" strike="noStrike">
                <a:solidFill>
                  <a:srgbClr val="6c6c6c"/>
                </a:solidFill>
                <a:latin typeface="Trebuchet MS"/>
              </a:rPr>
              <a:t>a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8:59:41Z</dcterms:created>
  <dc:creator>App</dc:creator>
  <dc:description/>
  <dc:language>en-US</dc:language>
  <cp:lastModifiedBy>AUDIOLEASK</cp:lastModifiedBy>
  <dcterms:modified xsi:type="dcterms:W3CDTF">2012-12-08T21:26:35Z</dcterms:modified>
  <cp:revision>3</cp:revision>
  <dc:subject/>
  <dc:title>Diapositiva 1</dc:title>
</cp:coreProperties>
</file>