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4BD-1017-4A5D-84B2-E3FA4A81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032-0E2F-424F-AEED-9DA60131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8E6-925B-4481-B203-847DEBF0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F4E-EF0F-4082-B053-7DCD3FD2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C19E-986D-41A7-91BE-FA30D24B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DB77-ECF7-43A7-B2AC-B06DE025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2AC6-EB7D-4011-99A6-FADACF38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2FFF-10E9-4EEE-A544-A45228E7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C06F-4D39-4D13-B406-A0FD20AC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30E2-4766-438E-ADF9-8D93CA93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A9FB-5375-4088-9F80-3B1C412F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964-ED71-4494-A30D-2FDC4823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C561-39FC-4604-9B49-E76DCB2E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1DC3-B043-4DC9-91D8-C1F6C64C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DE05-32C3-4BB4-9A12-CD7C886B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D98D-EA06-46FF-B0FE-D8420046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BAD2-88E7-4752-A0FB-7015C186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1BDC-E593-40A3-BEF3-3D0F82CC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E9078-0312-404C-AC60-CB0C5B49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1A906-EF71-4D46-9207-F6E8EC9A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FF33-D579-4484-AD6F-4BE5BB0F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6536-6F4B-4478-9CBA-32D497E5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980-46D2-4856-AC26-55962C94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F049-5B6B-40DB-8F88-31C2025C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54B3-B7AF-461B-96CB-A59B4C40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F6DF-E067-4288-B975-FB4CEF75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2EA8-6E36-42C0-8206-A047A873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CCF7-307C-4CA6-B401-8534DD91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9939-1185-45F8-8463-DDDDB259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C6F0-5A09-4FA7-957D-A52C644E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64755-CBD5-4FFB-9D89-1D984CFC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D024-43AE-4509-BC0A-60E1C042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6940A-AE76-4E66-920C-D58A5AE6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7DA-F694-4789-896B-D84BF571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884C-50CB-400E-BBFB-21376CC5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083BC-8806-454F-9BCA-D41C5874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7897-DD69-48C7-97C9-5314E96C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841E9-D74B-49E7-B40A-058ECF5A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99F88-10BC-442E-8305-CFDA07DB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9721-BF2E-4630-B0E4-988F6E3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E89C-A9DA-4A7F-BEE1-39AA9DBE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5A1F-5F8A-4E0C-9B6F-579F4681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674D2-1D79-4039-B247-CA9C25E3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317A8-F915-422C-8CF8-2EA9BDFE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991-76FA-431A-93AB-C8C413AA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78DFC-9DD6-4DD1-B734-69E1F1A8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42910-1FB5-452C-AFEE-B3CCABE5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F5FB-B20E-4C43-80F0-584ECA43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810F2-6F68-4A90-8435-7EF00863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48E37-B6B8-4030-9DA8-E266EA78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69A64-8738-49A7-A22A-9F960258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F79F2-93C9-4DE0-B722-A0D8C221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A9DAC-AF9C-431A-9486-202D9991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B9D4D-531F-4F31-AF99-E1899D2B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D1EB5-DF3E-4B24-93DB-DE951FE9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950-9E0F-4574-945F-9736DEE7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94670-3B1B-4452-BF52-3541C4B1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3BC29-6B84-4725-8743-21B8DEDB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FAB34-1376-4511-991A-3D3E8C5C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94F18-9DBC-41E3-ABBF-44381DD5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BD4D0-2773-486F-84D2-1A9EA9E0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7F7DF-B7F0-456C-A96A-65E58F06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6C004-A181-4C8D-91EF-DED2D1F0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24F64-6F5E-4D3E-921C-D23DEE58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5CC61-9702-4227-A894-DF2C598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CE757-DDA8-4388-ACE5-952079E0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8CD-277E-4EA7-8157-51C0D8F2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1FA36-DD3B-4AAE-A296-8BD19AC1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C2453-C6AE-4F4C-A53A-DA645179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EBF41-D5A0-4C2B-BE43-90B22D91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74720-A59E-4278-BCB3-EDF29FA2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EB977-0D94-4526-9581-A9C31578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EA6F9-B8D9-41FE-BF4C-47378364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15423-FF1A-4578-8DD0-8ED5B2DA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41F4D-EB2C-4542-AE91-B2647E01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64CB8-13E6-48CF-B1C6-C9CD3CE2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86B64-3FF2-42D3-90CD-74603992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2DF-D757-4269-9E75-4405ABD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BB850-9D03-49B3-8027-3C79108A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E9927-0D0A-48A7-938C-A7E0A598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414F2-A257-497D-A06B-75CBFF79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0B318-5013-440C-9743-D1F9DA17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DE15D-B198-4532-ADB8-61445BB1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D45-230D-4AC2-968F-D122C5A3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88F9-E715-4E4F-BEDF-782AA5FCB19B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1DA7-43FA-4B0B-ABD0-DD83D49B4BA0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756A-AEEB-4E25-A7A9-53AFFE1868F4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2A02-D172-4E17-8D6D-38217DF2FA89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8C3B-5BF0-4FE4-94D1-84979456AFB1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584C-9C6A-43C8-BE73-1FED7F78429A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4B8F-A604-497D-8840-9ABC6DB22858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13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402920" y="1483920"/>
            <a:ext cx="4884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LL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l-l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CE, CI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E, K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QU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GE, GI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gue, gui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C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T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PH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suena </a:t>
            </a:r>
            <a:r>
              <a:rPr b="0" lang="es-ES" sz="2800" spc="-1" strike="noStrike">
                <a:solidFill>
                  <a:srgbClr val="808080"/>
                </a:solidFill>
                <a:latin typeface="Trebuchet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851280" y="1557000"/>
            <a:ext cx="3618000" cy="44974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0"/>
          <p:cNvSpPr/>
          <p:nvPr/>
        </p:nvSpPr>
        <p:spPr>
          <a:xfrm>
            <a:off x="4427640" y="1628640"/>
            <a:ext cx="266544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10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47640" y="1628280"/>
            <a:ext cx="3672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PRONUNCIA ESTAS PALABRAS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Bellum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Duce-facio 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Navi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Quam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Gero,fugio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Choru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Thesauro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6600"/>
                </a:solidFill>
                <a:latin typeface="Trebuchet MS"/>
              </a:rPr>
              <a:t>Philosophi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Y HAZ CLIC SOBRE EL ICONO</a:t>
            </a:r>
            <a:r>
              <a:rPr b="0" lang="es-ES" sz="2000" spc="-1" strike="noStrike">
                <a:solidFill>
                  <a:srgbClr val="80808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24360" y="2421000"/>
            <a:ext cx="36180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4859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745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263520" y="1598760"/>
            <a:ext cx="738648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b83d68"/>
                </a:solidFill>
                <a:latin typeface="Trebuchet MS"/>
              </a:rPr>
              <a:t>Para separar sílabas tendremos en cuenta qu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os diptongos (ae, oe, au) van  en la misma sílaba: ej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ae-ter-num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a </a:t>
            </a:r>
            <a:r>
              <a:rPr b="0" i="1" lang="es-ES" sz="1400" spc="-1" strike="noStrike">
                <a:solidFill>
                  <a:srgbClr val="b13f9a"/>
                </a:solidFill>
                <a:latin typeface="Trebuchet MS"/>
              </a:rPr>
              <a:t>i consonántica </a:t>
            </a: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forma sílaba con la vocal siguiente: ej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iu-ris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13f9a"/>
                </a:solidFill>
                <a:latin typeface="Trebuchet MS"/>
              </a:rPr>
              <a:t>Los demás grupos vocálicos van en distintas sílabas: ej. </a:t>
            </a:r>
            <a:r>
              <a:rPr b="0" i="1" lang="es-ES" sz="1400" spc="-1" strike="noStrike">
                <a:solidFill>
                  <a:srgbClr val="000000"/>
                </a:solidFill>
                <a:latin typeface="Trebuchet MS"/>
              </a:rPr>
              <a:t>ius-ti-ti-a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108880" y="4456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de66"/>
                </a:solidFill>
                <a:latin typeface="Arial"/>
              </a:rPr>
              <a:t>RECUER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95280" y="5013360"/>
            <a:ext cx="64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 consonán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á 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icial seguida de otra vocal. Ej. </a:t>
            </a:r>
            <a:r>
              <a:rPr b="0" lang="es-ES" sz="1800" spc="-1" strike="noStrike">
                <a:solidFill>
                  <a:srgbClr val="ffde66"/>
                </a:solidFill>
                <a:latin typeface="Arial"/>
              </a:rPr>
              <a:t>i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 vocales en interior. Ej. </a:t>
            </a:r>
            <a:r>
              <a:rPr b="0" lang="es-ES" sz="1800" spc="-1" strike="noStrike">
                <a:solidFill>
                  <a:srgbClr val="ffde66"/>
                </a:solidFill>
                <a:latin typeface="Arial"/>
              </a:rPr>
              <a:t>Troi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j0229389"/>
          <p:cNvPicPr/>
          <p:nvPr/>
        </p:nvPicPr>
        <p:blipFill>
          <a:blip r:embed="rId2"/>
          <a:stretch/>
        </p:blipFill>
        <p:spPr>
          <a:xfrm>
            <a:off x="1042920" y="5445000"/>
            <a:ext cx="249480" cy="262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j0229389"/>
          <p:cNvPicPr/>
          <p:nvPr/>
        </p:nvPicPr>
        <p:blipFill>
          <a:blip r:embed="rId3"/>
          <a:stretch/>
        </p:blipFill>
        <p:spPr>
          <a:xfrm>
            <a:off x="1042920" y="5877000"/>
            <a:ext cx="250920" cy="26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93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No se ponen tildes en latí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No hay aguda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Son llanas todas las bisílab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b13f9a"/>
                </a:solidFill>
                <a:latin typeface="Trebuchet MS"/>
              </a:rPr>
              <a:t>Las polisílabas so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Llanas, si la penúltima es larga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Esdrújulas , si la penúltima es breve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es-ES" sz="2300" spc="-1" strike="noStrike">
                <a:solidFill>
                  <a:srgbClr val="b13f9a"/>
                </a:solidFill>
                <a:latin typeface="Trebuchet MS"/>
              </a:rPr>
              <a:t>	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937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b13f9a"/>
                </a:solidFill>
                <a:latin typeface="Trebuchet MS"/>
              </a:rPr>
              <a:t>SÍLABA LARG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na vocal larg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Rom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no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 diptongo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Thes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urus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termina en consonante y le sigue otr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am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ānte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b13f9a"/>
                </a:solidFill>
                <a:latin typeface="Trebuchet MS"/>
              </a:rPr>
              <a:t>SÍLABA BREV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contiene una vocal breve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cal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ĭdus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bc191"/>
                </a:solidFill>
                <a:latin typeface="Trebuchet MS"/>
              </a:rPr>
              <a:t>Cuando termina en vocal y le sigue otra. 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Ej. Fil</a:t>
            </a:r>
            <a:r>
              <a:rPr b="1" lang="en-US" sz="1800" spc="-1" strike="noStrike">
                <a:solidFill>
                  <a:srgbClr val="6c6c6c"/>
                </a:solidFill>
                <a:latin typeface="Trebuchet MS"/>
                <a:ea typeface="Arial"/>
              </a:rPr>
              <a:t>ĭ</a:t>
            </a:r>
            <a:r>
              <a:rPr b="1" lang="es-ES" sz="1800" spc="-1" strike="noStrike">
                <a:solidFill>
                  <a:srgbClr val="6c6c6c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8:59:41Z</dcterms:created>
  <dc:creator>App</dc:creator>
  <dc:description/>
  <dc:language>en-US</dc:language>
  <cp:lastModifiedBy>AUDIOLEASK</cp:lastModifiedBy>
  <dcterms:modified xsi:type="dcterms:W3CDTF">2012-12-08T21:26:35Z</dcterms:modified>
  <cp:revision>3</cp:revision>
  <dc:subject/>
  <dc:title>Diapositiva 1</dc:title>
</cp:coreProperties>
</file>