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8276-A4FC-49CB-9696-A8D17C31A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F3DB-3657-462A-ACDC-31141BD3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3931-65B5-431A-846C-C264D27A8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5B0C-616D-4AB7-B73E-D82A978A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63EC-80A8-459D-8147-D0A57CE72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AF76-445B-4801-BBB5-3435B707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2ED0-472E-4A36-9692-4E2FCFEB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9138-F029-4FA3-866E-970CC842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155A-0DD0-4ED1-8F18-BD7C3E44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B518-9F37-4995-8265-C6554792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6B3D-E04C-4AAD-8A59-1FEB7F2B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8394-259C-450E-AB8C-B8C8B765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2F16-8D8A-4271-9696-F6C7BB8B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F77E-1754-4001-9AD1-737D6AF2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4E7A-71D9-43F9-9A6A-29AA668D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B930-86BC-4BB0-BED2-1CDE6B618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A426-903E-4EBC-8DF9-94BECBBF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E020E-BE54-42E2-B76B-A074B6FA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0F315-F2D9-4041-BD4C-31BF36BA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69297-D667-4DD8-BDB0-76ED0749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4B0DE-0305-4CA8-B8DA-F4C813EB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75BEB-8C37-4F23-9184-94E6BA13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0872-8852-4815-BC4F-266A07E1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470B3-E377-4F45-9815-0AEB7C08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2D96C-F14A-448F-B3B3-28CF4D76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E94D4-C0C9-4897-9E2B-CED2FC9C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AF9FF-5501-47DD-BC71-79E71B4D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1B5A8-C764-4E1A-8DDB-92FF487F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B5F4F-8111-4338-B01E-46249C30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FF80F-3015-44F5-8670-478E90BA8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C3E13-877E-4285-B093-70143EE7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E5560-78FB-4562-A57F-12695EF2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B77E0-EE79-4E88-ADBF-BC0CD09B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BE33-823E-4EAA-9C82-D5248E87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7E545-DB54-4BDE-B3E8-331EA55B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C2945-4FB1-42A9-A304-DD1593B2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D2CF3-0744-4AC0-AFD9-A1553CF9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4DD6B-1E0C-4843-AC67-E81FBF24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7D67A-3E70-49C6-838B-37295FAA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9255E-A4D6-4AEA-AADB-424C8463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D0089-8E6B-46A4-92C8-FA03885D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5B5E7-FF9B-433E-ABD0-9155290F1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7509F-8F5A-4E15-AE12-4E12356F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B1FDB-53F4-48B3-92E9-96178FB6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702A-C895-404C-9316-F3A18DF9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FACE2-E338-4FFA-A0C2-9880E25A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8F98B-E11B-4F30-86B6-9C46CBB0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71C7F-9102-4A74-96E3-6D3493F5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28E5E-9FBB-4E68-AA6A-C0FCF59A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CBC85-8994-4B28-B6E4-ADDE2A75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33497-DD24-49AC-B414-687247CA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82BF4-5AAF-4843-AB99-86BD197F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69AB5-C11F-46DF-A966-AFD787BA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2E1E0-9A8A-4132-958E-8FCD4D0E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38B66-8A2D-4A9B-84A6-512118F75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0FAB-87E7-4C46-9BA7-C0893779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E765B-055D-40A1-8A57-8690DE5D1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5FD2C-318A-42E7-B732-0A5A8C1A9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E27A1-B66A-404B-BBAA-E272C72B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6AC6D-D6FE-4C51-A344-6D63FC6E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362B8-1844-4992-A378-26D557C1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EFBFA-0E49-42F1-B4A6-9858998A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3C5C1-D0AD-4138-A34A-CFFE1379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30B99-7D2E-4E0A-953E-B93551FC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EAAE3-6E12-400F-94E1-085FAF85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94F5D-3219-45E5-867E-F839864F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68B6-3CE3-4FC1-B1C9-A5C4C1F0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96779-D965-4B8C-B255-49BB57EA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3D2F8-2BCA-4C9C-AD20-5B1E388A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98336-E47B-4F6A-A8F4-D908133CC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13B1F-8240-4736-97C8-75FB2C2BC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6E436-0149-4AE1-AA12-EFF3E74B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974F3-1D42-49E9-BF12-E9A95AA4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D8B41-FC5F-4755-A705-93864E56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E3E44-E309-454E-89CE-071E790D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CEF54-392F-4CC3-B833-4FE433D8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9C501-43C6-4787-B51E-35A6FAA1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16AC-F19C-4DF2-8686-6EFF9B0C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3CC69-EAEF-4E7F-B71A-F7EDABC9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0D633-3959-48BF-A5F4-88EB7B6B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9813C-8719-4EB9-97A4-F244AE87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94D30-3AF6-4FFF-94DA-07DD419F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D1FE7-A663-4C9B-A518-B4E46885F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B034-3E0A-4D08-ACC1-4EDFFC19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C8CE-1E08-46FF-8BCE-0489EDDD3C5E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7 Rectángulo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7 Rectángulo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9 Conector recto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F8A5-21DE-4296-92CC-F08E24D2EB89}" type="slidenum">
              <a:rPr b="0" lang="es-E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6804-80C3-4B3C-B7AA-99128585CEAA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7 Rectángulo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9 Rectángulo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CD4D-0C38-4504-A568-68780AE5957B}" type="slidenum">
              <a:rPr b="0" lang="es-E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8B98-7088-468A-8679-EC4761DAFC26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53AE-2A00-4FE3-8D0D-18B945EB67A7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65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522B-B01A-41B7-B585-879BEF9020E4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13" descr=""/>
          <p:cNvPicPr/>
          <p:nvPr/>
        </p:nvPicPr>
        <p:blipFill>
          <a:blip r:embed="rId1"/>
          <a:stretch/>
        </p:blipFill>
        <p:spPr>
          <a:xfrm>
            <a:off x="212760" y="21924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1402920" y="1483920"/>
            <a:ext cx="4884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LL</a:t>
            </a: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 suena </a:t>
            </a: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l-l</a:t>
            </a: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CE, CI</a:t>
            </a: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 suena </a:t>
            </a: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KE, K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V</a:t>
            </a: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 suena </a:t>
            </a: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QU</a:t>
            </a: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 suena </a:t>
            </a: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ku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GE, GI</a:t>
            </a: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 suena </a:t>
            </a: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gue, gui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CH</a:t>
            </a: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 suena </a:t>
            </a: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TH</a:t>
            </a: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 suena </a:t>
            </a: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PH</a:t>
            </a: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 suena </a:t>
            </a: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3851280" y="1557000"/>
            <a:ext cx="3618000" cy="449748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20"/>
          <p:cNvSpPr/>
          <p:nvPr/>
        </p:nvSpPr>
        <p:spPr>
          <a:xfrm>
            <a:off x="4427640" y="1628640"/>
            <a:ext cx="266544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Rectangle 10" descr=""/>
          <p:cNvPicPr/>
          <p:nvPr/>
        </p:nvPicPr>
        <p:blipFill>
          <a:blip r:embed="rId1"/>
          <a:stretch/>
        </p:blipFill>
        <p:spPr>
          <a:xfrm>
            <a:off x="212760" y="21924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47640" y="1628280"/>
            <a:ext cx="3672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Trebuchet MS"/>
              </a:rPr>
              <a:t>PRONUNCIA ESTAS PALABRAS: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6600"/>
                </a:solidFill>
                <a:latin typeface="Trebuchet MS"/>
              </a:rPr>
              <a:t>Bellum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6600"/>
                </a:solidFill>
                <a:latin typeface="Trebuchet MS"/>
              </a:rPr>
              <a:t>Duce-facio 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6600"/>
                </a:solidFill>
                <a:latin typeface="Trebuchet MS"/>
              </a:rPr>
              <a:t>Navis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6600"/>
                </a:solidFill>
                <a:latin typeface="Trebuchet MS"/>
              </a:rPr>
              <a:t>Quam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6600"/>
                </a:solidFill>
                <a:latin typeface="Trebuchet MS"/>
              </a:rPr>
              <a:t>Gero,fugio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6600"/>
                </a:solidFill>
                <a:latin typeface="Trebuchet MS"/>
              </a:rPr>
              <a:t>Chorus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6600"/>
                </a:solidFill>
                <a:latin typeface="Trebuchet MS"/>
              </a:rPr>
              <a:t>Thesauro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6600"/>
                </a:solidFill>
                <a:latin typeface="Trebuchet MS"/>
              </a:rPr>
              <a:t>Philosophia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Trebuchet MS"/>
              </a:rPr>
              <a:t>Y HAZ CLIC SOBRE EL ICONO</a:t>
            </a:r>
            <a:r>
              <a:rPr b="0" lang="es-ES" sz="2000" spc="-1" strike="noStrike">
                <a:solidFill>
                  <a:srgbClr val="808080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24360" y="2421000"/>
            <a:ext cx="36180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5" name="Picture 5" descr=""/>
          <p:cNvPicPr/>
          <p:nvPr/>
        </p:nvPicPr>
        <p:blipFill>
          <a:blip r:embed="rId2"/>
          <a:stretch/>
        </p:blipFill>
        <p:spPr>
          <a:xfrm>
            <a:off x="485928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4745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263520" y="1598760"/>
            <a:ext cx="738648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b83d68"/>
                </a:solidFill>
                <a:latin typeface="Trebuchet MS"/>
              </a:rPr>
              <a:t>Para separar sílabas tendremos en cuenta que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b13f9a"/>
                </a:solidFill>
                <a:latin typeface="Trebuchet MS"/>
              </a:rPr>
              <a:t>Los diptongos (ae, oe, au) van  en la misma sílaba: ej</a:t>
            </a: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i="1" lang="es-ES" sz="1400" spc="-1" strike="noStrike">
                <a:solidFill>
                  <a:srgbClr val="000000"/>
                </a:solidFill>
                <a:latin typeface="Trebuchet MS"/>
              </a:rPr>
              <a:t>ae-ter-num</a:t>
            </a:r>
            <a:endParaRPr b="0" lang="en-US" sz="1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b13f9a"/>
                </a:solidFill>
                <a:latin typeface="Trebuchet MS"/>
              </a:rPr>
              <a:t>La </a:t>
            </a:r>
            <a:r>
              <a:rPr b="0" i="1" lang="es-ES" sz="1400" spc="-1" strike="noStrike">
                <a:solidFill>
                  <a:srgbClr val="b13f9a"/>
                </a:solidFill>
                <a:latin typeface="Trebuchet MS"/>
              </a:rPr>
              <a:t>i consonántica </a:t>
            </a:r>
            <a:r>
              <a:rPr b="0" lang="es-ES" sz="1400" spc="-1" strike="noStrike">
                <a:solidFill>
                  <a:srgbClr val="b13f9a"/>
                </a:solidFill>
                <a:latin typeface="Trebuchet MS"/>
              </a:rPr>
              <a:t>forma sílaba con la vocal siguiente: ej. </a:t>
            </a:r>
            <a:r>
              <a:rPr b="0" i="1" lang="es-ES" sz="1400" spc="-1" strike="noStrike">
                <a:solidFill>
                  <a:srgbClr val="000000"/>
                </a:solidFill>
                <a:latin typeface="Trebuchet MS"/>
              </a:rPr>
              <a:t>iu-ris</a:t>
            </a:r>
            <a:endParaRPr b="0" lang="en-US" sz="1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b13f9a"/>
                </a:solidFill>
                <a:latin typeface="Trebuchet MS"/>
              </a:rPr>
              <a:t>Los demás grupos vocálicos van en distintas sílabas: ej. </a:t>
            </a:r>
            <a:r>
              <a:rPr b="0" i="1" lang="es-ES" sz="1400" spc="-1" strike="noStrike">
                <a:solidFill>
                  <a:srgbClr val="000000"/>
                </a:solidFill>
                <a:latin typeface="Trebuchet MS"/>
              </a:rPr>
              <a:t>ius-ti-ti-a</a:t>
            </a:r>
            <a:endParaRPr b="0" lang="en-US" sz="14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2108880" y="44560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de66"/>
                </a:solidFill>
                <a:latin typeface="Arial"/>
              </a:rPr>
              <a:t>RECUER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395280" y="5013360"/>
            <a:ext cx="640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i consonánt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tá e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icial seguida de otra vocal. Ej. </a:t>
            </a:r>
            <a:r>
              <a:rPr b="0" lang="es-ES" sz="1800" spc="-1" strike="noStrike">
                <a:solidFill>
                  <a:srgbClr val="ffde66"/>
                </a:solidFill>
                <a:latin typeface="Arial"/>
              </a:rPr>
              <a:t>iu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re vocales en interior. Ej. </a:t>
            </a:r>
            <a:r>
              <a:rPr b="0" lang="es-ES" sz="1800" spc="-1" strike="noStrike">
                <a:solidFill>
                  <a:srgbClr val="ffde66"/>
                </a:solidFill>
                <a:latin typeface="Arial"/>
              </a:rPr>
              <a:t>Troia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7" descr="j0229389"/>
          <p:cNvPicPr/>
          <p:nvPr/>
        </p:nvPicPr>
        <p:blipFill>
          <a:blip r:embed="rId2"/>
          <a:stretch/>
        </p:blipFill>
        <p:spPr>
          <a:xfrm>
            <a:off x="1042920" y="5445000"/>
            <a:ext cx="249480" cy="2620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j0229389"/>
          <p:cNvPicPr/>
          <p:nvPr/>
        </p:nvPicPr>
        <p:blipFill>
          <a:blip r:embed="rId3"/>
          <a:stretch/>
        </p:blipFill>
        <p:spPr>
          <a:xfrm>
            <a:off x="1042920" y="5877000"/>
            <a:ext cx="250920" cy="264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937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b13f9a"/>
                </a:solidFill>
                <a:latin typeface="Trebuchet MS"/>
              </a:rPr>
              <a:t>No se ponen tildes en latí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b13f9a"/>
                </a:solidFill>
                <a:latin typeface="Trebuchet MS"/>
              </a:rPr>
              <a:t>No hay agudas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b13f9a"/>
                </a:solidFill>
                <a:latin typeface="Trebuchet MS"/>
              </a:rPr>
              <a:t>Son llanas todas las bisílaba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b13f9a"/>
                </a:solidFill>
                <a:latin typeface="Trebuchet MS"/>
              </a:rPr>
              <a:t>Las polisílabas son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b13f9a"/>
                </a:solidFill>
                <a:latin typeface="Trebuchet MS"/>
              </a:rPr>
              <a:t>Llanas, si la penúltima es larga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b13f9a"/>
                </a:solidFill>
                <a:latin typeface="Trebuchet MS"/>
              </a:rPr>
              <a:t>Esdrújulas , si la penúltima es breve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es-ES" sz="23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es-ES" sz="2300" spc="-1" strike="noStrike">
                <a:solidFill>
                  <a:srgbClr val="b13f9a"/>
                </a:solidFill>
                <a:latin typeface="Trebuchet MS"/>
              </a:rPr>
              <a:t>	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937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b13f9a"/>
                </a:solidFill>
                <a:latin typeface="Trebuchet MS"/>
              </a:rPr>
              <a:t>SÍLABA LARGA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dbc191"/>
                </a:solidFill>
                <a:latin typeface="Trebuchet MS"/>
              </a:rPr>
              <a:t>Cuando contiene una vocal larga. </a:t>
            </a:r>
            <a:r>
              <a:rPr b="1" lang="es-ES" sz="1800" spc="-1" strike="noStrike">
                <a:solidFill>
                  <a:srgbClr val="6c6c6c"/>
                </a:solidFill>
                <a:latin typeface="Trebuchet MS"/>
              </a:rPr>
              <a:t>Ej. Rom</a:t>
            </a:r>
            <a:r>
              <a:rPr b="1" lang="en-US" sz="1800" spc="-1" strike="noStrike">
                <a:solidFill>
                  <a:srgbClr val="6c6c6c"/>
                </a:solidFill>
                <a:latin typeface="Trebuchet MS"/>
                <a:ea typeface="Arial"/>
              </a:rPr>
              <a:t>āno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dbc191"/>
                </a:solidFill>
                <a:latin typeface="Trebuchet MS"/>
              </a:rPr>
              <a:t>Cuando contiene u diptongo. </a:t>
            </a:r>
            <a:r>
              <a:rPr b="1" lang="es-ES" sz="1800" spc="-1" strike="noStrike">
                <a:solidFill>
                  <a:srgbClr val="6c6c6c"/>
                </a:solidFill>
                <a:latin typeface="Trebuchet MS"/>
              </a:rPr>
              <a:t>Ej. Thes</a:t>
            </a:r>
            <a:r>
              <a:rPr b="1" lang="en-US" sz="1800" spc="-1" strike="noStrike">
                <a:solidFill>
                  <a:srgbClr val="6c6c6c"/>
                </a:solidFill>
                <a:latin typeface="Trebuchet MS"/>
                <a:ea typeface="Arial"/>
              </a:rPr>
              <a:t>āurus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dbc191"/>
                </a:solidFill>
                <a:latin typeface="Trebuchet MS"/>
              </a:rPr>
              <a:t>Cuando termina en consonante y le sigue otra. </a:t>
            </a:r>
            <a:r>
              <a:rPr b="1" lang="es-ES" sz="1800" spc="-1" strike="noStrike">
                <a:solidFill>
                  <a:srgbClr val="6c6c6c"/>
                </a:solidFill>
                <a:latin typeface="Trebuchet MS"/>
              </a:rPr>
              <a:t>Ej. am</a:t>
            </a:r>
            <a:r>
              <a:rPr b="1" lang="en-US" sz="1800" spc="-1" strike="noStrike">
                <a:solidFill>
                  <a:srgbClr val="6c6c6c"/>
                </a:solidFill>
                <a:latin typeface="Trebuchet MS"/>
                <a:ea typeface="Arial"/>
              </a:rPr>
              <a:t>ānte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b13f9a"/>
                </a:solidFill>
                <a:latin typeface="Trebuchet MS"/>
              </a:rPr>
              <a:t>SÍLABA BREVE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dbc191"/>
                </a:solidFill>
                <a:latin typeface="Trebuchet MS"/>
              </a:rPr>
              <a:t>Cuando contiene una vocal breve. </a:t>
            </a:r>
            <a:r>
              <a:rPr b="1" lang="es-ES" sz="1800" spc="-1" strike="noStrike">
                <a:solidFill>
                  <a:srgbClr val="6c6c6c"/>
                </a:solidFill>
                <a:latin typeface="Trebuchet MS"/>
              </a:rPr>
              <a:t>Ej. cal</a:t>
            </a:r>
            <a:r>
              <a:rPr b="1" lang="en-US" sz="1800" spc="-1" strike="noStrike">
                <a:solidFill>
                  <a:srgbClr val="6c6c6c"/>
                </a:solidFill>
                <a:latin typeface="Trebuchet MS"/>
                <a:ea typeface="Arial"/>
              </a:rPr>
              <a:t>ĭdus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dbc191"/>
                </a:solidFill>
                <a:latin typeface="Trebuchet MS"/>
              </a:rPr>
              <a:t>Cuando termina en vocal y le sigue otra. </a:t>
            </a:r>
            <a:r>
              <a:rPr b="1" lang="es-ES" sz="1800" spc="-1" strike="noStrike">
                <a:solidFill>
                  <a:srgbClr val="6c6c6c"/>
                </a:solidFill>
                <a:latin typeface="Trebuchet MS"/>
              </a:rPr>
              <a:t>Ej. Fil</a:t>
            </a:r>
            <a:r>
              <a:rPr b="1" lang="en-US" sz="1800" spc="-1" strike="noStrike">
                <a:solidFill>
                  <a:srgbClr val="6c6c6c"/>
                </a:solidFill>
                <a:latin typeface="Trebuchet MS"/>
                <a:ea typeface="Arial"/>
              </a:rPr>
              <a:t>ĭ</a:t>
            </a:r>
            <a:r>
              <a:rPr b="1" lang="es-ES" sz="1800" spc="-1" strike="noStrike">
                <a:solidFill>
                  <a:srgbClr val="6c6c6c"/>
                </a:solidFill>
                <a:latin typeface="Trebuchet MS"/>
              </a:rPr>
              <a:t>a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18:59:41Z</dcterms:created>
  <dc:creator>App</dc:creator>
  <dc:description/>
  <dc:language>en-US</dc:language>
  <cp:lastModifiedBy>AUDIOLEASK</cp:lastModifiedBy>
  <dcterms:modified xsi:type="dcterms:W3CDTF">2012-12-08T21:26:35Z</dcterms:modified>
  <cp:revision>3</cp:revision>
  <dc:subject/>
  <dc:title>Diapositiva 1</dc:title>
</cp:coreProperties>
</file>