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wind.wav" ContentType="audio/x-wav"/>
  <Override PartName="/ppt/media/cashreg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CC4-B05D-47DF-B37C-735A63BC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5D0-F5EE-42B2-9ECE-501F8E62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2C6-8CDD-498A-9C2C-E5723C76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3B0-1ED6-446E-99A8-587A19FD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81B4-29EA-4C05-B8DE-8B284A46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FD1C-0EBD-44F3-B642-1B5228F8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EB10-F538-4C0F-A8FC-FC13E80C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59A6-01DE-474B-94CB-2D706063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8982-E59F-4C64-9D34-9C18B952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4E76-F837-4F7F-9441-E70A5078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F32B-8A78-400B-8E12-127723A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F80-EF99-4C45-B5BB-09A7E567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DC8A-D537-4D78-B0EB-FEEACC2A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7839-49D9-40AC-8837-9907063D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C779-72E6-4268-810E-1CFB2A0E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180B-F446-4B91-BB4A-E79C1E76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3346-B9C2-4C90-9ECF-D38EE582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A3A-9B03-450C-B545-E153CA8C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9B8-66D4-4ADB-B494-6D3F9C4F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A01-A59D-47B0-B5A5-7541B143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5C2-7710-4D7D-AED1-360EFBBD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083-7C5B-4804-A525-B6D5E6A9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04A-C826-4F81-8512-E70AA55D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79F-28FE-43C7-AC6E-B84C6A64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42EF-F43F-4B37-A3EB-7D0BB8AC1A84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E4BB-1F92-4CD7-9FF9-6EB25B6F02A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ind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SUSTAN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SUSTANTIV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060720" y="2852640"/>
            <a:ext cx="47512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3384720" cy="863640"/>
          </a:xfrm>
          <a:prstGeom prst="upArrowCallout">
            <a:avLst>
              <a:gd name="adj1" fmla="val 97987"/>
              <a:gd name="adj2" fmla="val 97978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      I      B      R      O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2411280" y="4941720"/>
            <a:ext cx="2881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5580000" y="4941720"/>
            <a:ext cx="792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51672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627280" y="4941720"/>
            <a:ext cx="720720" cy="432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5364000" y="4941720"/>
            <a:ext cx="64800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805440" y="4941720"/>
            <a:ext cx="71640" cy="43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3600360" cy="647640"/>
          </a:xfrm>
          <a:prstGeom prst="upArrowCallout">
            <a:avLst>
              <a:gd name="adj1" fmla="val 25997"/>
              <a:gd name="adj2" fmla="val 98109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LIBRO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5003640" y="5877000"/>
            <a:ext cx="3457800" cy="647640"/>
          </a:xfrm>
          <a:prstGeom prst="upArrowCallout">
            <a:avLst>
              <a:gd name="adj1" fmla="val 18639"/>
              <a:gd name="adj2" fmla="val 87501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76364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348000" y="5805360"/>
            <a:ext cx="4392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94160" y="912600"/>
            <a:ext cx="633816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“TEMA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42600" y="2362320"/>
            <a:ext cx="769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765440" y="4300560"/>
            <a:ext cx="100620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763640" y="471168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O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071720" y="5145120"/>
            <a:ext cx="171432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CONS -/-I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1763640" y="5576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U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763640" y="6008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QUI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771640" y="4508640"/>
            <a:ext cx="3598920" cy="144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771640" y="4941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2771640" y="5373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2771640" y="5805360"/>
            <a:ext cx="3597480" cy="180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2771640" y="6165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849960" y="6491160"/>
            <a:ext cx="70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declin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TERCERA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puede se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onsonántica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vocálica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6804000" y="1027080"/>
            <a:ext cx="720720" cy="720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971640" y="13874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c9074"/>
                </a:solidFill>
                <a:latin typeface="Verdana"/>
              </a:rPr>
              <a:t>LAS 5 “DECLINACION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6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280"/>
                            </p:stCondLst>
                            <p:childTnLst>
                              <p:par>
                                <p:cTn id="28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“TERMINACIÓN” (I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FINICIÓN: Se denomina “terminación de un sustantivo” a todos los elementos añadidos a su “LEXEMA” (o raí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CLINAR un sustantivo es relacionar de manera ordenada todas las formas que resultan al ir añadiendo a su LEXEMA cada una de las TERMINACIONES de “caso” y “número” correspondientes a su declin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UNCIAR un sustantivo es relacionar de manera consecutiva dos de sus formas: el NOMINATIVO y el GENITIVO singul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692640"/>
            <a:ext cx="488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 SUSTANTIVOS (2 FOR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Text Box 84"/>
          <p:cNvSpPr/>
          <p:nvPr/>
        </p:nvSpPr>
        <p:spPr>
          <a:xfrm>
            <a:off x="900000" y="2349360"/>
            <a:ext cx="237672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NOMIN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852720" y="2349360"/>
            <a:ext cx="215928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GEN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6"/>
          <p:cNvSpPr/>
          <p:nvPr/>
        </p:nvSpPr>
        <p:spPr>
          <a:xfrm>
            <a:off x="3419640" y="2349360"/>
            <a:ext cx="3585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88"/>
          <p:cNvSpPr/>
          <p:nvPr/>
        </p:nvSpPr>
        <p:spPr>
          <a:xfrm>
            <a:off x="1405080" y="2854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A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90"/>
          <p:cNvSpPr/>
          <p:nvPr/>
        </p:nvSpPr>
        <p:spPr>
          <a:xfrm>
            <a:off x="1405080" y="321480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91"/>
          <p:cNvSpPr/>
          <p:nvPr/>
        </p:nvSpPr>
        <p:spPr>
          <a:xfrm>
            <a:off x="1405080" y="36212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3"/>
          <p:cNvSpPr/>
          <p:nvPr/>
        </p:nvSpPr>
        <p:spPr>
          <a:xfrm>
            <a:off x="1405080" y="4051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UM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94"/>
          <p:cNvSpPr/>
          <p:nvPr/>
        </p:nvSpPr>
        <p:spPr>
          <a:xfrm>
            <a:off x="1405080" y="4484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95"/>
          <p:cNvSpPr/>
          <p:nvPr/>
        </p:nvSpPr>
        <p:spPr>
          <a:xfrm>
            <a:off x="1405080" y="4870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I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96"/>
          <p:cNvSpPr/>
          <p:nvPr/>
        </p:nvSpPr>
        <p:spPr>
          <a:xfrm>
            <a:off x="1405080" y="527688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97"/>
          <p:cNvSpPr/>
          <p:nvPr/>
        </p:nvSpPr>
        <p:spPr>
          <a:xfrm>
            <a:off x="1405080" y="5708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U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98"/>
          <p:cNvSpPr/>
          <p:nvPr/>
        </p:nvSpPr>
        <p:spPr>
          <a:xfrm>
            <a:off x="1405080" y="6140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E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99"/>
          <p:cNvSpPr/>
          <p:nvPr/>
        </p:nvSpPr>
        <p:spPr>
          <a:xfrm>
            <a:off x="4211640" y="2852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-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00"/>
          <p:cNvSpPr/>
          <p:nvPr/>
        </p:nvSpPr>
        <p:spPr>
          <a:xfrm>
            <a:off x="4211640" y="3213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01"/>
          <p:cNvSpPr/>
          <p:nvPr/>
        </p:nvSpPr>
        <p:spPr>
          <a:xfrm>
            <a:off x="4211640" y="3619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2"/>
          <p:cNvSpPr/>
          <p:nvPr/>
        </p:nvSpPr>
        <p:spPr>
          <a:xfrm>
            <a:off x="4211640" y="4049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03"/>
          <p:cNvSpPr/>
          <p:nvPr/>
        </p:nvSpPr>
        <p:spPr>
          <a:xfrm>
            <a:off x="4211640" y="4483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04"/>
          <p:cNvSpPr/>
          <p:nvPr/>
        </p:nvSpPr>
        <p:spPr>
          <a:xfrm>
            <a:off x="4211640" y="4869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05"/>
          <p:cNvSpPr/>
          <p:nvPr/>
        </p:nvSpPr>
        <p:spPr>
          <a:xfrm>
            <a:off x="4211640" y="5275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06"/>
          <p:cNvSpPr/>
          <p:nvPr/>
        </p:nvSpPr>
        <p:spPr>
          <a:xfrm>
            <a:off x="4211640" y="5707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07"/>
          <p:cNvSpPr/>
          <p:nvPr/>
        </p:nvSpPr>
        <p:spPr>
          <a:xfrm>
            <a:off x="4211640" y="613872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-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Line 109"/>
          <p:cNvSpPr/>
          <p:nvPr/>
        </p:nvSpPr>
        <p:spPr>
          <a:xfrm>
            <a:off x="900000" y="2852640"/>
            <a:ext cx="0" cy="34560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110"/>
          <p:cNvSpPr/>
          <p:nvPr/>
        </p:nvSpPr>
        <p:spPr>
          <a:xfrm>
            <a:off x="90000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111"/>
          <p:cNvSpPr/>
          <p:nvPr/>
        </p:nvSpPr>
        <p:spPr>
          <a:xfrm>
            <a:off x="90000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12"/>
          <p:cNvSpPr/>
          <p:nvPr/>
        </p:nvSpPr>
        <p:spPr>
          <a:xfrm>
            <a:off x="90000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13"/>
          <p:cNvSpPr/>
          <p:nvPr/>
        </p:nvSpPr>
        <p:spPr>
          <a:xfrm>
            <a:off x="90000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14"/>
          <p:cNvSpPr/>
          <p:nvPr/>
        </p:nvSpPr>
        <p:spPr>
          <a:xfrm>
            <a:off x="90000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15"/>
          <p:cNvSpPr/>
          <p:nvPr/>
        </p:nvSpPr>
        <p:spPr>
          <a:xfrm>
            <a:off x="90000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16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17"/>
          <p:cNvSpPr/>
          <p:nvPr/>
        </p:nvSpPr>
        <p:spPr>
          <a:xfrm>
            <a:off x="90000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118"/>
          <p:cNvSpPr/>
          <p:nvPr/>
        </p:nvSpPr>
        <p:spPr>
          <a:xfrm>
            <a:off x="90000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119"/>
          <p:cNvSpPr/>
          <p:nvPr/>
        </p:nvSpPr>
        <p:spPr>
          <a:xfrm>
            <a:off x="3851280" y="2852640"/>
            <a:ext cx="0" cy="3456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Line 120"/>
          <p:cNvSpPr/>
          <p:nvPr/>
        </p:nvSpPr>
        <p:spPr>
          <a:xfrm>
            <a:off x="385128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121"/>
          <p:cNvSpPr/>
          <p:nvPr/>
        </p:nvSpPr>
        <p:spPr>
          <a:xfrm>
            <a:off x="385128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122"/>
          <p:cNvSpPr/>
          <p:nvPr/>
        </p:nvSpPr>
        <p:spPr>
          <a:xfrm>
            <a:off x="385128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123"/>
          <p:cNvSpPr/>
          <p:nvPr/>
        </p:nvSpPr>
        <p:spPr>
          <a:xfrm>
            <a:off x="385128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124"/>
          <p:cNvSpPr/>
          <p:nvPr/>
        </p:nvSpPr>
        <p:spPr>
          <a:xfrm>
            <a:off x="385128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Line 125"/>
          <p:cNvSpPr/>
          <p:nvPr/>
        </p:nvSpPr>
        <p:spPr>
          <a:xfrm>
            <a:off x="385128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126"/>
          <p:cNvSpPr/>
          <p:nvPr/>
        </p:nvSpPr>
        <p:spPr>
          <a:xfrm>
            <a:off x="385128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127"/>
          <p:cNvSpPr/>
          <p:nvPr/>
        </p:nvSpPr>
        <p:spPr>
          <a:xfrm>
            <a:off x="385128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128"/>
          <p:cNvSpPr/>
          <p:nvPr/>
        </p:nvSpPr>
        <p:spPr>
          <a:xfrm>
            <a:off x="385128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129"/>
          <p:cNvSpPr/>
          <p:nvPr/>
        </p:nvSpPr>
        <p:spPr>
          <a:xfrm>
            <a:off x="6732720" y="279396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130"/>
          <p:cNvSpPr/>
          <p:nvPr/>
        </p:nvSpPr>
        <p:spPr>
          <a:xfrm>
            <a:off x="6732720" y="36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2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131"/>
          <p:cNvSpPr/>
          <p:nvPr/>
        </p:nvSpPr>
        <p:spPr>
          <a:xfrm>
            <a:off x="6732720" y="472428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3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32"/>
          <p:cNvSpPr/>
          <p:nvPr/>
        </p:nvSpPr>
        <p:spPr>
          <a:xfrm>
            <a:off x="6732720" y="54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4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133"/>
          <p:cNvSpPr/>
          <p:nvPr/>
        </p:nvSpPr>
        <p:spPr>
          <a:xfrm>
            <a:off x="6732720" y="6093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5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34"/>
          <p:cNvSpPr/>
          <p:nvPr/>
        </p:nvSpPr>
        <p:spPr>
          <a:xfrm>
            <a:off x="6156360" y="2997360"/>
            <a:ext cx="43164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35"/>
          <p:cNvSpPr/>
          <p:nvPr/>
        </p:nvSpPr>
        <p:spPr>
          <a:xfrm>
            <a:off x="5508720" y="3429000"/>
            <a:ext cx="93492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36"/>
          <p:cNvSpPr/>
          <p:nvPr/>
        </p:nvSpPr>
        <p:spPr>
          <a:xfrm>
            <a:off x="5580000" y="3789360"/>
            <a:ext cx="93672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Line 137"/>
          <p:cNvSpPr/>
          <p:nvPr/>
        </p:nvSpPr>
        <p:spPr>
          <a:xfrm flipV="1">
            <a:off x="5580000" y="3933720"/>
            <a:ext cx="792360" cy="28728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138"/>
          <p:cNvSpPr/>
          <p:nvPr/>
        </p:nvSpPr>
        <p:spPr>
          <a:xfrm>
            <a:off x="6156360" y="4653000"/>
            <a:ext cx="360360" cy="14436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Line 139"/>
          <p:cNvSpPr/>
          <p:nvPr/>
        </p:nvSpPr>
        <p:spPr>
          <a:xfrm flipV="1">
            <a:off x="5724360" y="4941360"/>
            <a:ext cx="79236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140"/>
          <p:cNvSpPr/>
          <p:nvPr/>
        </p:nvSpPr>
        <p:spPr>
          <a:xfrm>
            <a:off x="5796000" y="5373720"/>
            <a:ext cx="79200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141"/>
          <p:cNvSpPr/>
          <p:nvPr/>
        </p:nvSpPr>
        <p:spPr>
          <a:xfrm flipV="1">
            <a:off x="5867280" y="5661000"/>
            <a:ext cx="64944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42"/>
          <p:cNvSpPr/>
          <p:nvPr/>
        </p:nvSpPr>
        <p:spPr>
          <a:xfrm>
            <a:off x="5292720" y="6308640"/>
            <a:ext cx="129528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143"/>
          <p:cNvSpPr/>
          <p:nvPr/>
        </p:nvSpPr>
        <p:spPr>
          <a:xfrm>
            <a:off x="5724360" y="1125360"/>
            <a:ext cx="720720" cy="50328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144"/>
          <p:cNvSpPr/>
          <p:nvPr/>
        </p:nvSpPr>
        <p:spPr>
          <a:xfrm>
            <a:off x="6588000" y="549360"/>
            <a:ext cx="2411640" cy="13262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P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DECLIN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istingue la declinación?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00000" y="2349360"/>
            <a:ext cx="7693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857160" y="3357720"/>
            <a:ext cx="7929720" cy="25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Prim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Segund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Terc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Cuar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Quin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-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000080" y="2286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Para ello basta con mirar la terminación del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enitivo 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–segunda forma del enunciado-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01:49Z</dcterms:created>
  <dc:creator>Jaime Morente Heredia</dc:creator>
  <dc:description/>
  <dc:language>en-US</dc:language>
  <cp:lastModifiedBy>AUDIOLEASK</cp:lastModifiedBy>
  <dcterms:modified xsi:type="dcterms:W3CDTF">2012-12-15T15:58:21Z</dcterms:modified>
  <cp:revision>39</cp:revision>
  <dc:subject/>
  <dc:title>MORFOSINTAXIS</dc:title>
</cp:coreProperties>
</file>