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wind.wav" ContentType="audio/x-wav"/>
  <Override PartName="/ppt/media/cashreg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113-0841-4D13-B700-813FFDB0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D40-5D28-4673-9FB9-6013C0EB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8FF-A6A5-4E10-BB20-254F333E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E4A9-A7E7-4EE2-B165-C070AF6A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5FAE-170A-4A9A-8540-34FEDF67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B231-0A62-44D1-8450-BF9D72B9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F251-9D30-4F67-8FE8-1F73F8AE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2D60-2A57-41A0-AD7D-BE6E169C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3834-C5A4-4C71-A9DD-72303BB1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196E-F88D-48AD-9D08-B04530BD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52E9-E6C7-409C-9C76-2C7633CA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B93-1015-48DA-93AB-4FA71991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D603-E55A-441A-B027-9B1F209E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D71F-ECEC-484F-A191-AE740C6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CB89-05D3-41F0-B53C-3F310BD2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4CB1-FC23-42B5-9D41-D2CE3F68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CF93-13E6-4DC2-A7BE-500C9802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09F-3AB9-49B6-9043-0F65DE8C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B3F9-3F6A-443B-B867-00B9B423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5DD-4DE7-4BE5-843C-EFA4F463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B0C-3347-4694-AFDD-FA8819D4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9E6-9BA1-4B50-B24E-91A6AFB3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A15B-AFB7-46E0-A9DA-AD3A1333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DE4-8F12-474F-BDFA-7DB2F0AC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A61D-548C-45DB-A719-7DC21AD7C2D4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25E3-D14A-40A8-B8BF-391909AA5D98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wind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Arial"/>
              </a:rPr>
              <a:t>MORFOLOGÍA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ELEMENTOS DEL SUSTAN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219640" y="623736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or: Jaime Morente Hered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76428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</a:rPr>
              <a:t>ANÁLISIS MORFOLÓGICO DEL “SUSTANTIVO”</a:t>
            </a: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POSIBLES (part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ENCI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1547640" y="2708280"/>
            <a:ext cx="396108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060720" y="2852640"/>
            <a:ext cx="475128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1547640" y="2924280"/>
            <a:ext cx="2664000" cy="863640"/>
          </a:xfrm>
          <a:prstGeom prst="upArrowCallout">
            <a:avLst>
              <a:gd name="adj1" fmla="val 77122"/>
              <a:gd name="adj2" fmla="val 77115"/>
              <a:gd name="adj3" fmla="val 16667"/>
              <a:gd name="adj4" fmla="val 66660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356000" y="2924280"/>
            <a:ext cx="3384720" cy="863640"/>
          </a:xfrm>
          <a:prstGeom prst="upArrowCallout">
            <a:avLst>
              <a:gd name="adj1" fmla="val 97987"/>
              <a:gd name="adj2" fmla="val 97978"/>
              <a:gd name="adj3" fmla="val 16667"/>
              <a:gd name="adj4" fmla="val 6666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RMIN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06560" y="3860640"/>
            <a:ext cx="7886520" cy="273708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[  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      I      B      R      O      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ENCI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2411280" y="4941720"/>
            <a:ext cx="2881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5580000" y="4941720"/>
            <a:ext cx="792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6516720" y="4941720"/>
            <a:ext cx="7207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 flipH="1">
            <a:off x="2627280" y="4941720"/>
            <a:ext cx="720720" cy="432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H="1">
            <a:off x="5364000" y="4941720"/>
            <a:ext cx="64800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6805440" y="4941720"/>
            <a:ext cx="71640" cy="432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25"/>
          <p:cNvSpPr/>
          <p:nvPr/>
        </p:nvSpPr>
        <p:spPr>
          <a:xfrm>
            <a:off x="1258920" y="5877000"/>
            <a:ext cx="3600360" cy="647640"/>
          </a:xfrm>
          <a:prstGeom prst="upArrowCallout">
            <a:avLst>
              <a:gd name="adj1" fmla="val 25997"/>
              <a:gd name="adj2" fmla="val 98109"/>
              <a:gd name="adj3" fmla="val 29657"/>
              <a:gd name="adj4" fmla="val 103436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MA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LIBRO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5003640" y="5877000"/>
            <a:ext cx="3457800" cy="647640"/>
          </a:xfrm>
          <a:prstGeom prst="upArrowCallout">
            <a:avLst>
              <a:gd name="adj1" fmla="val 18639"/>
              <a:gd name="adj2" fmla="val 87501"/>
              <a:gd name="adj3" fmla="val 35051"/>
              <a:gd name="adj4" fmla="val 10343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RMINACIÓN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-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1763640" y="5734080"/>
            <a:ext cx="396072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348000" y="5805360"/>
            <a:ext cx="439272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94160" y="912600"/>
            <a:ext cx="6338160" cy="44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LEXIÓN NOMINAL: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“TEMA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42600" y="2362320"/>
            <a:ext cx="7692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1º.-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LEX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2º.- </a:t>
            </a: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VOCAL TEM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3635280" y="3068640"/>
            <a:ext cx="23050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5219640" y="3645000"/>
            <a:ext cx="72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084720" y="2852640"/>
            <a:ext cx="2592720" cy="368280"/>
          </a:xfrm>
          <a:prstGeom prst="rect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IGNIFICADO léx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084720" y="3500280"/>
            <a:ext cx="2592720" cy="368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7308720" y="3933720"/>
            <a:ext cx="0" cy="3589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765440" y="4300560"/>
            <a:ext cx="100620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A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763640" y="471168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O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071720" y="5145120"/>
            <a:ext cx="171432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 CONS -/-I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1763640" y="55767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U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1763640" y="60087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443640" y="43052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IM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442200" y="471636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GUN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6442200" y="514800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TERC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6442200" y="5581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6442200" y="6013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QUI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771640" y="4508640"/>
            <a:ext cx="3598920" cy="144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771640" y="4941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2771640" y="5373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2771640" y="5805360"/>
            <a:ext cx="3597480" cy="180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2771640" y="6165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1908000" y="3860640"/>
            <a:ext cx="33847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2195640" y="3860640"/>
            <a:ext cx="0" cy="4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849960" y="6491160"/>
            <a:ext cx="70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* La declinació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“TERCERA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puede se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consonántica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o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vocálica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6804000" y="1027080"/>
            <a:ext cx="720720" cy="720720"/>
          </a:xfrm>
          <a:custGeom>
            <a:avLst/>
            <a:gdLst>
              <a:gd name="textAreaLeft" fmla="*/ 96480 w 720720"/>
              <a:gd name="textAreaRight" fmla="*/ 624240 w 72072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971640" y="13874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c9074"/>
                </a:solidFill>
                <a:latin typeface="Verdana"/>
              </a:rPr>
              <a:t>LAS 5 “DECLINACION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6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46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280"/>
                            </p:stCondLst>
                            <p:childTnLst>
                              <p:par>
                                <p:cTn id="28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LEXIÓN NOMINAL</a:t>
            </a:r>
            <a:br>
              <a:rPr sz="32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“TERMINACIÓN” (II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FINICIÓN: Se denomina “terminación de un sustantivo” a todos los elementos añadidos a su “LEXEMA” (o raíz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CLINAR un sustantivo es relacionar de manera ordenada todas las formas que resultan al ir añadiendo a su LEXEMA cada una de las TERMINACIONES de “caso” y “número” correspondientes a su declina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NUNCIAR un sustantivo es relacionar de manera consecutiva dos de sus formas: el NOMINATIVO y el GENITIVO singula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692640"/>
            <a:ext cx="4889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 SUSTANTIVOS (2 FORMA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Text Box 84"/>
          <p:cNvSpPr/>
          <p:nvPr/>
        </p:nvSpPr>
        <p:spPr>
          <a:xfrm>
            <a:off x="900000" y="2349360"/>
            <a:ext cx="2376720" cy="448560"/>
          </a:xfrm>
          <a:prstGeom prst="rect">
            <a:avLst/>
          </a:prstGeom>
          <a:solidFill>
            <a:srgbClr val="cc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NOMIN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85"/>
          <p:cNvSpPr/>
          <p:nvPr/>
        </p:nvSpPr>
        <p:spPr>
          <a:xfrm>
            <a:off x="3852720" y="2349360"/>
            <a:ext cx="2159280" cy="448560"/>
          </a:xfrm>
          <a:prstGeom prst="rect">
            <a:avLst/>
          </a:prstGeom>
          <a:solidFill>
            <a:srgbClr val="cc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GENI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86"/>
          <p:cNvSpPr/>
          <p:nvPr/>
        </p:nvSpPr>
        <p:spPr>
          <a:xfrm>
            <a:off x="3419640" y="2349360"/>
            <a:ext cx="35856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88"/>
          <p:cNvSpPr/>
          <p:nvPr/>
        </p:nvSpPr>
        <p:spPr>
          <a:xfrm>
            <a:off x="1405080" y="2854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FORTUNA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90"/>
          <p:cNvSpPr/>
          <p:nvPr/>
        </p:nvSpPr>
        <p:spPr>
          <a:xfrm>
            <a:off x="1405080" y="321480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RU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91"/>
          <p:cNvSpPr/>
          <p:nvPr/>
        </p:nvSpPr>
        <p:spPr>
          <a:xfrm>
            <a:off x="1405080" y="36212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UER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93"/>
          <p:cNvSpPr/>
          <p:nvPr/>
        </p:nvSpPr>
        <p:spPr>
          <a:xfrm>
            <a:off x="1405080" y="4051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BELLUM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94"/>
          <p:cNvSpPr/>
          <p:nvPr/>
        </p:nvSpPr>
        <p:spPr>
          <a:xfrm>
            <a:off x="1405080" y="4484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LAMOR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95"/>
          <p:cNvSpPr/>
          <p:nvPr/>
        </p:nvSpPr>
        <p:spPr>
          <a:xfrm>
            <a:off x="1405080" y="4870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HOSTI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96"/>
          <p:cNvSpPr/>
          <p:nvPr/>
        </p:nvSpPr>
        <p:spPr>
          <a:xfrm>
            <a:off x="1405080" y="527688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URSU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97"/>
          <p:cNvSpPr/>
          <p:nvPr/>
        </p:nvSpPr>
        <p:spPr>
          <a:xfrm>
            <a:off x="1405080" y="5708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RNU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98"/>
          <p:cNvSpPr/>
          <p:nvPr/>
        </p:nvSpPr>
        <p:spPr>
          <a:xfrm>
            <a:off x="1405080" y="6140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E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99"/>
          <p:cNvSpPr/>
          <p:nvPr/>
        </p:nvSpPr>
        <p:spPr>
          <a:xfrm>
            <a:off x="4211640" y="28526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FORTUN-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00"/>
          <p:cNvSpPr/>
          <p:nvPr/>
        </p:nvSpPr>
        <p:spPr>
          <a:xfrm>
            <a:off x="4211640" y="321300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R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101"/>
          <p:cNvSpPr/>
          <p:nvPr/>
        </p:nvSpPr>
        <p:spPr>
          <a:xfrm>
            <a:off x="4211640" y="36194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UER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02"/>
          <p:cNvSpPr/>
          <p:nvPr/>
        </p:nvSpPr>
        <p:spPr>
          <a:xfrm>
            <a:off x="4211640" y="40496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BELL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103"/>
          <p:cNvSpPr/>
          <p:nvPr/>
        </p:nvSpPr>
        <p:spPr>
          <a:xfrm>
            <a:off x="4211640" y="448308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LAMOR-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104"/>
          <p:cNvSpPr/>
          <p:nvPr/>
        </p:nvSpPr>
        <p:spPr>
          <a:xfrm>
            <a:off x="4211640" y="486900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HOST-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105"/>
          <p:cNvSpPr/>
          <p:nvPr/>
        </p:nvSpPr>
        <p:spPr>
          <a:xfrm>
            <a:off x="4211640" y="52754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URS-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106"/>
          <p:cNvSpPr/>
          <p:nvPr/>
        </p:nvSpPr>
        <p:spPr>
          <a:xfrm>
            <a:off x="4211640" y="570708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RN-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107"/>
          <p:cNvSpPr/>
          <p:nvPr/>
        </p:nvSpPr>
        <p:spPr>
          <a:xfrm>
            <a:off x="4211640" y="613872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-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Line 109"/>
          <p:cNvSpPr/>
          <p:nvPr/>
        </p:nvSpPr>
        <p:spPr>
          <a:xfrm>
            <a:off x="900000" y="2852640"/>
            <a:ext cx="0" cy="34560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Line 110"/>
          <p:cNvSpPr/>
          <p:nvPr/>
        </p:nvSpPr>
        <p:spPr>
          <a:xfrm>
            <a:off x="900000" y="306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111"/>
          <p:cNvSpPr/>
          <p:nvPr/>
        </p:nvSpPr>
        <p:spPr>
          <a:xfrm>
            <a:off x="900000" y="3429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112"/>
          <p:cNvSpPr/>
          <p:nvPr/>
        </p:nvSpPr>
        <p:spPr>
          <a:xfrm>
            <a:off x="900000" y="378936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Line 113"/>
          <p:cNvSpPr/>
          <p:nvPr/>
        </p:nvSpPr>
        <p:spPr>
          <a:xfrm>
            <a:off x="900000" y="4221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Line 114"/>
          <p:cNvSpPr/>
          <p:nvPr/>
        </p:nvSpPr>
        <p:spPr>
          <a:xfrm>
            <a:off x="900000" y="4653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Line 115"/>
          <p:cNvSpPr/>
          <p:nvPr/>
        </p:nvSpPr>
        <p:spPr>
          <a:xfrm>
            <a:off x="900000" y="5084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Line 116"/>
          <p:cNvSpPr/>
          <p:nvPr/>
        </p:nvSpPr>
        <p:spPr>
          <a:xfrm>
            <a:off x="900000" y="5445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Line 117"/>
          <p:cNvSpPr/>
          <p:nvPr/>
        </p:nvSpPr>
        <p:spPr>
          <a:xfrm>
            <a:off x="900000" y="5877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Line 118"/>
          <p:cNvSpPr/>
          <p:nvPr/>
        </p:nvSpPr>
        <p:spPr>
          <a:xfrm>
            <a:off x="900000" y="630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Line 119"/>
          <p:cNvSpPr/>
          <p:nvPr/>
        </p:nvSpPr>
        <p:spPr>
          <a:xfrm>
            <a:off x="3851280" y="2852640"/>
            <a:ext cx="0" cy="3456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Line 120"/>
          <p:cNvSpPr/>
          <p:nvPr/>
        </p:nvSpPr>
        <p:spPr>
          <a:xfrm>
            <a:off x="3851280" y="306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Line 121"/>
          <p:cNvSpPr/>
          <p:nvPr/>
        </p:nvSpPr>
        <p:spPr>
          <a:xfrm>
            <a:off x="3851280" y="3429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Line 122"/>
          <p:cNvSpPr/>
          <p:nvPr/>
        </p:nvSpPr>
        <p:spPr>
          <a:xfrm>
            <a:off x="3851280" y="378936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Line 123"/>
          <p:cNvSpPr/>
          <p:nvPr/>
        </p:nvSpPr>
        <p:spPr>
          <a:xfrm>
            <a:off x="3851280" y="4221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Line 124"/>
          <p:cNvSpPr/>
          <p:nvPr/>
        </p:nvSpPr>
        <p:spPr>
          <a:xfrm>
            <a:off x="3851280" y="4653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Line 125"/>
          <p:cNvSpPr/>
          <p:nvPr/>
        </p:nvSpPr>
        <p:spPr>
          <a:xfrm>
            <a:off x="3851280" y="5084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Line 126"/>
          <p:cNvSpPr/>
          <p:nvPr/>
        </p:nvSpPr>
        <p:spPr>
          <a:xfrm>
            <a:off x="3851280" y="5445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127"/>
          <p:cNvSpPr/>
          <p:nvPr/>
        </p:nvSpPr>
        <p:spPr>
          <a:xfrm>
            <a:off x="3851280" y="5877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128"/>
          <p:cNvSpPr/>
          <p:nvPr/>
        </p:nvSpPr>
        <p:spPr>
          <a:xfrm>
            <a:off x="3851280" y="630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Text Box 129"/>
          <p:cNvSpPr/>
          <p:nvPr/>
        </p:nvSpPr>
        <p:spPr>
          <a:xfrm>
            <a:off x="6732720" y="279396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1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130"/>
          <p:cNvSpPr/>
          <p:nvPr/>
        </p:nvSpPr>
        <p:spPr>
          <a:xfrm>
            <a:off x="6732720" y="3645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2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131"/>
          <p:cNvSpPr/>
          <p:nvPr/>
        </p:nvSpPr>
        <p:spPr>
          <a:xfrm>
            <a:off x="6732720" y="472428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3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132"/>
          <p:cNvSpPr/>
          <p:nvPr/>
        </p:nvSpPr>
        <p:spPr>
          <a:xfrm>
            <a:off x="6732720" y="5445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4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133"/>
          <p:cNvSpPr/>
          <p:nvPr/>
        </p:nvSpPr>
        <p:spPr>
          <a:xfrm>
            <a:off x="6732720" y="6093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5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Line 134"/>
          <p:cNvSpPr/>
          <p:nvPr/>
        </p:nvSpPr>
        <p:spPr>
          <a:xfrm>
            <a:off x="6156360" y="2997360"/>
            <a:ext cx="43164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135"/>
          <p:cNvSpPr/>
          <p:nvPr/>
        </p:nvSpPr>
        <p:spPr>
          <a:xfrm>
            <a:off x="5508720" y="3429000"/>
            <a:ext cx="934920" cy="216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136"/>
          <p:cNvSpPr/>
          <p:nvPr/>
        </p:nvSpPr>
        <p:spPr>
          <a:xfrm>
            <a:off x="5580000" y="3789360"/>
            <a:ext cx="93672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Line 137"/>
          <p:cNvSpPr/>
          <p:nvPr/>
        </p:nvSpPr>
        <p:spPr>
          <a:xfrm flipV="1">
            <a:off x="5580000" y="3933720"/>
            <a:ext cx="792360" cy="28728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Line 138"/>
          <p:cNvSpPr/>
          <p:nvPr/>
        </p:nvSpPr>
        <p:spPr>
          <a:xfrm>
            <a:off x="6156360" y="4653000"/>
            <a:ext cx="360360" cy="14436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Line 139"/>
          <p:cNvSpPr/>
          <p:nvPr/>
        </p:nvSpPr>
        <p:spPr>
          <a:xfrm flipV="1">
            <a:off x="5724360" y="4941360"/>
            <a:ext cx="792360" cy="1429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Line 140"/>
          <p:cNvSpPr/>
          <p:nvPr/>
        </p:nvSpPr>
        <p:spPr>
          <a:xfrm>
            <a:off x="5796000" y="5373720"/>
            <a:ext cx="792000" cy="1429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Line 141"/>
          <p:cNvSpPr/>
          <p:nvPr/>
        </p:nvSpPr>
        <p:spPr>
          <a:xfrm flipV="1">
            <a:off x="5867280" y="5661000"/>
            <a:ext cx="649440" cy="216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142"/>
          <p:cNvSpPr/>
          <p:nvPr/>
        </p:nvSpPr>
        <p:spPr>
          <a:xfrm>
            <a:off x="5292720" y="6308640"/>
            <a:ext cx="129528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AutoShape 143"/>
          <p:cNvSpPr/>
          <p:nvPr/>
        </p:nvSpPr>
        <p:spPr>
          <a:xfrm>
            <a:off x="5724360" y="1125360"/>
            <a:ext cx="720720" cy="503280"/>
          </a:xfrm>
          <a:prstGeom prst="pi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Text Box 144"/>
          <p:cNvSpPr/>
          <p:nvPr/>
        </p:nvSpPr>
        <p:spPr>
          <a:xfrm>
            <a:off x="6588000" y="549360"/>
            <a:ext cx="2411640" cy="132624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P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DECLINA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MORFOLOGÍA NOMINAL</a:t>
            </a:r>
            <a:br>
              <a:rPr sz="3200"/>
            </a:b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¿Cómo se distingue la declinación?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00000" y="2349360"/>
            <a:ext cx="7693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857160" y="3357720"/>
            <a:ext cx="7929720" cy="25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Primer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a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Segund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Tercer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Cuart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Quint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-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000080" y="2286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Para ello basta con mirar la terminación del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genitivo 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–segunda forma del enunciado-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9:01:49Z</dcterms:created>
  <dc:creator>Jaime Morente Heredia</dc:creator>
  <dc:description/>
  <dc:language>en-US</dc:language>
  <cp:lastModifiedBy>AUDIOLEASK</cp:lastModifiedBy>
  <dcterms:modified xsi:type="dcterms:W3CDTF">2012-12-15T15:58:21Z</dcterms:modified>
  <cp:revision>39</cp:revision>
  <dc:subject/>
  <dc:title>MORFOSINTAXIS</dc:title>
</cp:coreProperties>
</file>