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915-312C-4262-A9D1-5F4556F7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D63-EF29-4E50-9056-2B72E9FA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40C-8CBD-4E33-8A77-F82DA2B1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559-3AA7-4AF7-A4D1-3CC1963F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F31-AE61-4D71-9C88-E3E88E1E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2CAE-FFC7-4E1F-97DF-78D3EBBF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06A-C115-465A-BA93-B4C6C97F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AFD8-1D4A-4CF2-AED8-26460990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8C0D-8E8D-4D97-BB19-451B51A6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73BB-1412-41CB-BB8A-95DE40B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20DA-9112-4F16-8E53-05531E2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E90-E31E-4C7A-AB22-C9FEBFA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6CFD-A527-451F-B8AD-A75A4D4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8696-48A6-4477-83A6-B25677C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0827-E9F8-43C3-954E-5C241479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72D1-DEDB-49A5-A6C5-71F7A1E9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9C06-06D5-4DC7-A7EA-2F757DDD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6AC-5593-4026-A447-170C05E6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F53-70B8-4E32-9B3F-71F4DF1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FFD-C72A-4F06-9E36-12B2CB1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C43-F2ED-4416-96D1-9556C904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A0E-3415-45AA-8C55-616DFB7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829-209F-446F-87B9-FB59F9F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342-F644-42DC-AE5D-76F2F2BA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13F-F9F3-4F19-87F6-5381E3D92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0C9A-08AA-49DE-B7EA-0CEB33067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33336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ito de Ròmulo &amp; Remo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2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Lleno de tristeza y arrepentimiento lo enterró en la cima del monte Platino y le dio nombre a su ciu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76500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tierro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Rómulo quedo como único soberano y creo el senado, compuesto por cien miembros cuyos descendientes fueron llamados patricios y dividió la población en 30 congreg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549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beranìa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549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ueblo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Además para poblar la ciudad, Rómulo aceptó todo tipo de gente refugiados, libertos, esclavos, prófugos, etc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6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Hecho p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Jenny Fernanda Puzhi Rem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Mariela Caballero Iria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4º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ea Silvia se encontraba durmiendo en la orilla de un río en la ciudad de AlbaLonga y el dios Marte se quedó enamorado de ella y la dejó embara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De ese embarazo nacieron Rómulo y Rem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549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 &amp; Mar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ómulo y Remo sus hijos fueron echados en una cesta al nacer al rió tiber porque el rey Amulio estaba matando a todos los herederos de su trono y que a la vez destrono a su hermano Num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064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òmulo &amp;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Entonces la cesta encallo en algún lugar de este rió donde los niños fueron amamantados por una loba (Luperc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7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ba Luper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Mas tarde fueron recogidos por el pastor Fausto. Después fueron cuidados por su muj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260280"/>
            <a:ext cx="51339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stor Faus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Mas tarde cuando ya eran adultos descubrieron su origen, volvieron a su ciudad nat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47628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greso de Ròmulo &amp; Remo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libi"/>
              </a:rPr>
              <a:t>Mataron a Amulio y pusieron a su abuelo (Numitor) en el tron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8000" y="476280"/>
            <a:ext cx="511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esinato de Amuli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Mas tarde los hermanos decidieron fundar una ciudad en el lugar donde la cesta había embarrancado. Remo al ver 6 aves en el cielo entendió que significaba que debía fundarla sobre Aventino en cambio Rómulo al ver 12 aves sobre el monte Platino entendió que debía asentar su ciudad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549360"/>
            <a:ext cx="62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mbre para la ciudad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24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uerte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libi"/>
              </a:rPr>
              <a:t>Rómulo marco con un arado los limites de la ciudad y juro matar a todo el que cruzase por ahí. Remo bajo el efecto del alcohol paso por el arado, entonces Rómulo no tuvo mas remedio que matar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02:39Z</dcterms:created>
  <dc:creator>jb</dc:creator>
  <dc:description/>
  <dc:language>en-US</dc:language>
  <cp:lastModifiedBy>jb</cp:lastModifiedBy>
  <dcterms:modified xsi:type="dcterms:W3CDTF">2013-11-17T16:44:50Z</dcterms:modified>
  <cp:revision>2</cp:revision>
  <dc:subject/>
  <dc:title>Diapositiva 1</dc:title>
</cp:coreProperties>
</file>