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89F-5565-47A6-BCCD-220BC495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259-650B-4C47-BEAF-CAC4723A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F0B-EFF9-42BC-BBCB-4AB26244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7A9-8699-4DC6-8193-1AA10410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7330-7AFD-4977-8B3E-BEF673FE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226F-113F-490E-895F-CAFC019C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3CB4-122C-46F2-BB83-F2365DC8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CE85-26A3-4385-A689-9ECF8078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1E71-ADE4-4CBE-80F4-728FC31F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F988-0D29-413D-AC4D-E868C9F5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59C2-B88B-4F71-B585-D7F33E84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6F7-0A3D-4985-92CC-D7A32453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3C3F-E2B0-4778-9EA8-7494C554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E4C1-96DF-428F-A876-EC89A6D8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FE29-0547-4CD9-89A0-C5CED9A8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0E7E-D5CD-4E83-9D95-633BC566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EBE0-1533-497B-96E9-369E002C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117-4765-4FB1-9077-EB8FE2E5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1B9-A300-43E9-A359-6E2B9ACC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CAE-5C64-4D6B-AE10-A7AB88FD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8D0-992A-4221-9E58-892501B1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BCE-FB12-41D6-BC25-1EB1F1A4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78D-A5E9-4817-974E-3FCCC008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890-BAB3-4956-B53A-E18742D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F505-E3E8-481D-96FB-8BC2C62A1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EB34-2D8D-4388-9DA4-7050BFA91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76360" y="333360"/>
            <a:ext cx="655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mito de Ròmulo &amp; Remo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3068640"/>
            <a:ext cx="3025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Lleno de tristeza y arrepentimiento lo enterró en la cima del monte Platino y le dio nombre a su ciud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50920" y="76500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tierro de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Rómulo quedo como único soberano y creo el senado, compuesto por cien miembros cuyos descendientes fueron llamados patricios y dividió la población en 30 congreg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8000" y="54936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beranìa de Ròmu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319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63640" y="54936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ueblo de Ròmul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Además para poblar la ciudad, Rómulo aceptó todo tipo de gente refugiados, libertos, esclavos, prófugos, etc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264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Hecho por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Jenny Fernanda Puzhi Rem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Mariela Caballero Iriart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libi"/>
              </a:rPr>
              <a:t>4ºC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Rea Silvia se encontraba durmiendo en la orilla de un río en la ciudad de AlbaLonga y el dios Marte se quedó enamorado de ella y la dejó embara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De ese embarazo nacieron Rómulo y Rem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27280" y="549360"/>
            <a:ext cx="43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 &amp; Mar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176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Rómulo y Remo sus hijos fueron echados en una cesta al nacer al rió tiber porque el rey Amulio estaba matando a todos los herederos de su trono y que a la vez destrono a su hermano Numi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62064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òmulo &amp;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211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Entonces la cesta encallo en algún lugar de este rió donde los niños fueron amamantados por una loba (Luperc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692280"/>
            <a:ext cx="475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ba Luper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libi"/>
              </a:rPr>
              <a:t>Mas tarde fueron recogidos por el pastor Fausto. Después fueron cuidados por su muj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79640" y="260280"/>
            <a:ext cx="513396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astor Faus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17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libi"/>
              </a:rPr>
              <a:t>Mas tarde cuando ya eran adultos descubrieron su origen, volvieron a su ciudad nat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476280"/>
            <a:ext cx="756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greso de Ròmulo &amp; Remo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libi"/>
              </a:rPr>
              <a:t>Mataron a Amulio y pusieron a su abuelo (Numitor) en el trono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8000" y="476280"/>
            <a:ext cx="511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sesinato de Amuli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libi"/>
              </a:rPr>
              <a:t>Mas tarde los hermanos decidieron fundar una ciudad en el lugar donde la cesta había embarrancado. Remo al ver 6 aves en el cielo entendió que significaba que debía fundarla sobre Aventino en cambio Rómulo al ver 12 aves sobre el monte Platino entendió que debía asentar su ciudad ah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47640" y="549360"/>
            <a:ext cx="6264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mbre para la ciudad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24000" y="333360"/>
            <a:ext cx="56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muerte de Rem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libi"/>
              </a:rPr>
              <a:t>Rómulo marco con un arado los limites de la ciudad y juro matar a todo el que cruzase por ahí. Remo bajo el efecto del alcohol paso por el arado, entonces Rómulo no tuvo mas remedio que matar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5:02:39Z</dcterms:created>
  <dc:creator>jb</dc:creator>
  <dc:description/>
  <dc:language>en-US</dc:language>
  <cp:lastModifiedBy>jb</cp:lastModifiedBy>
  <dcterms:modified xsi:type="dcterms:W3CDTF">2013-11-17T16:44:50Z</dcterms:modified>
  <cp:revision>2</cp:revision>
  <dc:subject/>
  <dc:title>Diapositiva 1</dc:title>
</cp:coreProperties>
</file>