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2324-CEEA-401F-9A04-C8E9E7ED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AF35-DFCF-41C6-A1BE-9EBD9C51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0A7D-51F5-4BDA-AEA1-9CEBE153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C528-F8A2-4C63-B488-3A694BE2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1322-0474-4111-879A-0764C80A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67C9-2545-4FAD-A38F-BC418213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4540-8B14-492C-B138-44A6E9A2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3A87-6890-46CD-B654-3A4F55B8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D893-87E0-4E8C-98D3-518D4F38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CA8C-3718-4341-B644-189309FC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05F3-8E3B-426E-8C71-EB859549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D6F7-FF37-41E7-9CE7-BFA8B384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0C2E-741D-423D-9A90-F6E9C568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0212-96B8-464C-BEE6-C67377EA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F26B-B41B-4051-825A-ED0315C9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B009-962B-4A50-9720-E9031C56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7666-B536-4FF5-A49A-D3B31099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0B21-2513-481F-B5A5-96E37519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164-273D-4F1E-B188-782A33F0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17D5-2622-4892-BEC7-77B1E27D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4E1F-F37D-480B-88AE-3348B042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61D2-6E8F-49B3-952E-B0B28CD7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DD3C-A33F-4B4A-BDD8-B15E89F7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DE63-E9C9-4B08-9022-EEEFCAA7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7F28-585A-4693-81D4-BC44C5D967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E165-13EB-41B5-9E78-73B05DDD5C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76360" y="333360"/>
            <a:ext cx="65530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mito de Ròmulo &amp; Remos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59280" y="3068640"/>
            <a:ext cx="3025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libi"/>
              </a:rPr>
              <a:t>Lleno de tristeza y arrepentimiento lo enterró en la cima del monte Platino y le dio nombre a su ciuda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050920" y="765000"/>
            <a:ext cx="4610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ntierro de Remo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17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Rómulo quedo como único soberano y creo el senado, compuesto por cien miembros cuyos descendientes fueron llamados patricios y dividió la población en 30 congregaci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908000" y="549360"/>
            <a:ext cx="62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beranìa de Ròmul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3196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63640" y="549360"/>
            <a:ext cx="6193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pueblo de Ròmul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Además para poblar la ciudad, Rómulo aceptó todo tipo de gente refugiados, libertos, esclavos, prófugos, etc.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264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libi"/>
              </a:rPr>
              <a:t>Hecho por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libi"/>
              </a:rPr>
              <a:t>Jenny Fernanda Puzhi Remac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libi"/>
              </a:rPr>
              <a:t>Mariela Caballero Iriart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libi"/>
              </a:rPr>
              <a:t>4ºC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Rea Silvia se encontraba durmiendo en la orilla de un río en la ciudad de AlbaLonga y el dios Marte se quedó enamorado de ella y la dejó embaraz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De ese embarazo nacieron Rómulo y Remo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627280" y="549360"/>
            <a:ext cx="439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a &amp; Mart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41767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Rómulo y Remo sus hijos fueron echados en una cesta al nacer al rió tiber porque el rey Amulio estaba matando a todos los herederos de su trono y que a la vez destrono a su hermano Numi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340000" y="620640"/>
            <a:ext cx="547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òmulo &amp; Remo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4211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Entonces la cesta encallo en algún lugar de este rió donde los niños fueron amamantados por una loba (Luperca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195640" y="692280"/>
            <a:ext cx="4752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ba Luperc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1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Mas tarde fueron recogidos por el pastor Fausto. Después fueron cuidados por su muj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79640" y="260280"/>
            <a:ext cx="513396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pastor Faust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4176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libi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libi"/>
              </a:rPr>
              <a:t>Mas tarde cuando ya eran adultos descubrieron su origen, volvieron a su ciudad nat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476280"/>
            <a:ext cx="756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greso de Ròmulo &amp; Remo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17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libi"/>
              </a:rPr>
              <a:t>Mataron a Amulio y pusieron a su abuelo (Numitor) en el trono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08000" y="476280"/>
            <a:ext cx="511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sesinato de Amuli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1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Mas tarde los hermanos decidieron fundar una ciudad en el lugar donde la cesta había embarrancado. Remo al ver 6 aves en el cielo entendió que significaba que debía fundarla sobre Aventino en cambio Rómulo al ver 12 aves sobre el monte Platino entendió que debía asentar su ciudad ah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47640" y="549360"/>
            <a:ext cx="6264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mbre para la ciudad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417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124000" y="333360"/>
            <a:ext cx="561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muerte de Remo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libi"/>
              </a:rPr>
              <a:t>Rómulo marco con un arado los limites de la ciudad y juro matar a todo el que cruzase por ahí. Remo bajo el efecto del alcohol paso por el arado, entonces Rómulo no tuvo mas remedio que matarl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888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15:02:39Z</dcterms:created>
  <dc:creator>jb</dc:creator>
  <dc:description/>
  <dc:language>en-US</dc:language>
  <cp:lastModifiedBy>jb</cp:lastModifiedBy>
  <dcterms:modified xsi:type="dcterms:W3CDTF">2013-11-17T16:44:50Z</dcterms:modified>
  <cp:revision>2</cp:revision>
  <dc:subject/>
  <dc:title>Diapositiva 1</dc:title>
</cp:coreProperties>
</file>