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0B5-626E-4387-ADD9-1D52A071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C42-9738-46FC-B052-E0E9370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709-A828-49CE-BD1F-74382F1F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DA6-726F-4CB0-8B6B-B578AF49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4B73-9C71-4CD1-B36E-0A72A142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F137-F3B1-41CD-9003-07884E05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54FB-B8C8-4DF9-96FE-F8EE6DD8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7448-DAC5-4000-B5B2-D5327492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8B0C-9692-402E-B6EA-32602AD3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D12C-EF65-49CE-9F6A-7CCD1B11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EF08-DD9D-47D6-BCD6-D1D5E5AF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291-DA4D-46C2-95F7-96F17207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D935-D00E-40A8-A6FF-FEB10ED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3119-ADBF-42D3-A5EE-7887C975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6954-ADD3-4A2E-BC29-B2CD8E6C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25DD-56E6-4AE9-AAED-2767E4A3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8CFF-B610-4549-A360-7215C7D0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F41-0F72-4CF9-91F6-D74AF4D1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56D-8F30-45B7-BEDB-1A627B18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812-88E7-43FE-A57C-CA9BF190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A5F-E720-424D-85D7-E3FFB97D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B66-8A7B-40C9-98DB-EFEEEB2A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C87-8750-467D-8318-C32304B8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DDD-9430-40D2-B444-0806CF15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0442-4321-458F-BCEA-D3DF440F7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9D8A-594E-4EC4-AE71-9DB18A42A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76360" y="33336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mito de Ròmulo &amp; Remo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302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Lleno de tristeza y arrepentimiento lo enterró en la cima del monte Platino y le dio nombre a su ciu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50920" y="76500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tierro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Rómulo quedo como único soberano y creo el senado, compuesto por cien miembros cuyos descendientes fueron llamados patricios y dividió la población en 30 congreg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8000" y="5493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beranìa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31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63640" y="54936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ueblo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Además para poblar la ciudad, Rómulo aceptó todo tipo de gente refugiados, libertos, esclavos, prófugos, etc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64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Hecho por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Jenny Fernanda Puzhi Rem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Mariela Caballero Iriart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4ºC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ea Silvia se encontraba durmiendo en la orilla de un río en la ciudad de AlbaLonga y el dios Marte se quedó enamorado de ella y la dejó embara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De ese embarazo nacieron Rómulo y Rem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27280" y="54936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 &amp; Mar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ómulo y Remo sus hijos fueron echados en una cesta al nacer al rió tiber porque el rey Amulio estaba matando a todos los herederos de su trono y que a la vez destrono a su hermano Numi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62064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òmulo &amp;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Entonces la cesta encallo en algún lugar de este rió donde los niños fueron amamantados por una loba (Luperc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692280"/>
            <a:ext cx="47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ba Luper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Mas tarde fueron recogidos por el pastor Fausto. Después fueron cuidados por su muj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260280"/>
            <a:ext cx="51339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astor Faus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17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Mas tarde cuando ya eran adultos descubrieron su origen, volvieron a su ciudad nat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476280"/>
            <a:ext cx="756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greso de Ròmulo &amp; Remo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libi"/>
              </a:rPr>
              <a:t>Mataron a Amulio y pusieron a su abuelo (Numitor) en el trono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8000" y="476280"/>
            <a:ext cx="511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esinato de Amuli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Mas tarde los hermanos decidieron fundar una ciudad en el lugar donde la cesta había embarrancado. Remo al ver 6 aves en el cielo entendió que significaba que debía fundarla sobre Aventino en cambio Rómulo al ver 12 aves sobre el monte Platino entendió que debía asentar su ciudad ah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640" y="549360"/>
            <a:ext cx="626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mbre para la ciudad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24000" y="333360"/>
            <a:ext cx="56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muerte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libi"/>
              </a:rPr>
              <a:t>Rómulo marco con un arado los limites de la ciudad y juro matar a todo el que cruzase por ahí. Remo bajo el efecto del alcohol paso por el arado, entonces Rómulo no tuvo mas remedio que matar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5:02:39Z</dcterms:created>
  <dc:creator>jb</dc:creator>
  <dc:description/>
  <dc:language>en-US</dc:language>
  <cp:lastModifiedBy>jb</cp:lastModifiedBy>
  <dcterms:modified xsi:type="dcterms:W3CDTF">2013-11-17T16:44:50Z</dcterms:modified>
  <cp:revision>2</cp:revision>
  <dc:subject/>
  <dc:title>Diapositiva 1</dc:title>
</cp:coreProperties>
</file>