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64A-28E5-490B-BAC0-D283BA0F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726-7305-456A-B378-A8A7A758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0D7-01F0-40D0-AE68-15B7080A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A27-D9CF-4EDA-892C-5D43D55C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CFC3-0007-40E7-904C-754C5DCF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4B6D-E785-41DB-861B-6346A882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42B5-89AF-419B-AFE9-5D84191F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60EC-38FE-42C6-AA9E-083698F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00F9-966C-4A47-A65F-F9962C2A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7759-2278-4DD0-8F0E-E9C93E71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51F0-F71D-4078-99DD-7420DFF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4EE-C88B-43B2-BA80-CEDB33B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1A33-5774-4E2B-B7DA-F63D384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3264-591C-4E4D-B29F-247CA30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1DB9-8DF5-4B72-AE93-560BCEA1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C039-C513-4FEC-832F-FEBC2A41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4BB1-B89F-495E-8690-1A22111F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9DB-F998-424C-8810-F6820A8F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2CF-082F-4787-B1A2-F7741C40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A0B-7DE5-42A0-8368-BEF13431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8F1-C890-4673-8E01-851E8BA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430-41B4-4ABF-B923-70F0A95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070-5822-4191-8BB5-4EA7E683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B88-D051-4B69-87D2-2AC5E19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B07D-A870-43A1-A713-6B407C150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D09B-0A33-4AAA-9254-BE5E3DFDC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76360" y="33336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mito de Ròmulo &amp; Remo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2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Lleno de tristeza y arrepentimiento lo enterró en la cima del monte Platino y le dio nombre a su ciu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50920" y="76500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tierro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Rómulo quedo como único soberano y creo el senado, compuesto por cien miembros cuyos descendientes fueron llamados patricios y dividió la población en 30 congreg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549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beranìa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31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549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ueblo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Además para poblar la ciudad, Rómulo aceptó todo tipo de gente refugiados, libertos, esclavos, prófugos, etc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6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Hecho p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Jenny Fernanda Puzhi Rem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Mariela Caballero Iriart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4º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ea Silvia se encontraba durmiendo en la orilla de un río en la ciudad de AlbaLonga y el dios Marte se quedó enamorado de ella y la dejó embara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De ese embarazo nacieron Rómulo y Rem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54936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 &amp; Mar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ómulo y Remo sus hijos fueron echados en una cesta al nacer al rió tiber porque el rey Amulio estaba matando a todos los herederos de su trono y que a la vez destrono a su hermano Num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064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òmulo &amp;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Entonces la cesta encallo en algún lugar de este rió donde los niños fueron amamantados por una loba (Luperc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692280"/>
            <a:ext cx="47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ba Luper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Mas tarde fueron recogidos por el pastor Fausto. Después fueron cuidados por su muj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260280"/>
            <a:ext cx="51339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stor Faus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Mas tarde cuando ya eran adultos descubrieron su origen, volvieron a su ciudad nat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476280"/>
            <a:ext cx="756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greso de Ròmulo &amp; Remo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libi"/>
              </a:rPr>
              <a:t>Mataron a Amulio y pusieron a su abuelo (Numitor) en el trono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8000" y="476280"/>
            <a:ext cx="511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esinato de Amuli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Mas tarde los hermanos decidieron fundar una ciudad en el lugar donde la cesta había embarrancado. Remo al ver 6 aves en el cielo entendió que significaba que debía fundarla sobre Aventino en cambio Rómulo al ver 12 aves sobre el monte Platino entendió que debía asentar su ciudad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549360"/>
            <a:ext cx="62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mbre para la ciudad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24000" y="333360"/>
            <a:ext cx="56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uerte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libi"/>
              </a:rPr>
              <a:t>Rómulo marco con un arado los limites de la ciudad y juro matar a todo el que cruzase por ahí. Remo bajo el efecto del alcohol paso por el arado, entonces Rómulo no tuvo mas remedio que matar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02:39Z</dcterms:created>
  <dc:creator>jb</dc:creator>
  <dc:description/>
  <dc:language>en-US</dc:language>
  <cp:lastModifiedBy>jb</cp:lastModifiedBy>
  <dcterms:modified xsi:type="dcterms:W3CDTF">2013-11-17T16:44:50Z</dcterms:modified>
  <cp:revision>2</cp:revision>
  <dc:subject/>
  <dc:title>Diapositiva 1</dc:title>
</cp:coreProperties>
</file>