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508-9660-483E-9FB9-1C4405CD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DAB-7893-40E2-8BD5-F4B78CC4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439-D6ED-4489-B1D6-BFBB43DB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941-81A7-4F1E-B8D9-D9D15042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4915-2735-4967-AFDC-F3357137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BA7F-A4FA-4F66-B352-0A07805C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934-0E14-4871-9007-12877643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6F0D-F35C-475D-B702-48EC73DC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A03-0604-4756-B15C-9E30AA9D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EE93-F6B5-4BFB-AF69-12EA29DC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AAFB-AA14-4DC2-8CEC-BAFE823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522-D23A-46DF-AB59-5EFAF3D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ABB9-00C3-4C99-A438-30BB437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04CB-7FBB-4C1D-BE3B-A9B9B78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E6E4-DBAE-4A58-A9DC-FD95ECD0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1A6C-F2D3-47FF-A1CD-5544EC0B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6449-81FD-4D7E-B639-F5BADB5D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DE9-DEDB-42E2-8855-41A7D609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DF6-C2D6-4CE1-8941-DC907B8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BCB-080F-4D4D-90C6-4F45F3C8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0F4-E1E5-498B-BFCC-F1C97E8C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AEC-C487-4F11-8DAA-6963C9BD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150-BCE0-4076-84C8-7A48203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9A3-A347-4B18-BF10-7E5C6F0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988-4484-4596-842F-69F80E5BA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EB0D-19D4-403D-81E2-9344AB4AE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76360" y="33336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mito de Ròmulo &amp; Remo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2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Lleno de tristeza y arrepentimiento lo enterró en la cima del monte Platino y le dio nombre a su ciu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50920" y="76500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tierro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Rómulo quedo como único soberano y creo el senado, compuesto por cien miembros cuyos descendientes fueron llamados patricios y dividió la población en 30 congreg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549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beranìa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31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549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ueblo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Además para poblar la ciudad, Rómulo aceptó todo tipo de gente refugiados, libertos, esclavos, prófugos, etc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6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Hecho p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Jenny Fernanda Puzhi Rem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Mariela Caballero Iriart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4º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ea Silvia se encontraba durmiendo en la orilla de un río en la ciudad de AlbaLonga y el dios Marte se quedó enamorado de ella y la dejó embara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De ese embarazo nacieron Rómulo y Rem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54936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 &amp; Mar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ómulo y Remo sus hijos fueron echados en una cesta al nacer al rió tiber porque el rey Amulio estaba matando a todos los herederos de su trono y que a la vez destrono a su hermano Num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064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òmulo &amp;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Entonces la cesta encallo en algún lugar de este rió donde los niños fueron amamantados por una loba (Luperc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692280"/>
            <a:ext cx="47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ba Luper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Mas tarde fueron recogidos por el pastor Fausto. Después fueron cuidados por su muj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260280"/>
            <a:ext cx="51339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stor Faus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Mas tarde cuando ya eran adultos descubrieron su origen, volvieron a su ciudad nat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476280"/>
            <a:ext cx="756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greso de Ròmulo &amp; Remo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libi"/>
              </a:rPr>
              <a:t>Mataron a Amulio y pusieron a su abuelo (Numitor) en el trono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8000" y="476280"/>
            <a:ext cx="511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esinato de Amuli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Mas tarde los hermanos decidieron fundar una ciudad en el lugar donde la cesta había embarrancado. Remo al ver 6 aves en el cielo entendió que significaba que debía fundarla sobre Aventino en cambio Rómulo al ver 12 aves sobre el monte Platino entendió que debía asentar su ciudad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549360"/>
            <a:ext cx="62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mbre para la ciudad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24000" y="333360"/>
            <a:ext cx="56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uerte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libi"/>
              </a:rPr>
              <a:t>Rómulo marco con un arado los limites de la ciudad y juro matar a todo el que cruzase por ahí. Remo bajo el efecto del alcohol paso por el arado, entonces Rómulo no tuvo mas remedio que matar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02:39Z</dcterms:created>
  <dc:creator>jb</dc:creator>
  <dc:description/>
  <dc:language>en-US</dc:language>
  <cp:lastModifiedBy>jb</cp:lastModifiedBy>
  <dcterms:modified xsi:type="dcterms:W3CDTF">2013-11-17T16:44:50Z</dcterms:modified>
  <cp:revision>2</cp:revision>
  <dc:subject/>
  <dc:title>Diapositiva 1</dc:title>
</cp:coreProperties>
</file>