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FD1-F6CC-4965-AA20-EC7DA1B0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0D3-8271-4386-89FD-3570147F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BAC-328F-462F-BA34-DB1514C7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36E-20CF-4CFC-86C3-6CDE9514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B23A-36AA-42DC-A477-985675A2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A100-8037-4CAE-856A-1620BC39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B8BB-7578-42B9-8107-79E4BFD7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9B85-C00E-431F-B9F0-67F9E9D6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063B-2831-4F58-9C6B-C842D4BE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3F84-EDF6-4020-9ADE-574A1062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537F-0532-4826-9BE5-4A316E22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B98-DDA3-4A31-94E2-6092AEE0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BF7F-001A-4825-89E6-241ECC05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0C07-1C4D-45E5-B78E-84EE57E2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A9B2-641C-47F3-B454-9F49CB07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1E55-0709-4C2C-93A6-0B97A43F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9A17-8D03-47F3-9C81-14D27969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E49-351D-4ABE-A60A-84DE4B3B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FE6-ADCE-469C-954B-1D272393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0EB-32A9-4683-890A-E810DEA8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00B-9EC9-48F4-BE47-1E85A19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6DB-2B96-448E-ADE2-7D6E355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8FA-3FD2-44EC-8CE4-40E762EB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D43-5A56-41A7-991C-F97F893D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5587-2506-4E91-A3EC-C93E920BD0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5AF3-5040-4FA8-9F97-997FD7B37A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bajo de latí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abajo realizado por 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tela Leonor Puerta Muñiz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e tipo de decoración solía revestir el suelo de las casas privadas y edificios públicos. Su durabilidad ha permitido que muchos mosaicos hayan llegado hasta hoy en muy buen estad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035080" cy="29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816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arte romano fue heredero del griego, pero los romanos  supieron desarrollar un estilo propio que ha perdurado a través de los sigl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3824280"/>
            <a:ext cx="3384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originalidad de la arquitectura romana radica en la reinterpretación de los modelos griegos y en la introducción de importantes innovaciones técnicas que permitieron la creación de nuevas estructuras y el uso de nuevos mater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524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s romanos introdujeron un nuevo sistema de construcción : la arquitectura above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itía soportar cargas mayores que los sistemas de columnas y vig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rco de medio punto o semicir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de cañ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circular o cúpu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ro de los hallazgos fue la introducción de nuevos materiales de construc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 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92580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9610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s principales edific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edificio público romano por excelencia es el templo, cuya función era albergar las estatuas de los dioses a los que estaban consag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0000" y="3789360"/>
            <a:ext cx="2562120" cy="276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332000" y="420372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os romanos, al igual que los griegos , destacaron en esta disciplina artística, aunque su modo de concebirla fue distinto. Frente a la idealización de las figuras griegas, los romanos buscaron una representación má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realista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l relieve. Mediante esta técnica se decoraban sarcófagos y monumentos (arcos, columnas conmemorativos, altares, et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4267080"/>
            <a:ext cx="3313440" cy="220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escul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0360" y="4221000"/>
            <a:ext cx="1677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 y 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pintura y el mosaico son las dos disciplinas artísticas más característicamente romanas, ya que , aunque conocidas en Grecia, alcanzaron en Roma un gran desarroll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392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decoración pictórica era la solución ideal para revestir los muros realizados con materiales pobres, como el hormigón o el ladrillo. La técnica era muy sencilla : se revestía la pared con una capa de estuco y sobre ella se aplicaban los colo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537228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9:31:19Z</dcterms:created>
  <dc:creator>MARIA BELEN</dc:creator>
  <dc:description/>
  <dc:language>en-US</dc:language>
  <cp:lastModifiedBy>MARIA BELEN</cp:lastModifiedBy>
  <dcterms:modified xsi:type="dcterms:W3CDTF">2013-03-20T21:11:38Z</dcterms:modified>
  <cp:revision>2</cp:revision>
  <dc:subject/>
  <dc:title>Trabajo de latín</dc:title>
</cp:coreProperties>
</file>