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870-77FE-424D-A4B5-7FDCA3DD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B70D-09C9-410D-B54C-C1AFBC8D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842-B713-4F3C-8286-DB2A4E20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810-33B1-45C5-BA0B-9B96AF84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7B44-A081-4464-A6D6-63459619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99D1-43CC-42BC-B5D8-20C75A41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D6F4-C7E5-428F-B8A7-F286739A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BB5D-9868-4FDF-AECF-0303F90E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1282-23A7-4A2E-B85A-AFCDACC2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7E33-4980-421D-91FF-0138BD9A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6EE1-63A3-4DBC-BAB2-86D7E566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761-F473-4264-863F-D9D0A7A4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4EB1-5E92-43A7-8D0C-F4659744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2FF5-D082-4B13-BF6A-4B4B37EB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7BF9-6CB0-4FAA-99BC-7E928B2D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C0BD-4FF7-43C1-B94D-9862CEB5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7A78-7303-4683-A154-C6D1703C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8F1-2FA7-4D7A-97D5-946A5DD8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C0CF-C295-4A03-97B0-26FBC705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492-D09E-4963-9404-6C0B6D31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D67-A248-428F-BBF1-3426A82F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854-2F99-4244-9D42-38A83C49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4FB-C3EB-4F71-B8BE-1CA536A8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F7E-7746-4069-91B1-2BB3ABBF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97EA-0DC4-48CF-8AB9-5E061854AA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C801-217D-4099-870E-04E5159510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abajo de latí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abajo realizado por 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tela Leonor Puerta Muñiz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mosaic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e tipo de decoración solía revestir el suelo de las casas privadas y edificios públicos. Su durabilidad ha permitido que muchos mosaicos hayan llegado hasta hoy en muy buen estad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00720" y="3573360"/>
            <a:ext cx="2035080" cy="29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8163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arte romano fue heredero del griego, pero los romanos  supieron desarrollar un estilo propio que ha perdurado a través de los sigl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51280" y="3824280"/>
            <a:ext cx="3384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: arquit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originalidad de la arquitectura romana radica en la reinterpretación de los modelos griegos y en la introducción de importantes innovaciones técnicas que permitieron la creación de nuevas estructuras y el uso de nuevos materi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436572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3524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 arte romano: nuevas estructuras y material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s romanos introdujeron un nuevo sistema de construcción : la arquitectura aboveda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itía soportar cargas mayores que los sistemas de columnas y vig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arco de medio punto o semicircul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bóveda de cañ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bóveda circular o cúpu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ro de los hallazgos fue la introducción de nuevos materiales de construc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 arte romano : nuevas estructuras y material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392580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9610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s principales edificio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edificio público romano por excelencia es el templo, cuya función era albergar las estatuas de los dioses a los que estaban consagrad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80000" y="3789360"/>
            <a:ext cx="2562120" cy="276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332000" y="4203720"/>
            <a:ext cx="35290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os romanos, al igual que los griegos , destacaron en esta disciplina artística, aunque su modo de concebirla fue distinto. Frente a la idealización de las figuras griegas, los romanos buscaron una representación más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</a:rPr>
              <a:t>realista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l relieve. Mediante esta técnica se decoraban sarcófagos y monumentos (arcos, columnas conmemorativos, altares, et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7280" y="4267080"/>
            <a:ext cx="3313440" cy="220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: escultura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940360" y="4221000"/>
            <a:ext cx="16779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intura y el mosaic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pintura y el mosaico son las dos disciplinas artísticas más característicamente romanas, ya que , aunque conocidas en Grecia, alcanzaron en Roma un gran desarroll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95640" y="3716280"/>
            <a:ext cx="4392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intura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decoración pictórica era la solución ideal para revestir los muros realizados con materiales pobres, como el hormigón o el ladrillo. La técnica era muy sencilla : se revestía la pared con una capa de estuco y sobre ella se aplicaban los color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5372280" cy="24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9:31:19Z</dcterms:created>
  <dc:creator>MARIA BELEN</dc:creator>
  <dc:description/>
  <dc:language>en-US</dc:language>
  <cp:lastModifiedBy>MARIA BELEN</cp:lastModifiedBy>
  <dcterms:modified xsi:type="dcterms:W3CDTF">2013-03-20T21:11:38Z</dcterms:modified>
  <cp:revision>2</cp:revision>
  <dc:subject/>
  <dc:title>Trabajo de latín</dc:title>
</cp:coreProperties>
</file>